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48488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00A-E6FC-4BBF-B603-B9281E92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00B-EC89-4F35-BEE6-0F3402DD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26C-55FC-4359-8459-DE31D106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8B15-CCF6-4C34-9D1E-84BCEBA1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6DC-C884-49F5-B3E3-8D33B5A9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6FD-D2BB-409E-84DD-E21EE3FE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46DA-9945-4323-BB8A-7930733C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50B-C70A-472A-9913-0D6EEA71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180-CBF2-46F9-9295-37266A15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644-1087-45FE-B350-54DFC7D7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100-C156-49B5-903F-1B071ED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975-7527-4ECB-8CEC-FC2D1C9F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E57D-9E0B-4218-88D0-2AFE007064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D3E3-232D-449F-8C31-D9E5F47D2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Builder for Phob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62760" y="1676520"/>
            <a:ext cx="7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885960"/>
            <a:ext cx="7162920" cy="448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5410080"/>
            <a:ext cx="7010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ystem  Average Max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licon            30 K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300 K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Occasional uncompressed (300k) ev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F+Tri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2 K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8 K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Building in 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3581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34816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1337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ok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Batch of fixed number of events prepared for sending over th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0481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n frequency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1 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C bandwidth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n memo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65000" y="4800600"/>
            <a:ext cx="306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buffe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&gt;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/Average event size      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ROC buffer memory   20 M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4038480"/>
            <a:ext cx="29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 event size     30 K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ken siz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40 events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452840" cy="563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-EB Synchronization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preliminar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71600"/>
            <a:ext cx="7315200" cy="3744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of the ROCs is a master. It is equipped with VME output register. All other ROCs equipped with VME input register. Master ROC distribute event number and, possibly, event type via cable connection between regis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ROCs receives L2 trigger and starts con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ROC waits until it has a room for N events (N should be greater than the maximum event FIFO depth in the system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ter ROC increments event number and distribute it to other ROC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ROCs, before putting subevent into the CODA buffer should wait for the increment of the event numb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C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hou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ut the subevent into the CODA buffer after detecting this increment, if it has no data to send, it should put an event hea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ROC has a full token, it sends it to the 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EB detects a mismatch between subevents from different ROCs, it forces the master ROC to hold the event number for a time interval, long enough to free all FIFOs and mark next event type as a sy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aga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1640" y="990720"/>
            <a:ext cx="38098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nomous 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B output bandwidth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k writing speed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.5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 G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5 G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263680"/>
            <a:ext cx="3809880" cy="3548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800600" y="19051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514600"/>
            <a:ext cx="3809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ltra Wide SCSI bandwidth 40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k data transfer                  12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d writing speed        7 MB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6160" y="3567240"/>
            <a:ext cx="3978360" cy="1067400"/>
          </a:xfrm>
          <a:prstGeom prst="rect">
            <a:avLst/>
          </a:prstGeom>
          <a:solidFill>
            <a:srgbClr val="ccffff"/>
          </a:solidFill>
          <a:ln w="158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xpensive RAID is not necess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do simultaneous writing/reading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 MB/S. This meet our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need only additional disks (100$/G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erience with CO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3809880" cy="3886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avail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error/status logger CM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wnloadable object code for R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onents (ROC,EB,RunServer) have similar structure(tcl/tk shell) and communication protocol (D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 to Slow Control (EPI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 FASTBUS, V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ed data servise (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control database (MSQ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time 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pt user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3886200"/>
            <a:ext cx="38098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s with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expectedly low network performance. 5MB/S instead of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al trigger electron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95280" y="1219320"/>
          <a:ext cx="6180120" cy="307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19320"/>
                    <a:ext cx="61801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got all required PowerPC processor boards. Three of them have Fast Ethernet (one MVME2306 at BNL, one MVME2306 at Rochester and one MVME2604 with MPMC202 PMC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UN HPC server equipped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 Ethernet NIC with all necessary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UltraSparc CPU, each of them rated as 65 rootma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 GB internal disk with sustained rate 12.5 MB/sec. Free slots f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9 disks. All disks are connected to single Ultra Wide SCSI contro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DAT tape 1MB/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DA software is installed on the server and MVM2306. The transfer rate between MVME2306 and the server for short events of 40Kbyte length is 5MB/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gaEthernet NIC from ALTEON (price = 1700$). This was recommendation from the RCF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mbo frame software for ALTEON, which makes it possible to reduce processor load by factor of 2. (price = 700$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event storage for 3 hour run at 10MB/sec requires 100 GB of disk space. We don’t need expensive RAID. Just to feel server’s tray with 9/18 GB disks. Price is 100$/G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shell consider to add 2 more CPU (price for CPU board with 2 processors is 6000$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connection of the subsystems to the Slow Control system it will be required some devices like Scanning Digital Multimeter, any GPIB devices, any serial devices and a 1458 Arcnet Mainfr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 10/17/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7T02:32:55Z</dcterms:created>
  <dc:creator>Andrei Sukhanov</dc:creator>
  <dc:description/>
  <dc:language>en-US</dc:language>
  <cp:lastModifiedBy>sukhanov</cp:lastModifiedBy>
  <cp:lastPrinted>1998-10-17T07:59:38Z</cp:lastPrinted>
  <dcterms:modified xsi:type="dcterms:W3CDTF">1998-11-03T21:22:45Z</dcterms:modified>
  <cp:revision>10</cp:revision>
  <dc:subject/>
  <dc:title>Event Builder for Phob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phobos-srv.lns.mit.edu/~sukhanov</vt:lpwstr>
  </property>
  <property fmtid="{D5CDD505-2E9C-101B-9397-08002B2CF9AE}" pid="9" name="LinkColor">
    <vt:r8>16711782</vt:r8>
  </property>
  <property fmtid="{D5CDD505-2E9C-101B-9397-08002B2CF9AE}" pid="10" name="MailAddress">
    <vt:lpwstr>sukhanov@bnl.com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Phobos\DAQ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