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7E0-EC73-4D13-815B-B7C847AEE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32D-9974-4232-A296-76EE1AAF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DEE-5ECD-4DA0-A241-6F9F6BC6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318C-8DAE-49F6-9705-A26A823F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891-9F1A-4554-8D79-3606BD99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22E-9D31-450D-B48A-ABBFD99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3EA6-BA49-41C2-BD0B-7BE10F56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D13-B365-4C5E-B0FA-615AC63F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BAF-7DE5-4104-842D-602F7532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354-1B20-4F6E-87CF-3908F77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4A9-8C7E-4893-AE7D-BA92813C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567-0662-479B-87B0-EBC41B60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454B-2B82-422A-9DA1-D671C6841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Builder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86400" y="609480"/>
            <a:ext cx="342900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rver is SUN Ultra300 with 2 CPU (250 Mhz, 4MB Cache, UltraSPARC), 256 MB of memory , 4.2 GB 7200 RPM Wide Ultra SCSI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PU_se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a 1 sec execution on single 250 Mhz UltraSPARC 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T_se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1 sec of real time on th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 was generated by event simulator running on the second CPU and sending data via UDP socket (as real ROC should d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KB/RT_sec curves are saturated due to the limited performance of the event simulator, the blue curves - due to the disk through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vent size between 8 and 16 KB the writing performance is 6-8 MB/sec, one CPU is completely busy. The difference between ‘simple’ and ‘standard’ TPhEvent is less than 30%. (Explanation: the main overhead is inside the streamer function). This performance expected to be higher with new disks (they have larger cach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horter events the performance is limited by maximum possible event rate (3300 and 1700 ev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onger events the CPU consuming is 3 times less for ‘simple’ TPh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need better performance then the program should be made multithreaded to exploit other CP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609480"/>
          <a:ext cx="5154480" cy="289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51544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28600" y="3429000"/>
          <a:ext cx="5154480" cy="289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429000"/>
                    <a:ext cx="51544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698-66D3-440C-91F7-753BE57CE2D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3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ding subevent, ‘simple’ cas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PhRawHitTest *pTPhRawHitTest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w TPhRawHitTest((Int_t*)&amp;(ev-&gt;data), (Int_t)ev-&gt;bytes/sizeof(long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event-&gt;AddObject(pTPhRawHitTest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/se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B/se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PU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PU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PU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PU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ze KB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B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e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/se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B/se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B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39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412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8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7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22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95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86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295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6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8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4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40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41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41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0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724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4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9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89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7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797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3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9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7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13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21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ding subevent, ‘standard’ cas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PhHashContainer *hash = NUL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sh = new TPhHashContainer("ZSS"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event-&gt;AddObject(hash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nt ii=0; ii &lt; 8; ii++)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TPhRawHitTest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w TPhRawHitTest((Int_t*)&amp;(ev-&gt;data), (Int_t)ev-&gt;bytes/sizeof(long)/8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ash-&gt;Add((TPhDataObject*)pTPhRawHitTest);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/se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B/se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PU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PU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PU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PU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ze KB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B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e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/se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KB/se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B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9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218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4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1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2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5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706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71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372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9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8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91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8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537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6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6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87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46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959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4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0%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6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47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hEvent building. Result tab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DD4-9E1B-449A-9D43-841E684102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3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981080" y="1066680"/>
          <a:ext cx="4230720" cy="31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066680"/>
                    <a:ext cx="423072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-&gt;EB Data Transfer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5CC-1F64-4C20-8127-2E22706E01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1/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09:38Z</dcterms:created>
  <dc:creator>Andrei Sukhanov</dc:creator>
  <dc:description/>
  <dc:language>en-US</dc:language>
  <cp:lastModifiedBy>Andrei Sukhanov</cp:lastModifiedBy>
  <dcterms:modified xsi:type="dcterms:W3CDTF">1999-11-01T20:44:43Z</dcterms:modified>
  <cp:revision>4</cp:revision>
  <dc:subject/>
  <dc:title>Event Builder perform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ukhanov@bnl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Z:\Sukhanov\My Document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