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540-0554-46FA-A013-1FA6AD17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36C-B3E8-4E90-A958-DCCF44AE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11C8-896E-47F5-8D7C-77209A0B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11A-ADBD-4132-BF58-A8A524BB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A897-3D34-4D6B-ABBF-8F227A71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C1C-C255-47A4-BB65-BC27F3A4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28D-7C09-4458-B1D5-76CCAE9B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7E7-23ED-4791-9DB1-4B7EEB49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973-B592-46E5-9D13-F0979711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9E32-30A5-4AE8-B6F8-6A6C7EC6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40F-407C-4A7A-BA10-97B8AB7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E79-D534-4299-B122-505306B2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F962-CBCA-47BA-B351-39E8F45A3F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583F-1B62-4F2E-8A92-74B66B410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2057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2209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1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362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1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514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 1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2666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819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2971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Busy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124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0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295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0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447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r0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1752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2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905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 2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143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1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990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2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838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3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685800"/>
            <a:ext cx="99072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533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VME E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952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5105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257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410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562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5715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5867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6019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y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343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Puls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495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b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4648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800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4191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0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038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1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886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2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3581280"/>
            <a:ext cx="99072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3429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1600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2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3733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c3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2057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2209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2362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514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2666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819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2971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124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295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1447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1752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1905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1143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990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838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h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85800"/>
            <a:ext cx="99072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49528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5105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52578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4100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5627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5715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8672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6019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43434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4495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6483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8006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1911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4038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3886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3581280"/>
            <a:ext cx="99072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34290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62520" y="160020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37339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33520"/>
            <a:ext cx="838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tic I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85800"/>
            <a:ext cx="990360" cy="2666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49528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51055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52578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5410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55627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57150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58672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60199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43434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4956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6483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8006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1911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384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8862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581280"/>
            <a:ext cx="990360" cy="2667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342900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.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7339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53080" y="5335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NG.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914400"/>
            <a:ext cx="16002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914400"/>
            <a:ext cx="1600200" cy="5029200"/>
          </a:xfrm>
          <a:custGeom>
            <a:avLst/>
            <a:gdLst/>
            <a:ahLst/>
            <a:rect l="l" t="t" r="r" b="b"/>
            <a:pathLst>
              <a:path w="1008" h="3264">
                <a:moveTo>
                  <a:pt x="0" y="3264"/>
                </a:moveTo>
                <a:lnTo>
                  <a:pt x="96" y="3264"/>
                </a:lnTo>
                <a:lnTo>
                  <a:pt x="912" y="0"/>
                </a:lnTo>
                <a:lnTo>
                  <a:pt x="1008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2286000"/>
            <a:ext cx="1600200" cy="152388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438280"/>
            <a:ext cx="1600200" cy="152424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676520"/>
            <a:ext cx="4191120" cy="213336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1828800"/>
            <a:ext cx="4191120" cy="213372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590920"/>
            <a:ext cx="1600200" cy="1523880"/>
          </a:xfrm>
          <a:custGeom>
            <a:avLst/>
            <a:gdLst/>
            <a:ahLst/>
            <a:rect l="l" t="t" r="r" b="b"/>
            <a:pathLst>
              <a:path w="1008" h="960">
                <a:moveTo>
                  <a:pt x="1008" y="960"/>
                </a:moveTo>
                <a:lnTo>
                  <a:pt x="912" y="96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1981080"/>
            <a:ext cx="4191120" cy="2133720"/>
          </a:xfrm>
          <a:custGeom>
            <a:avLst/>
            <a:gdLst/>
            <a:ahLst/>
            <a:rect l="l" t="t" r="r" b="b"/>
            <a:pathLst>
              <a:path w="2640" h="1344">
                <a:moveTo>
                  <a:pt x="2640" y="1344"/>
                </a:moveTo>
                <a:lnTo>
                  <a:pt x="2544" y="1344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3200400"/>
            <a:ext cx="228600" cy="0"/>
          </a:xfrm>
          <a:prstGeom prst="line">
            <a:avLst/>
          </a:prstGeom>
          <a:ln w="0">
            <a:solidFill>
              <a:srgbClr val="ff99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0481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6095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21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219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Manager Interconn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10666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rigg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155600"/>
            <a:ext cx="45864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1143000"/>
            <a:ext cx="45864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838080"/>
            <a:ext cx="45864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ff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838080"/>
            <a:ext cx="458640" cy="2959200"/>
          </a:xfrm>
          <a:custGeom>
            <a:avLst/>
            <a:gdLst/>
            <a:ahLst/>
            <a:rect l="l" t="t" r="r" b="b"/>
            <a:pathLst>
              <a:path w="289" h="1864">
                <a:moveTo>
                  <a:pt x="0" y="40"/>
                </a:moveTo>
                <a:cubicBezTo>
                  <a:pt x="23" y="57"/>
                  <a:pt x="88" y="0"/>
                  <a:pt x="136" y="144"/>
                </a:cubicBezTo>
                <a:cubicBezTo>
                  <a:pt x="184" y="288"/>
                  <a:pt x="287" y="647"/>
                  <a:pt x="288" y="904"/>
                </a:cubicBezTo>
                <a:cubicBezTo>
                  <a:pt x="289" y="1161"/>
                  <a:pt x="192" y="1528"/>
                  <a:pt x="144" y="1688"/>
                </a:cubicBezTo>
                <a:cubicBezTo>
                  <a:pt x="96" y="1848"/>
                  <a:pt x="30" y="1827"/>
                  <a:pt x="0" y="1864"/>
                </a:cubicBezTo>
              </a:path>
            </a:pathLst>
          </a:custGeom>
          <a:noFill/>
          <a:ln w="0">
            <a:solidFill>
              <a:srgbClr val="ff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752480" y="6339600"/>
            <a:ext cx="1981440" cy="518040"/>
            <a:chOff x="1752480" y="6339600"/>
            <a:chExt cx="1981440" cy="518040"/>
          </a:xfrm>
        </p:grpSpPr>
        <p:sp>
          <p:nvSpPr>
            <p:cNvPr id="154" name=""/>
            <p:cNvSpPr/>
            <p:nvPr/>
          </p:nvSpPr>
          <p:spPr>
            <a:xfrm>
              <a:off x="1752480" y="6355080"/>
              <a:ext cx="1981440" cy="502560"/>
            </a:xfrm>
            <a:prstGeom prst="rect">
              <a:avLst/>
            </a:prstGeom>
            <a:gradFill rotWithShape="0">
              <a:gsLst>
                <a:gs pos="0">
                  <a:srgbClr val="a14e51"/>
                </a:gs>
                <a:gs pos="100000">
                  <a:srgbClr val="ff7c8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62560" y="6339600"/>
              <a:ext cx="18892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 Rounded MT Bold"/>
                </a:rPr>
                <a:t>Twisted pair color rul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‘-’ wire is black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95280" y="685800"/>
            <a:ext cx="990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685800"/>
            <a:ext cx="990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58128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685800"/>
            <a:ext cx="9907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3581280"/>
            <a:ext cx="99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3581280"/>
            <a:ext cx="99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     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553080" y="20574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22096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3623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25146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6668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28195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29718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124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12952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14479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17524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19051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53080" y="11430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Trig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99072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83808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Shk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1600200"/>
            <a:ext cx="838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DFE2B-49A5-4520-94AF-95D1ABDF27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66680" y="1371600"/>
            <a:ext cx="6098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8320" y="1523880"/>
            <a:ext cx="609480" cy="30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CL-NIM-EC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69840" y="1781280"/>
            <a:ext cx="92160" cy="9180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endCxn id="179" idx="1"/>
          </p:cNvCxnSpPr>
          <p:nvPr/>
        </p:nvCxnSpPr>
        <p:spPr>
          <a:xfrm>
            <a:off x="1828800" y="1676520"/>
            <a:ext cx="2820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152280" y="182880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0840" y="1320840"/>
            <a:ext cx="48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6000" y="1015920"/>
            <a:ext cx="160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DC Gate to CAT.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1960" y="1234800"/>
            <a:ext cx="139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to ENG.CI[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828800"/>
            <a:ext cx="55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6" idx="0"/>
            <a:endCxn id="182" idx="0"/>
          </p:cNvCxnSpPr>
          <p:nvPr/>
        </p:nvCxnSpPr>
        <p:spPr>
          <a:xfrm>
            <a:off x="914400" y="182844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28195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676520"/>
            <a:ext cx="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809880" y="1828800"/>
            <a:ext cx="609120" cy="151920"/>
            <a:chOff x="3809880" y="1828800"/>
            <a:chExt cx="609120" cy="151920"/>
          </a:xfrm>
        </p:grpSpPr>
        <p:sp>
          <p:nvSpPr>
            <p:cNvPr id="191" name=""/>
            <p:cNvSpPr/>
            <p:nvPr/>
          </p:nvSpPr>
          <p:spPr>
            <a:xfrm>
              <a:off x="4352760" y="1831680"/>
              <a:ext cx="66240" cy="1490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38320" y="1828800"/>
              <a:ext cx="55188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9880" y="1828800"/>
              <a:ext cx="65520" cy="149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38320" y="1828800"/>
              <a:ext cx="551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38320" y="1980720"/>
              <a:ext cx="551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648320" y="1828800"/>
            <a:ext cx="609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1981080"/>
            <a:ext cx="129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cable 64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167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1371600"/>
            <a:ext cx="3429000" cy="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57800" y="1218960"/>
            <a:ext cx="0" cy="22860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1219320"/>
            <a:ext cx="1143000" cy="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1523880"/>
            <a:ext cx="152280" cy="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371600"/>
            <a:ext cx="0" cy="15228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1447920"/>
            <a:ext cx="1143000" cy="0"/>
          </a:xfrm>
          <a:prstGeom prst="line">
            <a:avLst/>
          </a:prstGeom>
          <a:ln w="25560">
            <a:solidFill>
              <a:srgbClr val="993300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72200" y="160020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960" y="1523880"/>
            <a:ext cx="82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pul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172200" y="1599840"/>
            <a:ext cx="0" cy="30492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16765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175248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82880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1905120"/>
            <a:ext cx="2286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3560" y="182880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238880" y="838080"/>
            <a:ext cx="152424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905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6080" y="45612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2133720"/>
            <a:ext cx="60984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48520" y="22096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4382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1676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23" idx="0"/>
            <a:endCxn id="222" idx="0"/>
          </p:cNvCxnSpPr>
          <p:nvPr/>
        </p:nvCxnSpPr>
        <p:spPr>
          <a:xfrm>
            <a:off x="1828440" y="167652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sm" type="oval" w="sm"/>
          </a:ln>
        </p:spPr>
      </p:cxnSp>
      <p:cxnSp>
        <p:nvCxnSpPr>
          <p:cNvPr id="225" name=""/>
          <p:cNvCxnSpPr>
            <a:stCxn id="221" idx="0"/>
            <a:endCxn id="222" idx="0"/>
          </p:cNvCxnSpPr>
          <p:nvPr/>
        </p:nvCxnSpPr>
        <p:spPr>
          <a:xfrm flipV="1">
            <a:off x="914040" y="205704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4495680" y="2438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362320"/>
            <a:ext cx="6094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3560" y="2362320"/>
            <a:ext cx="30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0" idx="0"/>
            <a:endCxn id="226" idx="0"/>
          </p:cNvCxnSpPr>
          <p:nvPr/>
        </p:nvCxnSpPr>
        <p:spPr>
          <a:xfrm>
            <a:off x="1828800" y="243792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5257800" y="243828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1960" y="2235240"/>
            <a:ext cx="174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C Gate, to CAT.AD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1905120"/>
            <a:ext cx="914400" cy="0"/>
          </a:xfrm>
          <a:prstGeom prst="line">
            <a:avLst/>
          </a:prstGeom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981080"/>
            <a:ext cx="609480" cy="381240"/>
          </a:xfrm>
          <a:prstGeom prst="rect">
            <a:avLst/>
          </a:prstGeom>
          <a:solidFill>
            <a:srgbClr val="ffffff"/>
          </a:solidFill>
          <a:ln cap="rnd" w="0">
            <a:solidFill>
              <a:srgbClr val="000000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523880"/>
            <a:ext cx="76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0480" y="1625760"/>
            <a:ext cx="103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from D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1022400"/>
            <a:ext cx="1579680" cy="73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42" y="3381"/>
                </a:moveTo>
                <a:lnTo>
                  <a:pt x="23684" y="3381"/>
                </a:lnTo>
                <a:lnTo>
                  <a:pt x="23684" y="-188"/>
                </a:lnTo>
                <a:lnTo>
                  <a:pt x="21423" y="-373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air wir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represent the actual color of the +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2048040"/>
            <a:ext cx="1579680" cy="18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642" y="13523"/>
                </a:moveTo>
                <a:lnTo>
                  <a:pt x="24205" y="13523"/>
                </a:lnTo>
                <a:lnTo>
                  <a:pt x="24205" y="188"/>
                </a:lnTo>
                <a:lnTo>
                  <a:pt x="21423" y="-13155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M c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F Gate Logic 12/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0" y="-720"/>
            <a:ext cx="1981080" cy="518040"/>
            <a:chOff x="0" y="-720"/>
            <a:chExt cx="1981080" cy="518040"/>
          </a:xfrm>
        </p:grpSpPr>
        <p:sp>
          <p:nvSpPr>
            <p:cNvPr id="241" name=""/>
            <p:cNvSpPr/>
            <p:nvPr/>
          </p:nvSpPr>
          <p:spPr>
            <a:xfrm>
              <a:off x="0" y="14760"/>
              <a:ext cx="1981080" cy="502560"/>
            </a:xfrm>
            <a:prstGeom prst="rect">
              <a:avLst/>
            </a:prstGeom>
            <a:gradFill rotWithShape="0">
              <a:gsLst>
                <a:gs pos="0">
                  <a:srgbClr val="a14e51"/>
                </a:gs>
                <a:gs pos="100000">
                  <a:srgbClr val="ff7c8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080" y="-720"/>
              <a:ext cx="18892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ccccff"/>
                  </a:solidFill>
                  <a:uFillTx/>
                  <a:latin typeface="Arial Rounded MT Bold"/>
                </a:rPr>
                <a:t>Twisted pair color rule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The ‘-’ wire is black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C0576-A2E1-48B0-B35C-CB4C503451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086600" y="1523880"/>
            <a:ext cx="131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DC Gate to CAT.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676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19520" y="1676520"/>
            <a:ext cx="9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n 2390. TDC resolution, TOF cable del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523880"/>
            <a:ext cx="60948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lib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1676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81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240" y="1447920"/>
            <a:ext cx="26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240" y="1752480"/>
            <a:ext cx="25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90920" y="1676520"/>
            <a:ext cx="685800" cy="152280"/>
            <a:chOff x="2590920" y="1676520"/>
            <a:chExt cx="685800" cy="152280"/>
          </a:xfrm>
        </p:grpSpPr>
        <p:sp>
          <p:nvSpPr>
            <p:cNvPr id="253" name=""/>
            <p:cNvSpPr/>
            <p:nvPr/>
          </p:nvSpPr>
          <p:spPr>
            <a:xfrm>
              <a:off x="2743200" y="167652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NIM-EC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90920" y="1751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440" y="17517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5120" y="1447920"/>
            <a:ext cx="609120" cy="457200"/>
            <a:chOff x="1905120" y="1447920"/>
            <a:chExt cx="609120" cy="457200"/>
          </a:xfrm>
        </p:grpSpPr>
        <p:grpSp>
          <p:nvGrpSpPr>
            <p:cNvPr id="257" name=""/>
            <p:cNvGrpSpPr/>
            <p:nvPr/>
          </p:nvGrpSpPr>
          <p:grpSpPr>
            <a:xfrm>
              <a:off x="1905120" y="1600200"/>
              <a:ext cx="456480" cy="304920"/>
              <a:chOff x="1905120" y="1600200"/>
              <a:chExt cx="456480" cy="30492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1905120" y="1600200"/>
                <a:ext cx="456480" cy="304920"/>
                <a:chOff x="1905120" y="1600200"/>
                <a:chExt cx="456480" cy="30492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905120" y="1600560"/>
                  <a:ext cx="4564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V="1">
                  <a:off x="1905120" y="1599840"/>
                  <a:ext cx="4564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133360" y="160056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1981080" y="16765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81080" y="182880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2100240" y="1796400"/>
                <a:ext cx="55440" cy="55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361960" y="1752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2640" y="1447920"/>
              <a:ext cx="365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65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3429000" y="1143000"/>
            <a:ext cx="609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29000" y="1676520"/>
            <a:ext cx="59544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9000" y="1905120"/>
            <a:ext cx="59544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u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7524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17524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38480" y="1981080"/>
            <a:ext cx="1526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191120" y="1905120"/>
            <a:ext cx="685800" cy="152280"/>
            <a:chOff x="4191120" y="1905120"/>
            <a:chExt cx="685800" cy="152280"/>
          </a:xfrm>
        </p:grpSpPr>
        <p:sp>
          <p:nvSpPr>
            <p:cNvPr id="274" name=""/>
            <p:cNvSpPr/>
            <p:nvPr/>
          </p:nvSpPr>
          <p:spPr>
            <a:xfrm>
              <a:off x="4343400" y="190512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CL-N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24640" y="1980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91120" y="19803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9810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876920" y="1980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48" idx="0"/>
            <a:endCxn id="262" idx="0"/>
          </p:cNvCxnSpPr>
          <p:nvPr/>
        </p:nvCxnSpPr>
        <p:spPr>
          <a:xfrm>
            <a:off x="1447560" y="167616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0" name=""/>
          <p:cNvCxnSpPr>
            <a:stCxn id="265" idx="0"/>
            <a:endCxn id="254" idx="0"/>
          </p:cNvCxnSpPr>
          <p:nvPr/>
        </p:nvCxnSpPr>
        <p:spPr>
          <a:xfrm>
            <a:off x="2514600" y="1752120"/>
            <a:ext cx="76680" cy="1080"/>
          </a:xfrm>
          <a:prstGeom prst="straightConnector1">
            <a:avLst/>
          </a:prstGeom>
          <a:ln w="0">
            <a:solidFill>
              <a:srgbClr val="000000"/>
            </a:solidFill>
          </a:ln>
        </p:spPr>
      </p:cxnSp>
      <p:cxnSp>
        <p:nvCxnSpPr>
          <p:cNvPr id="281" name=""/>
          <p:cNvCxnSpPr>
            <a:stCxn id="255" idx="0"/>
            <a:endCxn id="270" idx="0"/>
          </p:cNvCxnSpPr>
          <p:nvPr/>
        </p:nvCxnSpPr>
        <p:spPr>
          <a:xfrm flipV="1">
            <a:off x="3276360" y="1739160"/>
            <a:ext cx="1080" cy="262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</a:ln>
        </p:spPr>
      </p:cxnSp>
      <p:cxnSp>
        <p:nvCxnSpPr>
          <p:cNvPr id="282" name=""/>
          <p:cNvCxnSpPr>
            <a:stCxn id="272" idx="0"/>
            <a:endCxn id="276" idx="0"/>
          </p:cNvCxnSpPr>
          <p:nvPr/>
        </p:nvCxnSpPr>
        <p:spPr>
          <a:xfrm flipV="1">
            <a:off x="4190760" y="1967760"/>
            <a:ext cx="1080" cy="262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</a:ln>
        </p:spPr>
      </p:cxnSp>
      <p:sp>
        <p:nvSpPr>
          <p:cNvPr id="283" name=""/>
          <p:cNvSpPr/>
          <p:nvPr/>
        </p:nvSpPr>
        <p:spPr>
          <a:xfrm>
            <a:off x="4191120" y="1752480"/>
            <a:ext cx="41148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7" idx="0"/>
            <a:endCxn id="278" idx="0"/>
          </p:cNvCxnSpPr>
          <p:nvPr/>
        </p:nvCxnSpPr>
        <p:spPr>
          <a:xfrm>
            <a:off x="1981080" y="2285640"/>
            <a:ext cx="2896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095880" y="2438280"/>
            <a:ext cx="1752840" cy="152640"/>
            <a:chOff x="6095880" y="2438280"/>
            <a:chExt cx="1752840" cy="152640"/>
          </a:xfrm>
        </p:grpSpPr>
        <p:grpSp>
          <p:nvGrpSpPr>
            <p:cNvPr id="286" name=""/>
            <p:cNvGrpSpPr/>
            <p:nvPr/>
          </p:nvGrpSpPr>
          <p:grpSpPr>
            <a:xfrm>
              <a:off x="6095880" y="2438280"/>
              <a:ext cx="685800" cy="152640"/>
              <a:chOff x="6095880" y="2438280"/>
              <a:chExt cx="685800" cy="152640"/>
            </a:xfrm>
          </p:grpSpPr>
          <p:sp>
            <p:nvSpPr>
              <p:cNvPr id="287" name=""/>
              <p:cNvSpPr/>
              <p:nvPr/>
            </p:nvSpPr>
            <p:spPr>
              <a:xfrm>
                <a:off x="6248160" y="2438280"/>
                <a:ext cx="38124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ECL-EC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629400" y="2513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95880" y="2513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629400" y="2438280"/>
              <a:ext cx="685800" cy="152640"/>
              <a:chOff x="6629400" y="2438280"/>
              <a:chExt cx="685800" cy="152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781680" y="2438280"/>
                <a:ext cx="378000" cy="152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3 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629400" y="251460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62560" y="2514600"/>
                <a:ext cx="152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7162920" y="2438280"/>
              <a:ext cx="685800" cy="152640"/>
              <a:chOff x="7162920" y="2438280"/>
              <a:chExt cx="685800" cy="152640"/>
            </a:xfrm>
          </p:grpSpPr>
          <p:sp>
            <p:nvSpPr>
              <p:cNvPr id="295" name=""/>
              <p:cNvSpPr/>
              <p:nvPr/>
            </p:nvSpPr>
            <p:spPr>
              <a:xfrm>
                <a:off x="7315200" y="2438280"/>
                <a:ext cx="381240" cy="15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ECL-EC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96440" y="2513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62920" y="2513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"/>
          <p:cNvSpPr/>
          <p:nvPr/>
        </p:nvSpPr>
        <p:spPr>
          <a:xfrm>
            <a:off x="6324480" y="2286000"/>
            <a:ext cx="3081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1523880"/>
            <a:ext cx="3078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2209680"/>
            <a:ext cx="1752840" cy="0"/>
          </a:xfrm>
          <a:prstGeom prst="line">
            <a:avLst/>
          </a:prstGeom>
          <a:ln w="0">
            <a:solidFill>
              <a:srgbClr val="000000"/>
            </a:solidFill>
            <a:headEnd len="med" type="arrow" w="sm"/>
            <a:tail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2057400"/>
            <a:ext cx="9903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le delay 78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15200" y="2286000"/>
            <a:ext cx="3078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095880" y="2590920"/>
            <a:ext cx="1752840" cy="152640"/>
            <a:chOff x="6095880" y="2590920"/>
            <a:chExt cx="1752840" cy="152640"/>
          </a:xfrm>
        </p:grpSpPr>
        <p:grpSp>
          <p:nvGrpSpPr>
            <p:cNvPr id="304" name=""/>
            <p:cNvGrpSpPr/>
            <p:nvPr/>
          </p:nvGrpSpPr>
          <p:grpSpPr>
            <a:xfrm>
              <a:off x="6095880" y="2590920"/>
              <a:ext cx="685800" cy="152280"/>
              <a:chOff x="6095880" y="2590920"/>
              <a:chExt cx="685800" cy="152280"/>
            </a:xfrm>
          </p:grpSpPr>
          <p:sp>
            <p:nvSpPr>
              <p:cNvPr id="305" name=""/>
              <p:cNvSpPr/>
              <p:nvPr/>
            </p:nvSpPr>
            <p:spPr>
              <a:xfrm>
                <a:off x="6248160" y="2590920"/>
                <a:ext cx="38124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ECL-EC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29400" y="266616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5880" y="266616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629400" y="2590920"/>
              <a:ext cx="685800" cy="152640"/>
              <a:chOff x="6629400" y="2590920"/>
              <a:chExt cx="685800" cy="152640"/>
            </a:xfrm>
          </p:grpSpPr>
          <p:sp>
            <p:nvSpPr>
              <p:cNvPr id="309" name=""/>
              <p:cNvSpPr/>
              <p:nvPr/>
            </p:nvSpPr>
            <p:spPr>
              <a:xfrm>
                <a:off x="6781680" y="2590920"/>
                <a:ext cx="378000" cy="1526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63 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629400" y="266688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62560" y="2666880"/>
                <a:ext cx="152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7162920" y="2590920"/>
              <a:ext cx="685800" cy="152280"/>
              <a:chOff x="7162920" y="2590920"/>
              <a:chExt cx="685800" cy="152280"/>
            </a:xfrm>
          </p:grpSpPr>
          <p:sp>
            <p:nvSpPr>
              <p:cNvPr id="313" name=""/>
              <p:cNvSpPr/>
              <p:nvPr/>
            </p:nvSpPr>
            <p:spPr>
              <a:xfrm>
                <a:off x="7315200" y="2590920"/>
                <a:ext cx="38124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Narrow"/>
                  </a:rPr>
                  <a:t>ECL-ECL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96440" y="266616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162920" y="2666160"/>
                <a:ext cx="152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6248520" y="2743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CL-EC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281952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3600" y="2666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629400" y="2743200"/>
            <a:ext cx="685800" cy="152640"/>
            <a:chOff x="6629400" y="2743200"/>
            <a:chExt cx="685800" cy="152640"/>
          </a:xfrm>
        </p:grpSpPr>
        <p:sp>
          <p:nvSpPr>
            <p:cNvPr id="320" name=""/>
            <p:cNvSpPr/>
            <p:nvPr/>
          </p:nvSpPr>
          <p:spPr>
            <a:xfrm>
              <a:off x="6781680" y="2743200"/>
              <a:ext cx="378000" cy="152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3 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29400" y="281916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62560" y="281916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162920" y="2743200"/>
            <a:ext cx="685800" cy="152280"/>
            <a:chOff x="7162920" y="2743200"/>
            <a:chExt cx="685800" cy="152280"/>
          </a:xfrm>
        </p:grpSpPr>
        <p:sp>
          <p:nvSpPr>
            <p:cNvPr id="324" name=""/>
            <p:cNvSpPr/>
            <p:nvPr/>
          </p:nvSpPr>
          <p:spPr>
            <a:xfrm>
              <a:off x="7315200" y="274320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CL-EC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96440" y="28184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62920" y="28184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6248520" y="2895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NIM-EC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629400" y="297180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629400" y="2895480"/>
            <a:ext cx="685800" cy="152640"/>
            <a:chOff x="6629400" y="2895480"/>
            <a:chExt cx="685800" cy="152640"/>
          </a:xfrm>
        </p:grpSpPr>
        <p:sp>
          <p:nvSpPr>
            <p:cNvPr id="330" name=""/>
            <p:cNvSpPr/>
            <p:nvPr/>
          </p:nvSpPr>
          <p:spPr>
            <a:xfrm>
              <a:off x="6781680" y="2895480"/>
              <a:ext cx="378000" cy="152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3 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9400" y="29718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62560" y="2971800"/>
              <a:ext cx="152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162920" y="2895480"/>
            <a:ext cx="685800" cy="152640"/>
            <a:chOff x="7162920" y="2895480"/>
            <a:chExt cx="685800" cy="152640"/>
          </a:xfrm>
        </p:grpSpPr>
        <p:sp>
          <p:nvSpPr>
            <p:cNvPr id="334" name=""/>
            <p:cNvSpPr/>
            <p:nvPr/>
          </p:nvSpPr>
          <p:spPr>
            <a:xfrm>
              <a:off x="7315200" y="2895480"/>
              <a:ext cx="381240" cy="15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CL-EC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96440" y="29710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2920" y="297108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848720" y="243828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C 09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259092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C 09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48720" y="27432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C 09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48720" y="2895480"/>
            <a:ext cx="609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DC 09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12952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4191120" y="1371600"/>
            <a:ext cx="685800" cy="152280"/>
            <a:chOff x="4191120" y="1371600"/>
            <a:chExt cx="685800" cy="152280"/>
          </a:xfrm>
        </p:grpSpPr>
        <p:sp>
          <p:nvSpPr>
            <p:cNvPr id="343" name=""/>
            <p:cNvSpPr/>
            <p:nvPr/>
          </p:nvSpPr>
          <p:spPr>
            <a:xfrm>
              <a:off x="4343400" y="137160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CL-NI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24640" y="144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1120" y="1446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724280" y="1447920"/>
            <a:ext cx="152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57800" y="1371600"/>
            <a:ext cx="685800" cy="152280"/>
            <a:chOff x="5257800" y="1371600"/>
            <a:chExt cx="685800" cy="152280"/>
          </a:xfrm>
        </p:grpSpPr>
        <p:sp>
          <p:nvSpPr>
            <p:cNvPr id="348" name=""/>
            <p:cNvSpPr/>
            <p:nvPr/>
          </p:nvSpPr>
          <p:spPr>
            <a:xfrm>
              <a:off x="5410080" y="1371600"/>
              <a:ext cx="38124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NIM-EC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57800" y="14468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1320" y="1446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943600" y="1447920"/>
            <a:ext cx="236232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86600" y="1219320"/>
            <a:ext cx="139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DC Gate to CAT.AD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191120" y="1447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5880" y="17524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14479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26668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172200" y="2819520"/>
            <a:ext cx="55440" cy="5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943600" y="281952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33526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133720" y="3352680"/>
            <a:ext cx="1293840" cy="151920"/>
            <a:chOff x="2133720" y="3352680"/>
            <a:chExt cx="1293840" cy="151920"/>
          </a:xfrm>
        </p:grpSpPr>
        <p:sp>
          <p:nvSpPr>
            <p:cNvPr id="362" name=""/>
            <p:cNvSpPr/>
            <p:nvPr/>
          </p:nvSpPr>
          <p:spPr>
            <a:xfrm>
              <a:off x="3286440" y="3355560"/>
              <a:ext cx="141120" cy="1490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94560" y="3352680"/>
              <a:ext cx="117216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3352680"/>
              <a:ext cx="139680" cy="149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94560" y="3352680"/>
              <a:ext cx="1172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94560" y="3504600"/>
              <a:ext cx="1172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133720" y="3581280"/>
            <a:ext cx="1293840" cy="151920"/>
            <a:chOff x="2133720" y="3581280"/>
            <a:chExt cx="1293840" cy="151920"/>
          </a:xfrm>
        </p:grpSpPr>
        <p:sp>
          <p:nvSpPr>
            <p:cNvPr id="368" name=""/>
            <p:cNvSpPr/>
            <p:nvPr/>
          </p:nvSpPr>
          <p:spPr>
            <a:xfrm>
              <a:off x="3286440" y="3584160"/>
              <a:ext cx="141120" cy="1490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94560" y="3581280"/>
              <a:ext cx="117216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3581280"/>
              <a:ext cx="139680" cy="149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94560" y="3581280"/>
              <a:ext cx="1172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94560" y="3733200"/>
              <a:ext cx="1172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581280" y="3200400"/>
            <a:ext cx="533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ors in the t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900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2900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335268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14800" y="350532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114800"/>
            <a:ext cx="4267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7080" y="38098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39625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01000" y="3657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67480" y="3124080"/>
            <a:ext cx="609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T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67080" y="36576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001000" y="38098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001000" y="39625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57400" y="3124080"/>
            <a:ext cx="5943600" cy="1295640"/>
          </a:xfrm>
          <a:prstGeom prst="rect">
            <a:avLst/>
          </a:prstGeom>
          <a:noFill/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38280" y="1600200"/>
            <a:ext cx="1555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83520" y="1066680"/>
            <a:ext cx="326880" cy="182880"/>
          </a:xfrm>
          <a:prstGeom prst="borderCallout1">
            <a:avLst>
              <a:gd name="adj1" fmla="val 18750"/>
              <a:gd name="adj2" fmla="val -8333"/>
              <a:gd name="adj3" fmla="val 345972"/>
              <a:gd name="adj4" fmla="val 150273"/>
            </a:avLst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73040" y="914400"/>
            <a:ext cx="403200" cy="182880"/>
          </a:xfrm>
          <a:prstGeom prst="borderCallout1">
            <a:avLst>
              <a:gd name="adj1" fmla="val 18750"/>
              <a:gd name="adj2" fmla="val -8333"/>
              <a:gd name="adj3" fmla="val 241842"/>
              <a:gd name="adj4" fmla="val -49416"/>
            </a:avLst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2 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333400" y="2209680"/>
            <a:ext cx="403200" cy="182880"/>
          </a:xfrm>
          <a:prstGeom prst="borderCallout1">
            <a:avLst>
              <a:gd name="adj1" fmla="val 18750"/>
              <a:gd name="adj2" fmla="val -8333"/>
              <a:gd name="adj3" fmla="val -101569"/>
              <a:gd name="adj4" fmla="val -106064"/>
            </a:avLst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 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772400" y="2286000"/>
            <a:ext cx="609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 TD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7080" y="1219320"/>
            <a:ext cx="3081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9132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105520" y="2895480"/>
            <a:ext cx="685080" cy="151920"/>
            <a:chOff x="5105520" y="2895480"/>
            <a:chExt cx="685080" cy="151920"/>
          </a:xfrm>
        </p:grpSpPr>
        <p:sp>
          <p:nvSpPr>
            <p:cNvPr id="398" name=""/>
            <p:cNvSpPr/>
            <p:nvPr/>
          </p:nvSpPr>
          <p:spPr>
            <a:xfrm>
              <a:off x="5716080" y="2898360"/>
              <a:ext cx="74520" cy="1490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137560" y="2895480"/>
              <a:ext cx="62064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05520" y="2895480"/>
              <a:ext cx="73800" cy="149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137560" y="2895480"/>
              <a:ext cx="620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37560" y="3047400"/>
              <a:ext cx="620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029200" y="2971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2895480"/>
            <a:ext cx="3078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 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38280" y="1752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38280" y="29718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29000" y="762120"/>
            <a:ext cx="707760" cy="182880"/>
          </a:xfrm>
          <a:prstGeom prst="borderCallout1">
            <a:avLst>
              <a:gd name="adj1" fmla="val 18750"/>
              <a:gd name="adj2" fmla="val -8333"/>
              <a:gd name="adj3" fmla="val 502157"/>
              <a:gd name="adj4" fmla="val -100300"/>
            </a:avLst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=32 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8" name=""/>
          <p:cNvCxnSpPr>
            <a:stCxn id="407" idx="0"/>
            <a:endCxn id="346" idx="0"/>
          </p:cNvCxnSpPr>
          <p:nvPr/>
        </p:nvCxnSpPr>
        <p:spPr>
          <a:xfrm>
            <a:off x="4136760" y="853920"/>
            <a:ext cx="587880" cy="594720"/>
          </a:xfrm>
          <a:prstGeom prst="straightConnector1">
            <a:avLst/>
          </a:prstGeom>
          <a:ln w="0">
            <a:solidFill>
              <a:srgbClr val="000000"/>
            </a:solidFill>
          </a:ln>
        </p:spPr>
      </p:cxnSp>
      <p:sp>
        <p:nvSpPr>
          <p:cNvPr id="409" name=""/>
          <p:cNvSpPr/>
          <p:nvPr/>
        </p:nvSpPr>
        <p:spPr>
          <a:xfrm>
            <a:off x="719640" y="4598640"/>
            <a:ext cx="849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he event manager is connected in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normal mode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: the main trigger is generated by event manager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E3112-DB59-413E-9017-2C3EC2DBEA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0" name=""/>
          <p:cNvGraphicFramePr/>
          <p:nvPr/>
        </p:nvGraphicFramePr>
        <p:xfrm>
          <a:off x="457200" y="685800"/>
          <a:ext cx="5753160" cy="140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5753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57200" y="2743200"/>
          <a:ext cx="3305160" cy="140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43200"/>
                    <a:ext cx="330516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"/>
          <p:cNvSpPr/>
          <p:nvPr/>
        </p:nvSpPr>
        <p:spPr>
          <a:xfrm>
            <a:off x="457200" y="2209320"/>
            <a:ext cx="8229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In the run 2391 the TDC gate was taken directly from the AND gate 365AL, by doing this we eliminate possible jitter in the event Manag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4417200"/>
            <a:ext cx="8229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Comparing two tables we can conclude tha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Event Manager does not affect the resolution of the TD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delay introduced by the Event Manager is 22 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best achievable jitter of the trigger circuits is 100 ps in the range of 0-100ns, and 200-250 ps in the range of 100-800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 Round Trip Delay for TOF signals is 780-807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n 2390,2391.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0" y="2666880"/>
            <a:ext cx="1981080" cy="730440"/>
          </a:xfrm>
          <a:prstGeom prst="borderCallout1">
            <a:avLst>
              <a:gd name="adj1" fmla="val 18750"/>
              <a:gd name="adj2" fmla="val -8333"/>
              <a:gd name="adj3" fmla="val 133476"/>
              <a:gd name="adj4" fmla="val -117546"/>
            </a:avLst>
          </a:prstGeom>
          <a:solidFill>
            <a:srgbClr val="ccffff"/>
          </a:solidFill>
          <a:ln w="0">
            <a:solidFill>
              <a:srgbClr val="000000"/>
            </a:solidFill>
            <a:headEnd len="med" type="arrow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expect the RMS here be less than in the run 2309 as we eliminated possible jitter from the Event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CF735-56E7-44A6-8C52-C08C5EC21F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2T13:28:28Z</dcterms:created>
  <dc:creator>Andrei Sukhanov</dc:creator>
  <dc:description/>
  <dc:language>en-US</dc:language>
  <cp:lastModifiedBy>Andrei Sukhanov</cp:lastModifiedBy>
  <cp:lastPrinted>2000-01-21T23:48:37Z</cp:lastPrinted>
  <dcterms:modified xsi:type="dcterms:W3CDTF">2000-01-24T18:51:58Z</dcterms:modified>
  <cp:revision>2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sukhanov@bnl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Z:\Sukhanov\My Documents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