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468-9B5E-4066-83D6-5796EAAA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3DF-A31A-4323-ADAA-B7A57267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FB2-D966-4A02-B94E-6CF7ACB0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06E-7C67-4A1B-ABC5-B1BFCEF0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1FB2-FF6E-40E9-83CF-13298267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0B1-B51D-49A9-90A2-E819BC02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EF1-97CB-487D-B257-2644A269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6D5-3DF6-4410-8C0E-619D77CE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1DB-A478-411A-9606-19C4E2C2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C89-D0BB-4868-B892-427214F3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3088-5FE2-4514-BAD3-5B25DFD3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-115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0FC-E568-4F90-ABE1-CED2DEC5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662904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8881-4CFF-4B0B-85CE-679A88FC2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reliminary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62160" y="1371600"/>
            <a:ext cx="3179880" cy="25891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 equ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4 = (Z=Z4)&amp;(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1 = (Z=Z1)&amp;(A9&amp;B15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6&amp;(B8+B9+B10)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5&amp;(B6+B7+B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1&amp;B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0 = (Z=Z0)&amp;(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6080" y="685800"/>
            <a:ext cx="3054240" cy="4115160"/>
            <a:chOff x="226080" y="685800"/>
            <a:chExt cx="3054240" cy="411516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685800"/>
              <a:ext cx="3048120" cy="3657600"/>
              <a:chOff x="228600" y="685800"/>
              <a:chExt cx="3048120" cy="3657600"/>
            </a:xfrm>
          </p:grpSpPr>
          <p:sp>
            <p:nvSpPr>
              <p:cNvPr id="45" name=""/>
              <p:cNvSpPr/>
              <p:nvPr/>
            </p:nvSpPr>
            <p:spPr>
              <a:xfrm>
                <a:off x="3048120" y="22860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048120" y="25146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048120" y="2743200"/>
                <a:ext cx="228600" cy="2286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048120" y="2971800"/>
                <a:ext cx="228600" cy="2286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48120" y="32004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34290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48120" y="41148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48120" y="38862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048120" y="36576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048120" y="1143000"/>
                <a:ext cx="228600" cy="2286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048120" y="1371600"/>
                <a:ext cx="228600" cy="2286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048120" y="2057400"/>
                <a:ext cx="228600" cy="2286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8120" y="18288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48120" y="16002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8120" y="6858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048120" y="9144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1" name=""/>
              <p:cNvCxnSpPr>
                <a:stCxn id="62" idx="2"/>
                <a:endCxn id="48" idx="0"/>
              </p:cNvCxnSpPr>
              <p:nvPr/>
            </p:nvCxnSpPr>
            <p:spPr>
              <a:xfrm>
                <a:off x="342720" y="2514600"/>
                <a:ext cx="2819880" cy="457560"/>
              </a:xfrm>
              <a:prstGeom prst="straightConnector1">
                <a:avLst/>
              </a:prstGeom>
              <a:ln w="19080">
                <a:solidFill>
                  <a:srgbClr val="00ff00"/>
                </a:solidFill>
                <a:miter/>
              </a:ln>
            </p:spPr>
          </p:cxnSp>
          <p:cxnSp>
            <p:nvCxnSpPr>
              <p:cNvPr id="63" name=""/>
              <p:cNvCxnSpPr>
                <a:stCxn id="64" idx="3"/>
                <a:endCxn id="48" idx="0"/>
              </p:cNvCxnSpPr>
              <p:nvPr/>
            </p:nvCxnSpPr>
            <p:spPr>
              <a:xfrm>
                <a:off x="457200" y="1942920"/>
                <a:ext cx="2705400" cy="10292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65" name=""/>
              <p:cNvCxnSpPr>
                <a:stCxn id="62" idx="2"/>
              </p:cNvCxnSpPr>
              <p:nvPr/>
            </p:nvCxnSpPr>
            <p:spPr>
              <a:xfrm>
                <a:off x="342720" y="2514600"/>
                <a:ext cx="2856600" cy="2160"/>
              </a:xfrm>
              <a:prstGeom prst="straightConnector1">
                <a:avLst/>
              </a:prstGeom>
              <a:ln w="19080">
                <a:solidFill>
                  <a:srgbClr val="3366ff"/>
                </a:solidFill>
                <a:miter/>
              </a:ln>
            </p:spPr>
          </p:cxnSp>
          <p:cxnSp>
            <p:nvCxnSpPr>
              <p:cNvPr id="66" name=""/>
              <p:cNvCxnSpPr>
                <a:stCxn id="67" idx="2"/>
                <a:endCxn id="56" idx="2"/>
              </p:cNvCxnSpPr>
              <p:nvPr/>
            </p:nvCxnSpPr>
            <p:spPr>
              <a:xfrm flipV="1">
                <a:off x="342720" y="2286000"/>
                <a:ext cx="2819880" cy="457560"/>
              </a:xfrm>
              <a:prstGeom prst="straightConnector1">
                <a:avLst/>
              </a:prstGeom>
              <a:ln w="19080">
                <a:solidFill>
                  <a:srgbClr val="00ff00"/>
                </a:solidFill>
                <a:miter/>
              </a:ln>
            </p:spPr>
          </p:cxnSp>
          <p:cxnSp>
            <p:nvCxnSpPr>
              <p:cNvPr id="68" name=""/>
              <p:cNvCxnSpPr>
                <a:stCxn id="67" idx="2"/>
                <a:endCxn id="57" idx="0"/>
              </p:cNvCxnSpPr>
              <p:nvPr/>
            </p:nvCxnSpPr>
            <p:spPr>
              <a:xfrm flipV="1">
                <a:off x="342720" y="1828800"/>
                <a:ext cx="2819880" cy="914760"/>
              </a:xfrm>
              <a:prstGeom prst="straightConnector1">
                <a:avLst/>
              </a:prstGeom>
              <a:ln w="19080">
                <a:solidFill>
                  <a:srgbClr val="3366ff"/>
                </a:solidFill>
                <a:miter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1752480" y="18288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752480" y="20574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52480" y="2286000"/>
                <a:ext cx="228600" cy="2286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52480" y="2514600"/>
                <a:ext cx="228600" cy="2286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52480" y="27432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752480" y="29718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752480" y="36576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752480" y="34290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752480" y="32004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752480" y="1600200"/>
                <a:ext cx="228600" cy="22860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752480" y="13716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752480" y="11430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600" y="1828800"/>
                <a:ext cx="228600" cy="228600"/>
              </a:xfrm>
              <a:prstGeom prst="rect">
                <a:avLst/>
              </a:prstGeom>
              <a:solidFill>
                <a:srgbClr val="3333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8600" y="20574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28600" y="27432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28600" y="2514600"/>
                <a:ext cx="228600" cy="228600"/>
              </a:xfrm>
              <a:prstGeom prst="rect">
                <a:avLst/>
              </a:prstGeom>
              <a:solidFill>
                <a:srgbClr val="3333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600" y="2286000"/>
                <a:ext cx="22860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3" name=""/>
              <p:cNvCxnSpPr>
                <a:stCxn id="67" idx="3"/>
                <a:endCxn id="56" idx="1"/>
              </p:cNvCxnSpPr>
              <p:nvPr/>
            </p:nvCxnSpPr>
            <p:spPr>
              <a:xfrm flipV="1">
                <a:off x="457200" y="2171520"/>
                <a:ext cx="2591280" cy="4575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84" name=""/>
              <p:cNvCxnSpPr>
                <a:stCxn id="64" idx="3"/>
                <a:endCxn id="55" idx="0"/>
              </p:cNvCxnSpPr>
              <p:nvPr/>
            </p:nvCxnSpPr>
            <p:spPr>
              <a:xfrm flipV="1">
                <a:off x="457200" y="1371600"/>
                <a:ext cx="2705400" cy="5716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5" name=""/>
            <p:cNvSpPr/>
            <p:nvPr/>
          </p:nvSpPr>
          <p:spPr>
            <a:xfrm>
              <a:off x="1752480" y="388620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434340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" y="2971800"/>
              <a:ext cx="2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2040" y="4038480"/>
              <a:ext cx="114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dosc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30480" y="4495680"/>
              <a:ext cx="1149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odosco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6080" y="3200400"/>
              <a:ext cx="765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ig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ig Logic using P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23840" y="685800"/>
            <a:ext cx="49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: Hodoscope A, Hodoscope B, T0 tim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: Trigger word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4241880"/>
            <a:ext cx="487692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ing board, EMM can be configured as 33 input, 16 output logic unit, it seems to be powerful enough to route all equations. Propagation delay ~ 20 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5715000"/>
            <a:ext cx="487692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33 inputs are not enough or equations are not routable then new board had to be build. With help from S.Basylev this can be done in 6 months for ~$5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1371600"/>
            <a:ext cx="1295280" cy="22842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output terms, with 2*24 inputs requires 5*2 GLB resources out of 40 in the ISPLSI3320 chip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0"/>
            <a:ext cx="1371600" cy="533520"/>
          </a:xfrm>
          <a:prstGeom prst="wedgeRoundRectCallout">
            <a:avLst>
              <a:gd name="adj1" fmla="val -67245"/>
              <a:gd name="adj2" fmla="val -297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grammable Logic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, BN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E58-488D-41D9-9065-11CFBE0221C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6/7/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 rot="19936800">
            <a:off x="457200" y="2438280"/>
            <a:ext cx="8534520" cy="207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Prelimina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7:26:59Z</dcterms:created>
  <dc:creator>Andrei</dc:creator>
  <dc:description/>
  <dc:language>en-US</dc:language>
  <cp:lastModifiedBy>Andrei</cp:lastModifiedBy>
  <dcterms:modified xsi:type="dcterms:W3CDTF">2002-06-10T19:17:57Z</dcterms:modified>
  <cp:revision>11</cp:revision>
  <dc:subject/>
  <dc:title>PowerPoint Presentation</dc:title>
</cp:coreProperties>
</file>