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EFB3-77FA-4868-86EE-860706C01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A526-C711-4073-85BD-6208420A5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4383-2BCE-4C44-93F5-2512B5260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21B9-C64F-4F65-86E6-E6365C75B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125E-10EF-47AD-BF41-68122E05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6EAF-DE6E-4AB6-B4F5-D2454D0B2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60CB-F437-4397-A18A-76C69AFB3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AF8E-A2FB-4BB7-9DF4-3A6E38366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1837-B9CB-4DD3-8E81-B35C96427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B0C6-239E-4314-9B1C-A11ECD34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F960-335F-47BD-9199-570C5874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FA04-B92B-47D7-90C4-FC3E160A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F7D7A-885B-4A42-BA2D-DC746EF895D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DC131-641A-4127-8A52-55C2D36D7B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205740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 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2209680"/>
            <a:ext cx="83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e1 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236232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to1 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251460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 1 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71600" y="2666880"/>
            <a:ext cx="83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 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281952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 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71600" y="297180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Busy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3124080"/>
            <a:ext cx="83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0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71600" y="1295280"/>
            <a:ext cx="83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c0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144792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ler0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1752480"/>
            <a:ext cx="83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to2 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190512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 2 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71600" y="114300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c1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71600" y="99072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c2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838080"/>
            <a:ext cx="83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c3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685800"/>
            <a:ext cx="990720" cy="26668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71600" y="53352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VME ENG.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71600" y="4952880"/>
            <a:ext cx="83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510552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71600" y="525780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71600" y="5410080"/>
            <a:ext cx="83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556272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371600" y="571500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71600" y="5867280"/>
            <a:ext cx="83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e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71600" y="601992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y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34340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Pulse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71600" y="4495680"/>
            <a:ext cx="83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bCI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71600" y="464832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71600" y="480060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419112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c0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71600" y="4038480"/>
            <a:ext cx="83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c1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371600" y="388620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c2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95280" y="3581280"/>
            <a:ext cx="990720" cy="26672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71600" y="342900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.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71600" y="160020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e2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71600" y="373392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c3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62520" y="205740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 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62520" y="2209680"/>
            <a:ext cx="83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 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62520" y="236232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 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62520" y="251460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 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62520" y="2666880"/>
            <a:ext cx="83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 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62520" y="281952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 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297180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3124080"/>
            <a:ext cx="83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1295280"/>
            <a:ext cx="83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62520" y="144792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62520" y="1752480"/>
            <a:ext cx="83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 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62520" y="190512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 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62520" y="114300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Trig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62520" y="99072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838080"/>
            <a:ext cx="83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Shk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86200" y="685800"/>
            <a:ext cx="990720" cy="26668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4952880"/>
            <a:ext cx="83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62520" y="510552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62520" y="525780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5410080"/>
            <a:ext cx="83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62520" y="556272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62520" y="571500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62520" y="5867280"/>
            <a:ext cx="83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601992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62520" y="434340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62520" y="4495680"/>
            <a:ext cx="83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62520" y="464832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62520" y="480060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419112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62520" y="4038480"/>
            <a:ext cx="83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Trig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62520" y="388620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to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86200" y="3581280"/>
            <a:ext cx="990720" cy="26672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62520" y="342900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G.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62520" y="160020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62520" y="373392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k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62520" y="53352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tic ING.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77120" y="685800"/>
            <a:ext cx="990360" cy="26668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553080" y="495288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553080" y="5105520"/>
            <a:ext cx="8384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553080" y="5257800"/>
            <a:ext cx="8384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53080" y="541008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553080" y="5562720"/>
            <a:ext cx="8384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553080" y="5715000"/>
            <a:ext cx="8384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553080" y="586728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553080" y="6019920"/>
            <a:ext cx="8384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553080" y="4343400"/>
            <a:ext cx="8384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449568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553080" y="4648320"/>
            <a:ext cx="8384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53080" y="4800600"/>
            <a:ext cx="8384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553080" y="4191120"/>
            <a:ext cx="8384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53080" y="403848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Trig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3080" y="3886200"/>
            <a:ext cx="8384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to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77120" y="3581280"/>
            <a:ext cx="990360" cy="26672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3429000"/>
            <a:ext cx="9144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G.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553080" y="3733920"/>
            <a:ext cx="8384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k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553080" y="533520"/>
            <a:ext cx="9144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icon ING.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76920" y="914400"/>
            <a:ext cx="160020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0" y="914400"/>
            <a:ext cx="1600200" cy="5029200"/>
          </a:xfrm>
          <a:custGeom>
            <a:avLst/>
            <a:gdLst/>
            <a:ahLst/>
            <a:rect l="l" t="t" r="r" b="b"/>
            <a:pathLst>
              <a:path w="1008" h="3264">
                <a:moveTo>
                  <a:pt x="0" y="3264"/>
                </a:moveTo>
                <a:lnTo>
                  <a:pt x="96" y="3264"/>
                </a:lnTo>
                <a:lnTo>
                  <a:pt x="912" y="0"/>
                </a:lnTo>
                <a:lnTo>
                  <a:pt x="1008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0" y="2286000"/>
            <a:ext cx="1600200" cy="1523880"/>
          </a:xfrm>
          <a:custGeom>
            <a:avLst/>
            <a:gdLst/>
            <a:ahLst/>
            <a:rect l="l" t="t" r="r" b="b"/>
            <a:pathLst>
              <a:path w="1008" h="960">
                <a:moveTo>
                  <a:pt x="1008" y="960"/>
                </a:moveTo>
                <a:lnTo>
                  <a:pt x="912" y="960"/>
                </a:lnTo>
                <a:lnTo>
                  <a:pt x="96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0" y="2438280"/>
            <a:ext cx="1600200" cy="1524240"/>
          </a:xfrm>
          <a:custGeom>
            <a:avLst/>
            <a:gdLst/>
            <a:ahLst/>
            <a:rect l="l" t="t" r="r" b="b"/>
            <a:pathLst>
              <a:path w="1008" h="960">
                <a:moveTo>
                  <a:pt x="1008" y="960"/>
                </a:moveTo>
                <a:lnTo>
                  <a:pt x="912" y="960"/>
                </a:lnTo>
                <a:lnTo>
                  <a:pt x="96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ff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1676520"/>
            <a:ext cx="4191120" cy="2133360"/>
          </a:xfrm>
          <a:custGeom>
            <a:avLst/>
            <a:gdLst/>
            <a:ahLst/>
            <a:rect l="l" t="t" r="r" b="b"/>
            <a:pathLst>
              <a:path w="2640" h="1344">
                <a:moveTo>
                  <a:pt x="2640" y="1344"/>
                </a:moveTo>
                <a:lnTo>
                  <a:pt x="2544" y="1344"/>
                </a:lnTo>
                <a:lnTo>
                  <a:pt x="96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1828800"/>
            <a:ext cx="4191120" cy="2133720"/>
          </a:xfrm>
          <a:custGeom>
            <a:avLst/>
            <a:gdLst/>
            <a:ahLst/>
            <a:rect l="l" t="t" r="r" b="b"/>
            <a:pathLst>
              <a:path w="2640" h="1344">
                <a:moveTo>
                  <a:pt x="2640" y="1344"/>
                </a:moveTo>
                <a:lnTo>
                  <a:pt x="2544" y="1344"/>
                </a:lnTo>
                <a:lnTo>
                  <a:pt x="96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ff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2590920"/>
            <a:ext cx="1600200" cy="1523880"/>
          </a:xfrm>
          <a:custGeom>
            <a:avLst/>
            <a:gdLst/>
            <a:ahLst/>
            <a:rect l="l" t="t" r="r" b="b"/>
            <a:pathLst>
              <a:path w="1008" h="960">
                <a:moveTo>
                  <a:pt x="1008" y="960"/>
                </a:moveTo>
                <a:lnTo>
                  <a:pt x="912" y="960"/>
                </a:lnTo>
                <a:lnTo>
                  <a:pt x="96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1981080"/>
            <a:ext cx="4191120" cy="2133720"/>
          </a:xfrm>
          <a:custGeom>
            <a:avLst/>
            <a:gdLst/>
            <a:ahLst/>
            <a:rect l="l" t="t" r="r" b="b"/>
            <a:pathLst>
              <a:path w="2640" h="1344">
                <a:moveTo>
                  <a:pt x="2640" y="1344"/>
                </a:moveTo>
                <a:lnTo>
                  <a:pt x="2544" y="1344"/>
                </a:lnTo>
                <a:lnTo>
                  <a:pt x="96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66680" y="3200400"/>
            <a:ext cx="228600" cy="0"/>
          </a:xfrm>
          <a:prstGeom prst="line">
            <a:avLst/>
          </a:prstGeom>
          <a:ln w="0">
            <a:solidFill>
              <a:srgbClr val="ff990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30481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0" y="4419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0" y="60958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971800" y="121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5880" y="12193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t Manager Interconn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71800" y="1066680"/>
            <a:ext cx="83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D Trigg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86200" y="1155600"/>
            <a:ext cx="458640" cy="2959200"/>
          </a:xfrm>
          <a:custGeom>
            <a:avLst/>
            <a:gdLst/>
            <a:ahLst/>
            <a:rect l="l" t="t" r="r" b="b"/>
            <a:pathLst>
              <a:path w="289" h="1864">
                <a:moveTo>
                  <a:pt x="0" y="40"/>
                </a:moveTo>
                <a:cubicBezTo>
                  <a:pt x="23" y="57"/>
                  <a:pt x="88" y="0"/>
                  <a:pt x="136" y="144"/>
                </a:cubicBezTo>
                <a:cubicBezTo>
                  <a:pt x="184" y="288"/>
                  <a:pt x="287" y="647"/>
                  <a:pt x="288" y="904"/>
                </a:cubicBezTo>
                <a:cubicBezTo>
                  <a:pt x="289" y="1161"/>
                  <a:pt x="192" y="1528"/>
                  <a:pt x="144" y="1688"/>
                </a:cubicBezTo>
                <a:cubicBezTo>
                  <a:pt x="96" y="1848"/>
                  <a:pt x="30" y="1827"/>
                  <a:pt x="0" y="1864"/>
                </a:cubicBezTo>
              </a:path>
            </a:pathLst>
          </a:custGeom>
          <a:noFill/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477120" y="1143000"/>
            <a:ext cx="458640" cy="2959200"/>
          </a:xfrm>
          <a:custGeom>
            <a:avLst/>
            <a:gdLst/>
            <a:ahLst/>
            <a:rect l="l" t="t" r="r" b="b"/>
            <a:pathLst>
              <a:path w="289" h="1864">
                <a:moveTo>
                  <a:pt x="0" y="40"/>
                </a:moveTo>
                <a:cubicBezTo>
                  <a:pt x="23" y="57"/>
                  <a:pt x="88" y="0"/>
                  <a:pt x="136" y="144"/>
                </a:cubicBezTo>
                <a:cubicBezTo>
                  <a:pt x="184" y="288"/>
                  <a:pt x="287" y="647"/>
                  <a:pt x="288" y="904"/>
                </a:cubicBezTo>
                <a:cubicBezTo>
                  <a:pt x="289" y="1161"/>
                  <a:pt x="192" y="1528"/>
                  <a:pt x="144" y="1688"/>
                </a:cubicBezTo>
                <a:cubicBezTo>
                  <a:pt x="96" y="1848"/>
                  <a:pt x="30" y="1827"/>
                  <a:pt x="0" y="1864"/>
                </a:cubicBezTo>
              </a:path>
            </a:pathLst>
          </a:custGeom>
          <a:noFill/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838080"/>
            <a:ext cx="458640" cy="2959200"/>
          </a:xfrm>
          <a:custGeom>
            <a:avLst/>
            <a:gdLst/>
            <a:ahLst/>
            <a:rect l="l" t="t" r="r" b="b"/>
            <a:pathLst>
              <a:path w="289" h="1864">
                <a:moveTo>
                  <a:pt x="0" y="40"/>
                </a:moveTo>
                <a:cubicBezTo>
                  <a:pt x="23" y="57"/>
                  <a:pt x="88" y="0"/>
                  <a:pt x="136" y="144"/>
                </a:cubicBezTo>
                <a:cubicBezTo>
                  <a:pt x="184" y="288"/>
                  <a:pt x="287" y="647"/>
                  <a:pt x="288" y="904"/>
                </a:cubicBezTo>
                <a:cubicBezTo>
                  <a:pt x="289" y="1161"/>
                  <a:pt x="192" y="1528"/>
                  <a:pt x="144" y="1688"/>
                </a:cubicBezTo>
                <a:cubicBezTo>
                  <a:pt x="96" y="1848"/>
                  <a:pt x="30" y="1827"/>
                  <a:pt x="0" y="1864"/>
                </a:cubicBezTo>
              </a:path>
            </a:pathLst>
          </a:custGeom>
          <a:noFill/>
          <a:ln w="0">
            <a:solidFill>
              <a:srgbClr val="ff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77120" y="838080"/>
            <a:ext cx="458640" cy="2959200"/>
          </a:xfrm>
          <a:custGeom>
            <a:avLst/>
            <a:gdLst/>
            <a:ahLst/>
            <a:rect l="l" t="t" r="r" b="b"/>
            <a:pathLst>
              <a:path w="289" h="1864">
                <a:moveTo>
                  <a:pt x="0" y="40"/>
                </a:moveTo>
                <a:cubicBezTo>
                  <a:pt x="23" y="57"/>
                  <a:pt x="88" y="0"/>
                  <a:pt x="136" y="144"/>
                </a:cubicBezTo>
                <a:cubicBezTo>
                  <a:pt x="184" y="288"/>
                  <a:pt x="287" y="647"/>
                  <a:pt x="288" y="904"/>
                </a:cubicBezTo>
                <a:cubicBezTo>
                  <a:pt x="289" y="1161"/>
                  <a:pt x="192" y="1528"/>
                  <a:pt x="144" y="1688"/>
                </a:cubicBezTo>
                <a:cubicBezTo>
                  <a:pt x="96" y="1848"/>
                  <a:pt x="30" y="1827"/>
                  <a:pt x="0" y="1864"/>
                </a:cubicBezTo>
              </a:path>
            </a:pathLst>
          </a:custGeom>
          <a:noFill/>
          <a:ln w="0">
            <a:solidFill>
              <a:srgbClr val="ff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752480" y="6339600"/>
            <a:ext cx="1981440" cy="518040"/>
            <a:chOff x="1752480" y="6339600"/>
            <a:chExt cx="1981440" cy="518040"/>
          </a:xfrm>
        </p:grpSpPr>
        <p:sp>
          <p:nvSpPr>
            <p:cNvPr id="154" name=""/>
            <p:cNvSpPr/>
            <p:nvPr/>
          </p:nvSpPr>
          <p:spPr>
            <a:xfrm>
              <a:off x="1752480" y="6355080"/>
              <a:ext cx="1981440" cy="502560"/>
            </a:xfrm>
            <a:prstGeom prst="rect">
              <a:avLst/>
            </a:prstGeom>
            <a:gradFill rotWithShape="0">
              <a:gsLst>
                <a:gs pos="0">
                  <a:srgbClr val="a14e51"/>
                </a:gs>
                <a:gs pos="100000">
                  <a:srgbClr val="ff7c80"/>
                </a:gs>
              </a:gsLst>
              <a:lin ang="5400000"/>
            </a:gradFill>
            <a:ln w="0">
              <a:solidFill>
                <a:srgbClr val="000000"/>
              </a:solidFill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762560" y="6339600"/>
              <a:ext cx="188928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ccccff"/>
                  </a:solidFill>
                  <a:uFillTx/>
                  <a:latin typeface="Arial Rounded MT Bold"/>
                </a:rPr>
                <a:t>Twisted pair color rule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Rounded MT Bold"/>
                </a:rPr>
                <a:t>The ‘-’ wire is black!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1295280" y="685800"/>
            <a:ext cx="9907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                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77120" y="685800"/>
            <a:ext cx="990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                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86200" y="3581280"/>
            <a:ext cx="990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                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86200" y="685800"/>
            <a:ext cx="9907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                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95280" y="3581280"/>
            <a:ext cx="990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                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77120" y="3581280"/>
            <a:ext cx="99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                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553080" y="2057400"/>
            <a:ext cx="8384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 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553080" y="220968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 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553080" y="2362320"/>
            <a:ext cx="8384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 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2514600"/>
            <a:ext cx="8384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 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66688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 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553080" y="2819520"/>
            <a:ext cx="8384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 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553080" y="2971800"/>
            <a:ext cx="8384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553080" y="312408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553080" y="129528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53080" y="1447920"/>
            <a:ext cx="8384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553080" y="175248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 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553080" y="1905120"/>
            <a:ext cx="8384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 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553080" y="1143000"/>
            <a:ext cx="8384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Trig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553080" y="990720"/>
            <a:ext cx="8384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553080" y="83808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Shk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553080" y="1600200"/>
            <a:ext cx="8384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i Sukhan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BC17DD-15BC-4DF4-9370-6AA65A5B822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066680" y="1371600"/>
            <a:ext cx="609840" cy="60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D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648320" y="1523880"/>
            <a:ext cx="609480" cy="30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6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ECL-NIM-EC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69840" y="1781280"/>
            <a:ext cx="92160" cy="91800"/>
          </a:xfrm>
          <a:prstGeom prst="ellipse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"/>
          <p:cNvCxnSpPr>
            <a:endCxn id="179" idx="1"/>
          </p:cNvCxnSpPr>
          <p:nvPr/>
        </p:nvCxnSpPr>
        <p:spPr>
          <a:xfrm>
            <a:off x="1828800" y="1676520"/>
            <a:ext cx="28202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2" name=""/>
          <p:cNvSpPr/>
          <p:nvPr/>
        </p:nvSpPr>
        <p:spPr>
          <a:xfrm>
            <a:off x="152280" y="1828800"/>
            <a:ext cx="76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0840" y="1320840"/>
            <a:ext cx="483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256000" y="1015920"/>
            <a:ext cx="1605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DC Gate to CAT.I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1960" y="1234800"/>
            <a:ext cx="139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ger to ENG.CI[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1828800"/>
            <a:ext cx="55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6" idx="0"/>
            <a:endCxn id="182" idx="0"/>
          </p:cNvCxnSpPr>
          <p:nvPr/>
        </p:nvCxnSpPr>
        <p:spPr>
          <a:xfrm>
            <a:off x="914400" y="1828440"/>
            <a:ext cx="2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2819520" y="16765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19520" y="1676520"/>
            <a:ext cx="9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809880" y="1828800"/>
            <a:ext cx="609120" cy="151920"/>
            <a:chOff x="3809880" y="1828800"/>
            <a:chExt cx="609120" cy="151920"/>
          </a:xfrm>
        </p:grpSpPr>
        <p:sp>
          <p:nvSpPr>
            <p:cNvPr id="191" name=""/>
            <p:cNvSpPr/>
            <p:nvPr/>
          </p:nvSpPr>
          <p:spPr>
            <a:xfrm>
              <a:off x="4352760" y="1831680"/>
              <a:ext cx="66240" cy="14904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838320" y="1828800"/>
              <a:ext cx="551880" cy="15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809880" y="1828800"/>
              <a:ext cx="65520" cy="1490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38320" y="1828800"/>
              <a:ext cx="5518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38320" y="1980720"/>
              <a:ext cx="5518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4648320" y="1828800"/>
            <a:ext cx="6094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1905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419720" y="1905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76720" y="1981080"/>
            <a:ext cx="129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ay cable 64 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81280" y="1676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828800" y="1371600"/>
            <a:ext cx="3429000" cy="0"/>
          </a:xfrm>
          <a:prstGeom prst="line">
            <a:avLst/>
          </a:prstGeom>
          <a:ln w="25560">
            <a:solidFill>
              <a:srgbClr val="99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57800" y="1218960"/>
            <a:ext cx="0" cy="228600"/>
          </a:xfrm>
          <a:prstGeom prst="line">
            <a:avLst/>
          </a:prstGeom>
          <a:ln w="2556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257800" y="1219320"/>
            <a:ext cx="1143000" cy="0"/>
          </a:xfrm>
          <a:prstGeom prst="line">
            <a:avLst/>
          </a:prstGeom>
          <a:ln w="25560">
            <a:solidFill>
              <a:srgbClr val="993300"/>
            </a:solidFill>
            <a:prstDash val="sysDot"/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76520" y="1523880"/>
            <a:ext cx="152280" cy="0"/>
          </a:xfrm>
          <a:prstGeom prst="line">
            <a:avLst/>
          </a:prstGeom>
          <a:ln w="2556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828800" y="1371600"/>
            <a:ext cx="0" cy="152280"/>
          </a:xfrm>
          <a:prstGeom prst="line">
            <a:avLst/>
          </a:prstGeom>
          <a:ln w="2556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257800" y="1447920"/>
            <a:ext cx="1143000" cy="0"/>
          </a:xfrm>
          <a:prstGeom prst="line">
            <a:avLst/>
          </a:prstGeom>
          <a:ln w="25560">
            <a:solidFill>
              <a:srgbClr val="993300"/>
            </a:solidFill>
            <a:prstDash val="sysDot"/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172200" y="1600200"/>
            <a:ext cx="228600" cy="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31960" y="1523880"/>
            <a:ext cx="825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 pul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D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6172200" y="1599840"/>
            <a:ext cx="0" cy="30492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172200" y="1676520"/>
            <a:ext cx="228600" cy="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72200" y="1752480"/>
            <a:ext cx="228600" cy="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72200" y="1828800"/>
            <a:ext cx="228600" cy="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172200" y="1905120"/>
            <a:ext cx="228600" cy="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23560" y="1828800"/>
            <a:ext cx="309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 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7238880" y="838080"/>
            <a:ext cx="1524240" cy="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238880" y="19051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96080" y="456120"/>
            <a:ext cx="7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66680" y="2133720"/>
            <a:ext cx="609840" cy="60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D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748520" y="2209680"/>
            <a:ext cx="86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ay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76520" y="24382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14400" y="24382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14400" y="2057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676520" y="1676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"/>
          <p:cNvCxnSpPr>
            <a:stCxn id="223" idx="0"/>
            <a:endCxn id="222" idx="0"/>
          </p:cNvCxnSpPr>
          <p:nvPr/>
        </p:nvCxnSpPr>
        <p:spPr>
          <a:xfrm>
            <a:off x="1828440" y="167652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oval" w="sm"/>
          </a:ln>
        </p:spPr>
      </p:cxnSp>
      <p:cxnSp>
        <p:nvCxnSpPr>
          <p:cNvPr id="225" name=""/>
          <p:cNvCxnSpPr>
            <a:stCxn id="221" idx="0"/>
            <a:endCxn id="222" idx="0"/>
          </p:cNvCxnSpPr>
          <p:nvPr/>
        </p:nvCxnSpPr>
        <p:spPr>
          <a:xfrm flipV="1">
            <a:off x="914040" y="205704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26" name=""/>
          <p:cNvSpPr/>
          <p:nvPr/>
        </p:nvSpPr>
        <p:spPr>
          <a:xfrm>
            <a:off x="4495680" y="2438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648320" y="2362320"/>
            <a:ext cx="6094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723560" y="2362320"/>
            <a:ext cx="309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 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0" idx="0"/>
            <a:endCxn id="226" idx="0"/>
          </p:cNvCxnSpPr>
          <p:nvPr/>
        </p:nvCxnSpPr>
        <p:spPr>
          <a:xfrm>
            <a:off x="1828800" y="2437920"/>
            <a:ext cx="2667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30" name=""/>
          <p:cNvSpPr/>
          <p:nvPr/>
        </p:nvSpPr>
        <p:spPr>
          <a:xfrm>
            <a:off x="5257800" y="2438280"/>
            <a:ext cx="114300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31960" y="2235240"/>
            <a:ext cx="174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C Gate, to CAT.ADC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257800" y="1905120"/>
            <a:ext cx="914400" cy="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648320" y="1981080"/>
            <a:ext cx="609480" cy="381240"/>
          </a:xfrm>
          <a:prstGeom prst="rect">
            <a:avLst/>
          </a:prstGeom>
          <a:solidFill>
            <a:srgbClr val="ffffff"/>
          </a:solidFill>
          <a:ln cap="rnd" w="0">
            <a:solidFill>
              <a:srgbClr val="000000"/>
            </a:solidFill>
            <a:custDash>
              <a:ds d="100000" sp="1000"/>
            </a:custDash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14400" y="1523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1523880"/>
            <a:ext cx="76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50480" y="1625760"/>
            <a:ext cx="1037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to from DA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238880" y="1022400"/>
            <a:ext cx="1579680" cy="730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642" y="3381"/>
                </a:moveTo>
                <a:lnTo>
                  <a:pt x="23684" y="3381"/>
                </a:lnTo>
                <a:lnTo>
                  <a:pt x="23684" y="-188"/>
                </a:lnTo>
                <a:lnTo>
                  <a:pt x="21423" y="-3735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isted pair wire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lor represent the actual color of the +w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238880" y="2048040"/>
            <a:ext cx="1579680" cy="182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642" y="13523"/>
                </a:moveTo>
                <a:lnTo>
                  <a:pt x="24205" y="13523"/>
                </a:lnTo>
                <a:lnTo>
                  <a:pt x="24205" y="188"/>
                </a:lnTo>
                <a:lnTo>
                  <a:pt x="21423" y="-13155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M c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F Gate Logic 12/9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0" y="-720"/>
            <a:ext cx="1981080" cy="518040"/>
            <a:chOff x="0" y="-720"/>
            <a:chExt cx="1981080" cy="518040"/>
          </a:xfrm>
        </p:grpSpPr>
        <p:sp>
          <p:nvSpPr>
            <p:cNvPr id="241" name=""/>
            <p:cNvSpPr/>
            <p:nvPr/>
          </p:nvSpPr>
          <p:spPr>
            <a:xfrm>
              <a:off x="0" y="14760"/>
              <a:ext cx="1981080" cy="502560"/>
            </a:xfrm>
            <a:prstGeom prst="rect">
              <a:avLst/>
            </a:prstGeom>
            <a:gradFill rotWithShape="0">
              <a:gsLst>
                <a:gs pos="0">
                  <a:srgbClr val="a14e51"/>
                </a:gs>
                <a:gs pos="100000">
                  <a:srgbClr val="ff7c80"/>
                </a:gs>
              </a:gsLst>
              <a:lin ang="5400000"/>
            </a:gradFill>
            <a:ln w="0">
              <a:solidFill>
                <a:srgbClr val="000000"/>
              </a:solidFill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0080" y="-720"/>
              <a:ext cx="188928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ccccff"/>
                  </a:solidFill>
                  <a:uFillTx/>
                  <a:latin typeface="Arial Rounded MT Bold"/>
                </a:rPr>
                <a:t>Twisted pair color rule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Rounded MT Bold"/>
                </a:rPr>
                <a:t>The ‘-’ wire is black!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i Sukhan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C01A1D-8332-4DED-906F-B35355B58A2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7086600" y="1523880"/>
            <a:ext cx="1317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DC Gate to CAT.I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6765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819520" y="1676520"/>
            <a:ext cx="9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un 2390. TDC resolution, TOF cable del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1523880"/>
            <a:ext cx="609480" cy="60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4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im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alib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95280" y="16765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95280" y="19810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371240" y="1447920"/>
            <a:ext cx="26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371240" y="1752480"/>
            <a:ext cx="25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2590920" y="1676520"/>
            <a:ext cx="685800" cy="152280"/>
            <a:chOff x="2590920" y="1676520"/>
            <a:chExt cx="685800" cy="152280"/>
          </a:xfrm>
        </p:grpSpPr>
        <p:sp>
          <p:nvSpPr>
            <p:cNvPr id="253" name=""/>
            <p:cNvSpPr/>
            <p:nvPr/>
          </p:nvSpPr>
          <p:spPr>
            <a:xfrm>
              <a:off x="2743200" y="1676520"/>
              <a:ext cx="38124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 Narrow"/>
                </a:rPr>
                <a:t>NIM-EC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590920" y="17517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124440" y="175176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1905120" y="1447920"/>
            <a:ext cx="609120" cy="457200"/>
            <a:chOff x="1905120" y="1447920"/>
            <a:chExt cx="609120" cy="457200"/>
          </a:xfrm>
        </p:grpSpPr>
        <p:grpSp>
          <p:nvGrpSpPr>
            <p:cNvPr id="257" name=""/>
            <p:cNvGrpSpPr/>
            <p:nvPr/>
          </p:nvGrpSpPr>
          <p:grpSpPr>
            <a:xfrm>
              <a:off x="1905120" y="1600200"/>
              <a:ext cx="456480" cy="304920"/>
              <a:chOff x="1905120" y="1600200"/>
              <a:chExt cx="456480" cy="304920"/>
            </a:xfrm>
          </p:grpSpPr>
          <p:grpSp>
            <p:nvGrpSpPr>
              <p:cNvPr id="258" name=""/>
              <p:cNvGrpSpPr/>
              <p:nvPr/>
            </p:nvGrpSpPr>
            <p:grpSpPr>
              <a:xfrm>
                <a:off x="1905120" y="1600200"/>
                <a:ext cx="456480" cy="304920"/>
                <a:chOff x="1905120" y="1600200"/>
                <a:chExt cx="456480" cy="30492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1905120" y="1600560"/>
                  <a:ext cx="456480" cy="30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 flipV="1">
                  <a:off x="1905120" y="1599840"/>
                  <a:ext cx="456480" cy="30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2133360" y="160056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2" name=""/>
              <p:cNvSpPr/>
              <p:nvPr/>
            </p:nvSpPr>
            <p:spPr>
              <a:xfrm>
                <a:off x="1981080" y="16765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981080" y="18288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V="1">
                <a:off x="2100240" y="1796400"/>
                <a:ext cx="55440" cy="55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2361960" y="17528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132640" y="1447920"/>
              <a:ext cx="365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65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3429000" y="1143000"/>
            <a:ext cx="6094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429000" y="1676520"/>
            <a:ext cx="59544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ri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429000" y="1905120"/>
            <a:ext cx="59544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Bus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276720" y="1752480"/>
            <a:ext cx="15228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038480" y="1752480"/>
            <a:ext cx="15264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038480" y="1981080"/>
            <a:ext cx="15264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4191120" y="1905120"/>
            <a:ext cx="685800" cy="152280"/>
            <a:chOff x="4191120" y="1905120"/>
            <a:chExt cx="685800" cy="152280"/>
          </a:xfrm>
        </p:grpSpPr>
        <p:sp>
          <p:nvSpPr>
            <p:cNvPr id="274" name=""/>
            <p:cNvSpPr/>
            <p:nvPr/>
          </p:nvSpPr>
          <p:spPr>
            <a:xfrm>
              <a:off x="4343400" y="1905120"/>
              <a:ext cx="38124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 Narrow"/>
                </a:rPr>
                <a:t>ECL-NI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724640" y="19803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191120" y="198036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198108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4876920" y="19807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"/>
          <p:cNvCxnSpPr>
            <a:stCxn id="248" idx="0"/>
            <a:endCxn id="262" idx="0"/>
          </p:cNvCxnSpPr>
          <p:nvPr/>
        </p:nvCxnSpPr>
        <p:spPr>
          <a:xfrm>
            <a:off x="1447560" y="167616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0" name=""/>
          <p:cNvCxnSpPr>
            <a:stCxn id="265" idx="0"/>
            <a:endCxn id="254" idx="0"/>
          </p:cNvCxnSpPr>
          <p:nvPr/>
        </p:nvCxnSpPr>
        <p:spPr>
          <a:xfrm>
            <a:off x="2514600" y="1752120"/>
            <a:ext cx="76680" cy="1080"/>
          </a:xfrm>
          <a:prstGeom prst="straightConnector1">
            <a:avLst/>
          </a:prstGeom>
          <a:ln w="0">
            <a:solidFill>
              <a:srgbClr val="000000"/>
            </a:solidFill>
          </a:ln>
        </p:spPr>
      </p:cxnSp>
      <p:cxnSp>
        <p:nvCxnSpPr>
          <p:cNvPr id="281" name=""/>
          <p:cNvCxnSpPr>
            <a:stCxn id="255" idx="0"/>
            <a:endCxn id="270" idx="0"/>
          </p:cNvCxnSpPr>
          <p:nvPr/>
        </p:nvCxnSpPr>
        <p:spPr>
          <a:xfrm flipV="1">
            <a:off x="3276360" y="1739160"/>
            <a:ext cx="1080" cy="26280"/>
          </a:xfrm>
          <a:prstGeom prst="straightConnector1">
            <a:avLst/>
          </a:prstGeom>
          <a:ln w="25560">
            <a:solidFill>
              <a:srgbClr val="000000"/>
            </a:solidFill>
            <a:prstDash val="sysDot"/>
            <a:miter/>
          </a:ln>
        </p:spPr>
      </p:cxnSp>
      <p:cxnSp>
        <p:nvCxnSpPr>
          <p:cNvPr id="282" name=""/>
          <p:cNvCxnSpPr>
            <a:stCxn id="272" idx="0"/>
            <a:endCxn id="276" idx="0"/>
          </p:cNvCxnSpPr>
          <p:nvPr/>
        </p:nvCxnSpPr>
        <p:spPr>
          <a:xfrm flipV="1">
            <a:off x="4190760" y="1967760"/>
            <a:ext cx="1080" cy="26280"/>
          </a:xfrm>
          <a:prstGeom prst="straightConnector1">
            <a:avLst/>
          </a:prstGeom>
          <a:ln w="25560">
            <a:solidFill>
              <a:srgbClr val="000000"/>
            </a:solidFill>
            <a:prstDash val="sysDot"/>
            <a:miter/>
          </a:ln>
        </p:spPr>
      </p:cxnSp>
      <p:sp>
        <p:nvSpPr>
          <p:cNvPr id="283" name=""/>
          <p:cNvSpPr/>
          <p:nvPr/>
        </p:nvSpPr>
        <p:spPr>
          <a:xfrm>
            <a:off x="4191120" y="1752480"/>
            <a:ext cx="41148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4" name=""/>
          <p:cNvCxnSpPr>
            <a:stCxn id="277" idx="0"/>
            <a:endCxn id="278" idx="0"/>
          </p:cNvCxnSpPr>
          <p:nvPr/>
        </p:nvCxnSpPr>
        <p:spPr>
          <a:xfrm>
            <a:off x="1981080" y="2285640"/>
            <a:ext cx="2896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095880" y="2438280"/>
            <a:ext cx="1752840" cy="152640"/>
            <a:chOff x="6095880" y="2438280"/>
            <a:chExt cx="1752840" cy="152640"/>
          </a:xfrm>
        </p:grpSpPr>
        <p:grpSp>
          <p:nvGrpSpPr>
            <p:cNvPr id="286" name=""/>
            <p:cNvGrpSpPr/>
            <p:nvPr/>
          </p:nvGrpSpPr>
          <p:grpSpPr>
            <a:xfrm>
              <a:off x="6095880" y="2438280"/>
              <a:ext cx="685800" cy="152640"/>
              <a:chOff x="6095880" y="2438280"/>
              <a:chExt cx="685800" cy="152640"/>
            </a:xfrm>
          </p:grpSpPr>
          <p:sp>
            <p:nvSpPr>
              <p:cNvPr id="287" name=""/>
              <p:cNvSpPr/>
              <p:nvPr/>
            </p:nvSpPr>
            <p:spPr>
              <a:xfrm>
                <a:off x="6248160" y="2438280"/>
                <a:ext cx="381240" cy="152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 Narrow"/>
                  </a:rPr>
                  <a:t>ECL-EC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629400" y="2513880"/>
                <a:ext cx="152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095880" y="2513880"/>
                <a:ext cx="152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6629400" y="2438280"/>
              <a:ext cx="685800" cy="152640"/>
              <a:chOff x="6629400" y="2438280"/>
              <a:chExt cx="685800" cy="152640"/>
            </a:xfrm>
          </p:grpSpPr>
          <p:sp>
            <p:nvSpPr>
              <p:cNvPr id="291" name=""/>
              <p:cNvSpPr/>
              <p:nvPr/>
            </p:nvSpPr>
            <p:spPr>
              <a:xfrm>
                <a:off x="6781680" y="2438280"/>
                <a:ext cx="378000" cy="1526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63 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629400" y="2514600"/>
                <a:ext cx="152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162560" y="2514600"/>
                <a:ext cx="152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7162920" y="2438280"/>
              <a:ext cx="685800" cy="152640"/>
              <a:chOff x="7162920" y="2438280"/>
              <a:chExt cx="685800" cy="152640"/>
            </a:xfrm>
          </p:grpSpPr>
          <p:sp>
            <p:nvSpPr>
              <p:cNvPr id="295" name=""/>
              <p:cNvSpPr/>
              <p:nvPr/>
            </p:nvSpPr>
            <p:spPr>
              <a:xfrm>
                <a:off x="7315200" y="2438280"/>
                <a:ext cx="381240" cy="152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 Narrow"/>
                  </a:rPr>
                  <a:t>ECL-EC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96440" y="2513880"/>
                <a:ext cx="152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162920" y="2513880"/>
                <a:ext cx="152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8" name=""/>
          <p:cNvSpPr/>
          <p:nvPr/>
        </p:nvSpPr>
        <p:spPr>
          <a:xfrm>
            <a:off x="6324480" y="2286000"/>
            <a:ext cx="30816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 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743200" y="1523880"/>
            <a:ext cx="30780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 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5880" y="2209680"/>
            <a:ext cx="1752840" cy="0"/>
          </a:xfrm>
          <a:prstGeom prst="line">
            <a:avLst/>
          </a:prstGeom>
          <a:ln w="0">
            <a:solidFill>
              <a:srgbClr val="000000"/>
            </a:solidFill>
            <a:headEnd len="med" type="arrow" w="sm"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477120" y="2057400"/>
            <a:ext cx="99036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ble delay 78 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315200" y="2286000"/>
            <a:ext cx="30780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 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6095880" y="2590920"/>
            <a:ext cx="1752840" cy="152640"/>
            <a:chOff x="6095880" y="2590920"/>
            <a:chExt cx="1752840" cy="152640"/>
          </a:xfrm>
        </p:grpSpPr>
        <p:grpSp>
          <p:nvGrpSpPr>
            <p:cNvPr id="304" name=""/>
            <p:cNvGrpSpPr/>
            <p:nvPr/>
          </p:nvGrpSpPr>
          <p:grpSpPr>
            <a:xfrm>
              <a:off x="6095880" y="2590920"/>
              <a:ext cx="685800" cy="152280"/>
              <a:chOff x="6095880" y="2590920"/>
              <a:chExt cx="685800" cy="152280"/>
            </a:xfrm>
          </p:grpSpPr>
          <p:sp>
            <p:nvSpPr>
              <p:cNvPr id="305" name=""/>
              <p:cNvSpPr/>
              <p:nvPr/>
            </p:nvSpPr>
            <p:spPr>
              <a:xfrm>
                <a:off x="6248160" y="2590920"/>
                <a:ext cx="381240" cy="152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 Narrow"/>
                  </a:rPr>
                  <a:t>ECL-EC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629400" y="2666160"/>
                <a:ext cx="152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095880" y="2666160"/>
                <a:ext cx="152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6629400" y="2590920"/>
              <a:ext cx="685800" cy="152640"/>
              <a:chOff x="6629400" y="2590920"/>
              <a:chExt cx="685800" cy="152640"/>
            </a:xfrm>
          </p:grpSpPr>
          <p:sp>
            <p:nvSpPr>
              <p:cNvPr id="309" name=""/>
              <p:cNvSpPr/>
              <p:nvPr/>
            </p:nvSpPr>
            <p:spPr>
              <a:xfrm>
                <a:off x="6781680" y="2590920"/>
                <a:ext cx="378000" cy="1526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63 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629400" y="2666880"/>
                <a:ext cx="152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162560" y="2666880"/>
                <a:ext cx="152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7162920" y="2590920"/>
              <a:ext cx="685800" cy="152280"/>
              <a:chOff x="7162920" y="2590920"/>
              <a:chExt cx="685800" cy="152280"/>
            </a:xfrm>
          </p:grpSpPr>
          <p:sp>
            <p:nvSpPr>
              <p:cNvPr id="313" name=""/>
              <p:cNvSpPr/>
              <p:nvPr/>
            </p:nvSpPr>
            <p:spPr>
              <a:xfrm>
                <a:off x="7315200" y="2590920"/>
                <a:ext cx="381240" cy="152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 Narrow"/>
                  </a:rPr>
                  <a:t>ECL-EC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696440" y="2666160"/>
                <a:ext cx="152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162920" y="2666160"/>
                <a:ext cx="152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6" name=""/>
          <p:cNvSpPr/>
          <p:nvPr/>
        </p:nvSpPr>
        <p:spPr>
          <a:xfrm>
            <a:off x="6248520" y="2743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ECL-EC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629400" y="2819520"/>
            <a:ext cx="15228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943600" y="26668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6629400" y="2743200"/>
            <a:ext cx="685800" cy="152640"/>
            <a:chOff x="6629400" y="2743200"/>
            <a:chExt cx="685800" cy="152640"/>
          </a:xfrm>
        </p:grpSpPr>
        <p:sp>
          <p:nvSpPr>
            <p:cNvPr id="320" name=""/>
            <p:cNvSpPr/>
            <p:nvPr/>
          </p:nvSpPr>
          <p:spPr>
            <a:xfrm>
              <a:off x="6781680" y="2743200"/>
              <a:ext cx="378000" cy="1526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3 n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629400" y="281916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162560" y="2819160"/>
              <a:ext cx="1526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7162920" y="2743200"/>
            <a:ext cx="685800" cy="152280"/>
            <a:chOff x="7162920" y="2743200"/>
            <a:chExt cx="685800" cy="152280"/>
          </a:xfrm>
        </p:grpSpPr>
        <p:sp>
          <p:nvSpPr>
            <p:cNvPr id="324" name=""/>
            <p:cNvSpPr/>
            <p:nvPr/>
          </p:nvSpPr>
          <p:spPr>
            <a:xfrm>
              <a:off x="7315200" y="2743200"/>
              <a:ext cx="38124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 Narrow"/>
                </a:rPr>
                <a:t>ECL-EC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696440" y="28184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162920" y="28184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6248520" y="2895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NIM-EC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629400" y="2971800"/>
            <a:ext cx="15228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6629400" y="2895480"/>
            <a:ext cx="685800" cy="152640"/>
            <a:chOff x="6629400" y="2895480"/>
            <a:chExt cx="685800" cy="152640"/>
          </a:xfrm>
        </p:grpSpPr>
        <p:sp>
          <p:nvSpPr>
            <p:cNvPr id="330" name=""/>
            <p:cNvSpPr/>
            <p:nvPr/>
          </p:nvSpPr>
          <p:spPr>
            <a:xfrm>
              <a:off x="6781680" y="2895480"/>
              <a:ext cx="378000" cy="1526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3 n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629400" y="29718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162560" y="2971800"/>
              <a:ext cx="1526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7162920" y="2895480"/>
            <a:ext cx="685800" cy="152640"/>
            <a:chOff x="7162920" y="2895480"/>
            <a:chExt cx="685800" cy="152640"/>
          </a:xfrm>
        </p:grpSpPr>
        <p:sp>
          <p:nvSpPr>
            <p:cNvPr id="334" name=""/>
            <p:cNvSpPr/>
            <p:nvPr/>
          </p:nvSpPr>
          <p:spPr>
            <a:xfrm>
              <a:off x="7315200" y="2895480"/>
              <a:ext cx="38124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 Narrow"/>
                </a:rPr>
                <a:t>ECL-EC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696440" y="297108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162920" y="297108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7848720" y="2438280"/>
            <a:ext cx="609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DC 094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848720" y="2590920"/>
            <a:ext cx="609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DC 094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848720" y="2743200"/>
            <a:ext cx="609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DC 09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848720" y="2895480"/>
            <a:ext cx="609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DC 09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12952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D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4191120" y="1371600"/>
            <a:ext cx="685800" cy="152280"/>
            <a:chOff x="4191120" y="1371600"/>
            <a:chExt cx="685800" cy="152280"/>
          </a:xfrm>
        </p:grpSpPr>
        <p:sp>
          <p:nvSpPr>
            <p:cNvPr id="343" name=""/>
            <p:cNvSpPr/>
            <p:nvPr/>
          </p:nvSpPr>
          <p:spPr>
            <a:xfrm>
              <a:off x="4343400" y="1371600"/>
              <a:ext cx="38124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 Narrow"/>
                </a:rPr>
                <a:t>ECL-NI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724640" y="14468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191120" y="1446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4724280" y="1447920"/>
            <a:ext cx="1526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5257800" y="1371600"/>
            <a:ext cx="685800" cy="152280"/>
            <a:chOff x="5257800" y="1371600"/>
            <a:chExt cx="685800" cy="152280"/>
          </a:xfrm>
        </p:grpSpPr>
        <p:sp>
          <p:nvSpPr>
            <p:cNvPr id="348" name=""/>
            <p:cNvSpPr/>
            <p:nvPr/>
          </p:nvSpPr>
          <p:spPr>
            <a:xfrm>
              <a:off x="5410080" y="1371600"/>
              <a:ext cx="38124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 Narrow"/>
                </a:rPr>
                <a:t>NIM-EC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257800" y="14468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791320" y="1446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943600" y="1447920"/>
            <a:ext cx="23623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086600" y="1219320"/>
            <a:ext cx="139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ADC Gate to CAT.ADC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4191120" y="1447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095880" y="175248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943600" y="1447920"/>
            <a:ext cx="0" cy="12189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943600" y="2666880"/>
            <a:ext cx="15228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6172200" y="2819520"/>
            <a:ext cx="55440" cy="55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943600" y="28195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600200" y="33526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447920" y="3505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2133720" y="3352680"/>
            <a:ext cx="1293840" cy="151920"/>
            <a:chOff x="2133720" y="3352680"/>
            <a:chExt cx="1293840" cy="151920"/>
          </a:xfrm>
        </p:grpSpPr>
        <p:sp>
          <p:nvSpPr>
            <p:cNvPr id="362" name=""/>
            <p:cNvSpPr/>
            <p:nvPr/>
          </p:nvSpPr>
          <p:spPr>
            <a:xfrm>
              <a:off x="3286440" y="3355560"/>
              <a:ext cx="141120" cy="14904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194560" y="3352680"/>
              <a:ext cx="1172160" cy="15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133720" y="3352680"/>
              <a:ext cx="139680" cy="1490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194560" y="3352680"/>
              <a:ext cx="11721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194560" y="3504600"/>
              <a:ext cx="11721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2133720" y="3581280"/>
            <a:ext cx="1293840" cy="151920"/>
            <a:chOff x="2133720" y="3581280"/>
            <a:chExt cx="1293840" cy="151920"/>
          </a:xfrm>
        </p:grpSpPr>
        <p:sp>
          <p:nvSpPr>
            <p:cNvPr id="368" name=""/>
            <p:cNvSpPr/>
            <p:nvPr/>
          </p:nvSpPr>
          <p:spPr>
            <a:xfrm>
              <a:off x="3286440" y="3584160"/>
              <a:ext cx="141120" cy="14904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194560" y="3581280"/>
              <a:ext cx="1172160" cy="15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133720" y="3581280"/>
              <a:ext cx="139680" cy="1490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194560" y="3581280"/>
              <a:ext cx="11721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194560" y="3733200"/>
              <a:ext cx="11721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3581280" y="3200400"/>
            <a:ext cx="53352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36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riminators in the tun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900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429000" y="36576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981080" y="3429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98108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114800" y="3352680"/>
            <a:ext cx="426708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114800" y="3505320"/>
            <a:ext cx="426708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114800" y="4114800"/>
            <a:ext cx="426708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267080" y="38098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267080" y="396252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001000" y="365760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467480" y="3124080"/>
            <a:ext cx="609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therTD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267080" y="365760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001000" y="380988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001000" y="396252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057400" y="3124080"/>
            <a:ext cx="5943600" cy="1295640"/>
          </a:xfrm>
          <a:prstGeom prst="rect">
            <a:avLst/>
          </a:prstGeom>
          <a:noFill/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447920" y="19810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438280" y="1600200"/>
            <a:ext cx="1555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883520" y="1066680"/>
            <a:ext cx="326880" cy="182880"/>
          </a:xfrm>
          <a:prstGeom prst="borderCallout1">
            <a:avLst>
              <a:gd name="adj1" fmla="val 18750"/>
              <a:gd name="adj2" fmla="val -8333"/>
              <a:gd name="adj3" fmla="val 345972"/>
              <a:gd name="adj4" fmla="val 150273"/>
            </a:avLst>
          </a:prstGeom>
          <a:solidFill>
            <a:srgbClr val="cc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 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973040" y="914400"/>
            <a:ext cx="403200" cy="182880"/>
          </a:xfrm>
          <a:prstGeom prst="borderCallout1">
            <a:avLst>
              <a:gd name="adj1" fmla="val 18750"/>
              <a:gd name="adj2" fmla="val -8333"/>
              <a:gd name="adj3" fmla="val 241842"/>
              <a:gd name="adj4" fmla="val -49416"/>
            </a:avLst>
          </a:prstGeom>
          <a:solidFill>
            <a:srgbClr val="cc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2 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333400" y="2209680"/>
            <a:ext cx="403200" cy="182880"/>
          </a:xfrm>
          <a:prstGeom prst="borderCallout1">
            <a:avLst>
              <a:gd name="adj1" fmla="val 18750"/>
              <a:gd name="adj2" fmla="val -8333"/>
              <a:gd name="adj3" fmla="val -101569"/>
              <a:gd name="adj4" fmla="val -106064"/>
            </a:avLst>
          </a:prstGeom>
          <a:solidFill>
            <a:srgbClr val="cc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3 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772400" y="2286000"/>
            <a:ext cx="609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 TD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267080" y="1219320"/>
            <a:ext cx="308160" cy="1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 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91320" y="2971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5105520" y="2895480"/>
            <a:ext cx="685080" cy="151920"/>
            <a:chOff x="5105520" y="2895480"/>
            <a:chExt cx="685080" cy="151920"/>
          </a:xfrm>
        </p:grpSpPr>
        <p:sp>
          <p:nvSpPr>
            <p:cNvPr id="398" name=""/>
            <p:cNvSpPr/>
            <p:nvPr/>
          </p:nvSpPr>
          <p:spPr>
            <a:xfrm>
              <a:off x="5716080" y="2898360"/>
              <a:ext cx="74520" cy="14904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137560" y="2895480"/>
              <a:ext cx="620640" cy="15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105520" y="2895480"/>
              <a:ext cx="73800" cy="1490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137560" y="2895480"/>
              <a:ext cx="620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137560" y="3047400"/>
              <a:ext cx="620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029200" y="2971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334120" y="2895480"/>
            <a:ext cx="30780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 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438280" y="17524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438280" y="297180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429000" y="762120"/>
            <a:ext cx="707760" cy="182880"/>
          </a:xfrm>
          <a:prstGeom prst="borderCallout1">
            <a:avLst>
              <a:gd name="adj1" fmla="val 18750"/>
              <a:gd name="adj2" fmla="val -8333"/>
              <a:gd name="adj3" fmla="val 502157"/>
              <a:gd name="adj4" fmla="val -100300"/>
            </a:avLst>
          </a:prstGeom>
          <a:solidFill>
            <a:srgbClr val="cc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=32 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8" name=""/>
          <p:cNvCxnSpPr>
            <a:stCxn id="407" idx="0"/>
            <a:endCxn id="346" idx="0"/>
          </p:cNvCxnSpPr>
          <p:nvPr/>
        </p:nvCxnSpPr>
        <p:spPr>
          <a:xfrm>
            <a:off x="4136760" y="853920"/>
            <a:ext cx="587880" cy="594720"/>
          </a:xfrm>
          <a:prstGeom prst="straightConnector1">
            <a:avLst/>
          </a:prstGeom>
          <a:ln w="0">
            <a:solidFill>
              <a:srgbClr val="000000"/>
            </a:solidFill>
          </a:ln>
        </p:spPr>
      </p:cxnSp>
      <p:sp>
        <p:nvSpPr>
          <p:cNvPr id="409" name=""/>
          <p:cNvSpPr/>
          <p:nvPr/>
        </p:nvSpPr>
        <p:spPr>
          <a:xfrm>
            <a:off x="719640" y="4598640"/>
            <a:ext cx="8493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The event manager is connected in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normal mode</a:t>
            </a: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: the main trigger is generated by event manager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i Sukhan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3E00F8-EEEE-4E63-8871-C79E0B5930C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0" name=""/>
          <p:cNvGraphicFramePr/>
          <p:nvPr/>
        </p:nvGraphicFramePr>
        <p:xfrm>
          <a:off x="457200" y="685800"/>
          <a:ext cx="5753160" cy="1400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85800"/>
                    <a:ext cx="5753160" cy="14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57200" y="2743200"/>
          <a:ext cx="5753160" cy="1400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2743200"/>
                    <a:ext cx="5753160" cy="14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4" name=""/>
          <p:cNvSpPr/>
          <p:nvPr/>
        </p:nvSpPr>
        <p:spPr>
          <a:xfrm>
            <a:off x="457200" y="2209320"/>
            <a:ext cx="82296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In the run 2391 the TDC gate was taken directly from the AND gate 365AL by doing this we eliminate possible jitter in the event Manager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57200" y="4417200"/>
            <a:ext cx="8229600" cy="17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Comparing two tables we can conclude that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 Event Manager does not affect the resolution of the TD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 delay introduced by the Event Manager is 22 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 best achievable TDC resolution is 100 ps in the range of 0-100ns, and 200-250 ps in the range of 100-800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 Round Trip Delay for TOF signals is 655-669 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un 2390,2391.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i Sukhan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C9FD17-87AF-4BAD-A297-18BB26CFD32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2T13:28:28Z</dcterms:created>
  <dc:creator>Andrei Sukhanov</dc:creator>
  <dc:description/>
  <dc:language>en-US</dc:language>
  <cp:lastModifiedBy>Andrei Sukhanov</cp:lastModifiedBy>
  <cp:lastPrinted>2000-01-21T23:48:37Z</cp:lastPrinted>
  <dcterms:modified xsi:type="dcterms:W3CDTF">2000-01-21T23:52:26Z</dcterms:modified>
  <cp:revision>19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sukhanov@bnl.gov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Z:\Sukhanov\My Document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