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F33-1D80-435B-964C-CE2DA36E1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EC61-734C-43DA-A2B8-6E80DEF9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4A75-EAF1-4BED-8035-052374AE0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0C14-83C8-483C-B13C-8EFD0327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8CAC-1164-4043-B886-3EFBD419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ACD-1A47-46E4-8707-7FF8803C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C073-D420-4846-837C-83BB2FF8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DA4-A443-4194-B20E-1536857F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9D47-2292-4C4F-88DB-41512ABC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1306-6AA7-4B53-AE24-9854A062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1F7-BEDE-43D1-8633-2E0A4163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07E7-2C91-4265-8A7C-B1535D75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514600" y="6629040"/>
            <a:ext cx="4038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5A57-5622-46C9-8BB1-F1C4B0FD2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Upgrade 0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11B8-F0C2-4167-BEE0-0DD11CDCEDF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410080" y="2590920"/>
            <a:ext cx="1752840" cy="8380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826920"/>
            <a:ext cx="7772400" cy="57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854600"/>
                <a:tab algn="l" pos="97092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Current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pipelined system (Except Silic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ed triggers rate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30 e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d tim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xed 4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ing to disk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PDP from Mercury to host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nking to HPSS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2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854600"/>
                <a:tab algn="l" pos="97092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Demonstrated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x. raw writing to disk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5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Mercury to host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4854600"/>
                <a:tab algn="l" pos="9709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Mercury to host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400 e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854600"/>
                <a:tab algn="l" pos="9709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391520" y="2971800"/>
            <a:ext cx="1523880" cy="380880"/>
          </a:xfrm>
          <a:prstGeom prst="wedgeRoundRectCallout">
            <a:avLst>
              <a:gd name="adj1" fmla="val -67189"/>
              <a:gd name="adj2" fmla="val -23333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4BCA-3EDC-46C3-A907-FA3B4BA265C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eed to be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762120"/>
            <a:ext cx="7772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 reliability and performance of the FASTBU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Transfer directly to the Mercury cr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 Multi-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ove reliability of the Silicon readout at higher r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tisfy Nigel and Gabo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 most of the high-selectivity triggers but fill the rest of the time with the minimum bias events. Not an easy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43FF-CE3F-4532-A7B9-748A54301E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pgr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514600"/>
            <a:ext cx="8613720" cy="914400"/>
            <a:chOff x="228600" y="2514600"/>
            <a:chExt cx="8613720" cy="914400"/>
          </a:xfrm>
        </p:grpSpPr>
        <p:sp>
          <p:nvSpPr>
            <p:cNvPr id="50" name=""/>
            <p:cNvSpPr/>
            <p:nvPr/>
          </p:nvSpPr>
          <p:spPr>
            <a:xfrm>
              <a:off x="228600" y="2514600"/>
              <a:ext cx="146376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ilic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FrontE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09680" y="2514600"/>
              <a:ext cx="129564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ercu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16200000">
              <a:off x="3238560" y="2781360"/>
              <a:ext cx="91440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FP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" name=""/>
            <p:cNvCxnSpPr>
              <a:stCxn id="50" idx="3"/>
              <a:endCxn id="51" idx="1"/>
            </p:cNvCxnSpPr>
            <p:nvPr/>
          </p:nvCxnSpPr>
          <p:spPr>
            <a:xfrm>
              <a:off x="1692000" y="2971440"/>
              <a:ext cx="518040" cy="1080"/>
            </a:xfrm>
            <a:prstGeom prst="straightConnector1">
              <a:avLst/>
            </a:prstGeom>
            <a:ln w="101520">
              <a:solidFill>
                <a:srgbClr val="ff0000"/>
              </a:solidFill>
              <a:miter/>
              <a:tailEnd len="med" type="triangle" w="sm"/>
            </a:ln>
          </p:spPr>
        </p:cxnSp>
        <p:cxnSp>
          <p:nvCxnSpPr>
            <p:cNvPr id="54" name=""/>
            <p:cNvCxnSpPr>
              <a:stCxn id="52" idx="2"/>
              <a:endCxn id="55" idx="0"/>
            </p:cNvCxnSpPr>
            <p:nvPr/>
          </p:nvCxnSpPr>
          <p:spPr>
            <a:xfrm>
              <a:off x="3884760" y="2970360"/>
              <a:ext cx="3816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55" name=""/>
            <p:cNvSpPr/>
            <p:nvPr/>
          </p:nvSpPr>
          <p:spPr>
            <a:xfrm rot="16200000">
              <a:off x="4000320" y="2781000"/>
              <a:ext cx="914400" cy="38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FP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48320" y="2514600"/>
              <a:ext cx="68580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V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5791320" y="2590920"/>
              <a:ext cx="685800" cy="837720"/>
              <a:chOff x="5791320" y="2590920"/>
              <a:chExt cx="685800" cy="837720"/>
            </a:xfrm>
          </p:grpSpPr>
          <p:sp>
            <p:nvSpPr>
              <p:cNvPr id="58" name=""/>
              <p:cNvSpPr/>
              <p:nvPr/>
            </p:nvSpPr>
            <p:spPr>
              <a:xfrm>
                <a:off x="5791320" y="3170880"/>
                <a:ext cx="685800" cy="2577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91320" y="2977560"/>
                <a:ext cx="685800" cy="2577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791320" y="2784240"/>
                <a:ext cx="685800" cy="2577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791320" y="2590920"/>
                <a:ext cx="685800" cy="25776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62" name=""/>
            <p:cNvCxnSpPr>
              <a:stCxn id="56" idx="3"/>
              <a:endCxn id="58" idx="2"/>
            </p:cNvCxnSpPr>
            <p:nvPr/>
          </p:nvCxnSpPr>
          <p:spPr>
            <a:xfrm>
              <a:off x="5334120" y="2971440"/>
              <a:ext cx="457920" cy="3290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63" name=""/>
            <p:cNvSpPr/>
            <p:nvPr/>
          </p:nvSpPr>
          <p:spPr>
            <a:xfrm>
              <a:off x="6858000" y="2514600"/>
              <a:ext cx="68580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u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1" idx="4"/>
              <a:endCxn id="63" idx="1"/>
            </p:cNvCxnSpPr>
            <p:nvPr/>
          </p:nvCxnSpPr>
          <p:spPr>
            <a:xfrm>
              <a:off x="6477120" y="2719080"/>
              <a:ext cx="381600" cy="253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cxnSp>
          <p:nvCxnSpPr>
            <p:cNvPr id="65" name=""/>
            <p:cNvCxnSpPr>
              <a:stCxn id="60" idx="4"/>
              <a:endCxn id="63" idx="1"/>
            </p:cNvCxnSpPr>
            <p:nvPr/>
          </p:nvCxnSpPr>
          <p:spPr>
            <a:xfrm>
              <a:off x="6477120" y="2912760"/>
              <a:ext cx="381600" cy="5940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66" name=""/>
            <p:cNvSpPr/>
            <p:nvPr/>
          </p:nvSpPr>
          <p:spPr>
            <a:xfrm rot="16200000">
              <a:off x="7277040" y="2781360"/>
              <a:ext cx="91440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GigaBi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66" idx="2"/>
              <a:endCxn id="68" idx="0"/>
            </p:cNvCxnSpPr>
            <p:nvPr/>
          </p:nvCxnSpPr>
          <p:spPr>
            <a:xfrm>
              <a:off x="7922880" y="2970360"/>
              <a:ext cx="919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69" name=""/>
            <p:cNvSpPr/>
            <p:nvPr/>
          </p:nvSpPr>
          <p:spPr>
            <a:xfrm>
              <a:off x="8842320" y="297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182800" y="2666880"/>
              <a:ext cx="6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P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64200" y="2514600"/>
            <a:ext cx="4574880" cy="914400"/>
            <a:chOff x="4264200" y="2514600"/>
            <a:chExt cx="4574880" cy="914400"/>
          </a:xfrm>
        </p:grpSpPr>
        <p:sp>
          <p:nvSpPr>
            <p:cNvPr id="72" name=""/>
            <p:cNvSpPr/>
            <p:nvPr/>
          </p:nvSpPr>
          <p:spPr>
            <a:xfrm rot="16200000">
              <a:off x="3997440" y="2781360"/>
              <a:ext cx="914400" cy="380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PD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645080" y="2514600"/>
              <a:ext cx="2895480" cy="9144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K 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6200000">
              <a:off x="7273800" y="2781000"/>
              <a:ext cx="914400" cy="381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igaB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5" name=""/>
            <p:cNvCxnSpPr>
              <a:stCxn id="74" idx="2"/>
              <a:endCxn id="76" idx="0"/>
            </p:cNvCxnSpPr>
            <p:nvPr/>
          </p:nvCxnSpPr>
          <p:spPr>
            <a:xfrm>
              <a:off x="7919640" y="2970360"/>
              <a:ext cx="919800" cy="2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  <a:tailEnd len="sm" type="triangle" w="sm"/>
            </a:ln>
          </p:spPr>
        </p:cxnSp>
        <p:sp>
          <p:nvSpPr>
            <p:cNvPr id="77" name=""/>
            <p:cNvSpPr/>
            <p:nvPr/>
          </p:nvSpPr>
          <p:spPr>
            <a:xfrm>
              <a:off x="8839080" y="2971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6702480" y="2590920"/>
              <a:ext cx="685800" cy="761400"/>
              <a:chOff x="6702480" y="2590920"/>
              <a:chExt cx="685800" cy="761400"/>
            </a:xfrm>
          </p:grpSpPr>
          <p:sp>
            <p:nvSpPr>
              <p:cNvPr id="79" name=""/>
              <p:cNvSpPr/>
              <p:nvPr/>
            </p:nvSpPr>
            <p:spPr>
              <a:xfrm>
                <a:off x="6702480" y="3118320"/>
                <a:ext cx="685800" cy="234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02480" y="2942280"/>
                <a:ext cx="685800" cy="234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702480" y="2766600"/>
                <a:ext cx="685800" cy="234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702480" y="2590920"/>
                <a:ext cx="685800" cy="234000"/>
              </a:xfrm>
              <a:prstGeom prst="flowChartMagneticDisk">
                <a:avLst/>
              </a:prstGeom>
              <a:gradFill rotWithShape="0">
                <a:gsLst>
                  <a:gs pos="0">
                    <a:srgbClr val="585858"/>
                  </a:gs>
                  <a:gs pos="50000">
                    <a:srgbClr val="c0c0c0"/>
                  </a:gs>
                  <a:gs pos="100000">
                    <a:srgbClr val="585858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8179560" y="2666880"/>
              <a:ext cx="623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HP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152280" y="3962520"/>
            <a:ext cx="8458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odifications in the data collecting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ase out the Sun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ltrasparc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obosx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dicated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ta record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nstead of a general purpose work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igabit Ethernet from Linux to HPS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280" y="7621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pted triggers rate: 500 Hz, 50 MB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d time: 1.4 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9672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ottleneck: Silicon @ 800 H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38D5-F077-4B2A-B647-254C00B1FE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g River TK200 from Condu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56893" t="38888" r="12412" b="14284"/>
          <a:stretch/>
        </p:blipFill>
        <p:spPr>
          <a:xfrm>
            <a:off x="152280" y="609480"/>
            <a:ext cx="373392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1BED-932A-471C-8E09-E69566E3F66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K20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685800"/>
            <a:ext cx="4952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g River TK200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. Data Rate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 Mbytes/sec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~ sustain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. Disk Drives (16) EIDE ATA 100, packaged in easily removable drive modules.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otal 3.2 TB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wo Gigabit Ethernet po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x. Duration 24/7 recording in Pendulum mode (addt'l modules require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rnal Interface Front Panel Data Por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FPDP) ~ 50MHz at 32-bi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wer ATX 550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ssis Dimensions (5U) 9”H x 19”W x 26”D Rackmou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erating Systems Windows NT/200/XP,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inux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26321" t="23887" r="27168" b="28637"/>
          <a:stretch/>
        </p:blipFill>
        <p:spPr>
          <a:xfrm>
            <a:off x="0" y="838080"/>
            <a:ext cx="419112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2280" y="4114800"/>
            <a:ext cx="37497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d 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T - Haystack Observatory Mark 5 VLBI Data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C59-66DB-484B-99DA-045FEA19EC1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702640" cy="2476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.Sukhanov for Phobos Collaboration 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1ADC-35F2-407E-83B9-276D96318F0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6/25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03:27:58Z</dcterms:created>
  <dc:creator>Andrei</dc:creator>
  <dc:description/>
  <dc:language>en-US</dc:language>
  <cp:lastModifiedBy>Andrei</cp:lastModifiedBy>
  <dcterms:modified xsi:type="dcterms:W3CDTF">2003-06-26T15:05:29Z</dcterms:modified>
  <cp:revision>4</cp:revision>
  <dc:subject/>
  <dc:title>DAQ Upgrade 04</dc:title>
</cp:coreProperties>
</file>