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3C4-41FC-4DF0-98AB-9401A3FD4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63420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DD4-005F-4C25-9198-19A7FF96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63420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63420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B1DD-BBC4-44A0-8A3F-4B84D973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6091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6091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63420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63420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63420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C23-D882-463B-8AE0-47106D428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B10-6C62-428D-AD6C-C33F4366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F38F-DD21-4543-80FA-E51F22EB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32B-007E-4945-9AD7-33C008610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C3B7-4999-462A-A873-82F71440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01B-471E-4A61-BF6D-C29CF470B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63420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BF6-C570-4F30-99E2-FE14D4EE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63420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6C0A-DD3E-41EF-BD37-C07AE2E7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00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091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63420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E87-AC48-4D49-8669-FBBF5DC6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091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629040"/>
            <a:ext cx="4267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FA3E-431D-4939-A3C3-3C76EE782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5480" y="914400"/>
            <a:ext cx="551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ei Sukhanov – measurements,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oury Sedykh – software,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otr Kulinich – measurements, cri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Cross Talks Everywher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164600" y="2743200"/>
            <a:ext cx="6813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0 cabling and sign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oss talks between twinax cabl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ise in the tunn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can be don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front-end electron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9E01-5631-4A70-BD7C-F14EF3C7DCB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kabes" descr=""/>
          <p:cNvPicPr/>
          <p:nvPr/>
        </p:nvPicPr>
        <p:blipFill>
          <a:blip r:embed="rId1"/>
          <a:stretch/>
        </p:blipFill>
        <p:spPr>
          <a:xfrm>
            <a:off x="433440" y="380880"/>
            <a:ext cx="8275680" cy="42069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5029200"/>
            <a:ext cx="8686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VME - Optical S-link to VME 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 speed full duplex S-link optical connection (128 Mbyte/s S-link to PCI and 500 Kbit/s PCI to S-link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1 Trigger Strobe Optical Input(FanOut via  private bu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2 Trigger Word optical TAXI reciever(FanOut via  VME broadcast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ming/Control ECL Inputs(FanOut via private bus)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Fastbus with modern readout electroni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52280" y="4267080"/>
            <a:ext cx="5257800" cy="5806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del: NA48 KABES (KAOn Beam Spectrometer) READ-OUT System http://afi.jinr.ru/kabes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F18F-1AA6-4C63-A0E4-E7A1A1A6FF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876920" y="457200"/>
            <a:ext cx="4267080" cy="24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xisting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OC – KAB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8 TDCs channels 100 ps (measurement of leading and trailing edg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 HPTDC chi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2 64 KByte on-board L2 Ring buff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uilt-in test capabiliti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Xilinx Virtex-II - main log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3429000"/>
            <a:ext cx="4267080" cy="2792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posed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: ROC - PHOB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places 48 TDC and 48 ADC Fastbus chann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48 TDCs channels (measurement of leading edge with 25 ps resolution and trailing edge with 100 ps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OT technique gives information about signal amplitude for slewing correc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6+1 HPTDC chi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roc48" descr=""/>
          <p:cNvPicPr/>
          <p:nvPr/>
        </p:nvPicPr>
        <p:blipFill>
          <a:blip r:embed="rId1"/>
          <a:stretch/>
        </p:blipFill>
        <p:spPr>
          <a:xfrm>
            <a:off x="0" y="438120"/>
            <a:ext cx="4762440" cy="598176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C- Read Out C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D528-495F-457E-9C95-B151147F7898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685800"/>
            <a:ext cx="8382240" cy="2562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ad-time-free trigg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o delay c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multaneous Time (25 ps) and Amplitude (TOT)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PGA on board. Possible decisions for L2: energy deposition in cluster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ross-talk is not detect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ystem (100 ps) is fully tested and now is running in the KABES at NA4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3886200"/>
            <a:ext cx="8382240" cy="91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advantag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 amplitude measurements the existing LE discriminators need to be replaced by Philips (55 available in HEEP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s/Disadvan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7405-937F-478B-80A5-687F4CA9AA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47920" y="12193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245200" y="1219320"/>
            <a:ext cx="380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4" idx="3"/>
            <a:endCxn id="47" idx="1"/>
          </p:cNvCxnSpPr>
          <p:nvPr/>
        </p:nvCxnSpPr>
        <p:spPr>
          <a:xfrm>
            <a:off x="1917720" y="1447560"/>
            <a:ext cx="256608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</a:ln>
        </p:spPr>
      </p:cxnSp>
      <p:sp>
        <p:nvSpPr>
          <p:cNvPr id="47" name=""/>
          <p:cNvSpPr/>
          <p:nvPr/>
        </p:nvSpPr>
        <p:spPr>
          <a:xfrm>
            <a:off x="4483080" y="1295280"/>
            <a:ext cx="763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7" idx="3"/>
            <a:endCxn id="45" idx="1"/>
          </p:cNvCxnSpPr>
          <p:nvPr/>
        </p:nvCxnSpPr>
        <p:spPr>
          <a:xfrm>
            <a:off x="4559040" y="1447560"/>
            <a:ext cx="67320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49" name=""/>
          <p:cNvSpPr/>
          <p:nvPr/>
        </p:nvSpPr>
        <p:spPr>
          <a:xfrm>
            <a:off x="7226280" y="1219320"/>
            <a:ext cx="380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5" idx="3"/>
            <a:endCxn id="49" idx="1"/>
          </p:cNvCxnSpPr>
          <p:nvPr/>
        </p:nvCxnSpPr>
        <p:spPr>
          <a:xfrm>
            <a:off x="5638320" y="1447560"/>
            <a:ext cx="1575720" cy="1080"/>
          </a:xfrm>
          <a:prstGeom prst="curvedConnector2">
            <a:avLst/>
          </a:prstGeom>
          <a:ln w="507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>
            <a:off x="8064360" y="1219320"/>
            <a:ext cx="3812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49" idx="3"/>
            <a:endCxn id="51" idx="1"/>
          </p:cNvCxnSpPr>
          <p:nvPr/>
        </p:nvCxnSpPr>
        <p:spPr>
          <a:xfrm>
            <a:off x="7619760" y="1447560"/>
            <a:ext cx="43236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3" name=""/>
          <p:cNvSpPr/>
          <p:nvPr/>
        </p:nvSpPr>
        <p:spPr>
          <a:xfrm>
            <a:off x="4559400" y="609480"/>
            <a:ext cx="1066680" cy="457200"/>
          </a:xfrm>
          <a:prstGeom prst="wedgeRoundRectCallout">
            <a:avLst>
              <a:gd name="adj1" fmla="val -29314"/>
              <a:gd name="adj2" fmla="val 12152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traStrip 15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8600" y="609480"/>
            <a:ext cx="685800" cy="457200"/>
          </a:xfrm>
          <a:prstGeom prst="wedgeRoundRectCallout">
            <a:avLst>
              <a:gd name="adj1" fmla="val -37962"/>
              <a:gd name="adj2" fmla="val 12916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winax 200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854680" y="609480"/>
            <a:ext cx="698400" cy="457200"/>
          </a:xfrm>
          <a:prstGeom prst="wedgeRoundRectCallout">
            <a:avLst>
              <a:gd name="adj1" fmla="val -49546"/>
              <a:gd name="adj2" fmla="val 1270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ax 100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07160" y="609480"/>
            <a:ext cx="1067040" cy="457200"/>
          </a:xfrm>
          <a:prstGeom prst="wedgeRoundRectCallout">
            <a:avLst>
              <a:gd name="adj1" fmla="val -42708"/>
              <a:gd name="adj2" fmla="val 12673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traStrip 10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193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57" idx="3"/>
            <a:endCxn id="44" idx="1"/>
          </p:cNvCxnSpPr>
          <p:nvPr/>
        </p:nvCxnSpPr>
        <p:spPr>
          <a:xfrm>
            <a:off x="1231920" y="1447560"/>
            <a:ext cx="203760" cy="1080"/>
          </a:xfrm>
          <a:prstGeom prst="curvedConnector2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 flipH="1">
            <a:off x="4190760" y="685800"/>
            <a:ext cx="21960" cy="1600200"/>
          </a:xfrm>
          <a:prstGeom prst="line">
            <a:avLst/>
          </a:prstGeom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1752480"/>
            <a:ext cx="380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7280" y="1600200"/>
            <a:ext cx="381240" cy="228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45" idx="3"/>
            <a:endCxn id="61" idx="1"/>
          </p:cNvCxnSpPr>
          <p:nvPr/>
        </p:nvCxnSpPr>
        <p:spPr>
          <a:xfrm>
            <a:off x="5638680" y="1447560"/>
            <a:ext cx="216720" cy="267120"/>
          </a:xfrm>
          <a:prstGeom prst="curvedConnector5">
            <a:avLst>
              <a:gd name="adj1" fmla="val 49916"/>
              <a:gd name="adj2" fmla="val 49932"/>
              <a:gd name="adj3" fmla="val 49916"/>
            </a:avLst>
          </a:prstGeom>
          <a:ln w="50760">
            <a:solidFill>
              <a:srgbClr val="000000"/>
            </a:solidFill>
            <a:miter/>
          </a:ln>
        </p:spPr>
      </p:cxnSp>
      <p:sp>
        <p:nvSpPr>
          <p:cNvPr id="63" name=""/>
          <p:cNvSpPr/>
          <p:nvPr/>
        </p:nvSpPr>
        <p:spPr>
          <a:xfrm>
            <a:off x="6400800" y="1905120"/>
            <a:ext cx="457200" cy="457200"/>
          </a:xfrm>
          <a:prstGeom prst="donut">
            <a:avLst>
              <a:gd name="adj" fmla="val 15625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5" idx="2"/>
            <a:endCxn id="63" idx="3"/>
          </p:cNvCxnSpPr>
          <p:nvPr/>
        </p:nvCxnSpPr>
        <p:spPr>
          <a:xfrm flipH="1" rot="16200000">
            <a:off x="5648400" y="1476000"/>
            <a:ext cx="606960" cy="1032480"/>
          </a:xfrm>
          <a:prstGeom prst="curvedConnector5">
            <a:avLst>
              <a:gd name="adj1" fmla="val 63323"/>
              <a:gd name="adj2" fmla="val 49982"/>
              <a:gd name="adj3" fmla="val 63323"/>
            </a:avLst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65" name=""/>
          <p:cNvCxnSpPr>
            <a:stCxn id="63" idx="7"/>
            <a:endCxn id="60" idx="1"/>
          </p:cNvCxnSpPr>
          <p:nvPr/>
        </p:nvCxnSpPr>
        <p:spPr>
          <a:xfrm flipH="1" rot="16200000">
            <a:off x="7423200" y="1339560"/>
            <a:ext cx="10080" cy="1273680"/>
          </a:xfrm>
          <a:prstGeom prst="curvedConnector5">
            <a:avLst>
              <a:gd name="adj1" fmla="val 2314814"/>
              <a:gd name="adj2" fmla="val 26547"/>
              <a:gd name="adj3" fmla="val 2314814"/>
            </a:avLst>
          </a:prstGeom>
          <a:ln w="38160">
            <a:solidFill>
              <a:srgbClr val="000000"/>
            </a:solidFill>
            <a:miter/>
          </a:ln>
        </p:spPr>
      </p:cxnSp>
      <p:pic>
        <p:nvPicPr>
          <p:cNvPr id="66" name="twinax" descr=""/>
          <p:cNvPicPr/>
          <p:nvPr/>
        </p:nvPicPr>
        <p:blipFill>
          <a:blip r:embed="rId2"/>
          <a:stretch/>
        </p:blipFill>
        <p:spPr>
          <a:xfrm>
            <a:off x="4724280" y="2743200"/>
            <a:ext cx="3581640" cy="2762280"/>
          </a:xfrm>
          <a:prstGeom prst="rect">
            <a:avLst/>
          </a:prstGeom>
          <a:ln w="0">
            <a:noFill/>
          </a:ln>
        </p:spPr>
      </p:pic>
      <p:pic>
        <p:nvPicPr>
          <p:cNvPr id="67" name="303271358_N2N9P2" descr=""/>
          <p:cNvPicPr/>
          <p:nvPr/>
        </p:nvPicPr>
        <p:blipFill>
          <a:blip r:embed="rId3"/>
          <a:stretch/>
        </p:blipFill>
        <p:spPr>
          <a:xfrm>
            <a:off x="228600" y="2743200"/>
            <a:ext cx="3581280" cy="2752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5563080"/>
            <a:ext cx="457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ulse at ECL/NIM. Using twisted pair c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0" y="5563080"/>
            <a:ext cx="457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ulse at ECL/NIM. Using twinax c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5943600"/>
            <a:ext cx="4191120" cy="380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 rise time is 5 times sho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0 c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2133720"/>
            <a:ext cx="1066680" cy="457200"/>
          </a:xfrm>
          <a:prstGeom prst="wedgeRoundRectCallout">
            <a:avLst>
              <a:gd name="adj1" fmla="val 121578"/>
              <a:gd name="adj2" fmla="val -2604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traStrip 60 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0B8D-936E-49FE-B7CB-9E7EF2D1B6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talk in rolled twisted pair delay c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3348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972520"/>
            <a:ext cx="3505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0N vs T0P on FB TDC08, twisted pair delay ca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82880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505320" cy="2592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334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3505320" cy="2602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5988960"/>
            <a:ext cx="35053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0N vs T0P on FB TDC17, coaxial delay cabl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890720" y="16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7080" y="762120"/>
            <a:ext cx="4606920" cy="1618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the time difference between signals on the neighboring channels is less than the rise time on the receiving end, then the signals will be shifted in time due to a cross tal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8DD6-0DAB-4504-8558-B2B30C30276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talk between twinax cables. Time Calibrator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195800"/>
            <a:ext cx="525780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T0P0 vs T0N. The horizontal shifts in 3 spots on the right are due to different contribution from individual P0N channels to the T0N OR, this is acceptable. The vertical shift for lower spot is also acceptable. </a:t>
            </a:r>
            <a:r>
              <a:rPr b="0" lang="en-US" sz="1600" spc="-1" strike="noStrike">
                <a:solidFill>
                  <a:srgbClr val="3333cc"/>
                </a:solidFill>
                <a:latin typeface="Verdana"/>
                <a:ea typeface="Arial"/>
              </a:rPr>
              <a:t>The problem is with the vertical shift between upper spot and 3 right spots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Arial"/>
              </a:rPr>
              <a:t> The same conditions on T0P but changing something on T0N causes shifts in T0P0. The common rule: the signal which comes later gets bigger shift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9540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5353200" cy="36003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15000" y="1676520"/>
            <a:ext cx="3276720" cy="1923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DC reading of the individual T0P0 channel (twinax + ribbon + ECL/NIM) depends on which channels are enabled in the T0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15000" y="4800600"/>
            <a:ext cx="3276720" cy="703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riminators are 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e Equalizers are 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7" idx="2"/>
            <a:endCxn id="88" idx="0"/>
          </p:cNvCxnSpPr>
          <p:nvPr/>
        </p:nvCxnSpPr>
        <p:spPr>
          <a:xfrm>
            <a:off x="7353000" y="3606840"/>
            <a:ext cx="1080" cy="1194480"/>
          </a:xfrm>
          <a:prstGeom prst="straightConnector1">
            <a:avLst/>
          </a:prstGeom>
          <a:ln w="127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AD76-6178-4B22-BC6B-2654689790A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talk between ‘twinax’ cables in SPECTOF r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34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2694" t="8785" r="1304" b="5035"/>
          <a:stretch/>
        </p:blipFill>
        <p:spPr>
          <a:xfrm>
            <a:off x="0" y="3808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3552120"/>
            <a:ext cx="4419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0N vs T0P. Time in ns. The diagonal stripe – enhancement due to the SpecTOF tri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5002" t="9016" r="0" b="5352"/>
          <a:stretch/>
        </p:blipFill>
        <p:spPr>
          <a:xfrm>
            <a:off x="4572000" y="380880"/>
            <a:ext cx="4572000" cy="3048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82880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OctVtx_T0diff" descr=""/>
          <p:cNvPicPr/>
          <p:nvPr/>
        </p:nvPicPr>
        <p:blipFill>
          <a:blip r:embed="rId3"/>
          <a:srcRect l="5003" t="18359" r="8332" b="4577"/>
          <a:stretch/>
        </p:blipFill>
        <p:spPr>
          <a:xfrm>
            <a:off x="5181480" y="3733920"/>
            <a:ext cx="3962520" cy="2376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572000" y="3429360"/>
            <a:ext cx="44197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OctDeVtx.vz [mm] vs. T0N-T0P [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34120" y="6143040"/>
            <a:ext cx="36576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OctDeVtx.vz [mm] vs. T0N-T0P [cm]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Using individual T0 cha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4651920"/>
            <a:ext cx="4267440" cy="1008720"/>
          </a:xfrm>
          <a:prstGeom prst="borderCallout1">
            <a:avLst>
              <a:gd name="adj1" fmla="val 18750"/>
              <a:gd name="adj2" fmla="val -8333"/>
              <a:gd name="adj3" fmla="val -266606"/>
              <a:gd name="adj4" fmla="val 16316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T0_OR vertex is non-linear relative to the Octagon vertex 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F1F3-CE1F-4223-A17D-8F736AE1A0D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2880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5557" t="7516" r="0" b="6102"/>
          <a:stretch/>
        </p:blipFill>
        <p:spPr>
          <a:xfrm>
            <a:off x="0" y="685800"/>
            <a:ext cx="4572000" cy="3092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3963240"/>
            <a:ext cx="44197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0 TAC vs T0N-T0P [ns]. Perfectly correlated in all files later than 12069+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876920"/>
            <a:ext cx="4191120" cy="642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chain </a:t>
            </a:r>
            <a:r>
              <a:rPr b="0" lang="en-US" sz="1800" spc="-1" strike="noStrike">
                <a:solidFill>
                  <a:srgbClr val="3333cc"/>
                </a:solidFill>
                <a:latin typeface="Verdana"/>
              </a:rPr>
              <a:t>ECL/NIM - coax 100 ns – NIM/ECL – twisted pair 10 n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is O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5557" t="7516" r="0" b="7985"/>
          <a:stretch/>
        </p:blipFill>
        <p:spPr>
          <a:xfrm>
            <a:off x="4343400" y="685800"/>
            <a:ext cx="4800600" cy="3174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724280" y="4876920"/>
            <a:ext cx="41911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ME TDCs. The distortion from the straight line is due to the cross talk in the 60 ns rolled ribbon 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between TAC and T0N-T0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10" idx="0"/>
            <a:endCxn id="107" idx="0"/>
          </p:cNvCxnSpPr>
          <p:nvPr/>
        </p:nvCxnSpPr>
        <p:spPr>
          <a:xfrm>
            <a:off x="6781680" y="2438280"/>
            <a:ext cx="38880" cy="243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 flipV="1">
            <a:off x="6781680" y="236196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024440"/>
            <a:ext cx="4419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T0 TAC vs T0N-T0P [30ps] using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VM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 TDCs. The same shape in all fil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88E0-D05D-4289-A4BB-5FC876794D8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33520" y="762120"/>
            <a:ext cx="8153280" cy="3111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time shifts  of the signals on the neighboring channels occur when the signals have overlapping edges on the receiving 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SpectraStrip twisted pair cables should be avoided in the time measurem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ing twinax cable the rising/falling time is 5 times shorter than with twisted pair cables. The cross talk is also significantly smaller. We should expect the time shifts at least 20 time small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cc33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The observed time shifts in neighboring channels in ‘twinax’ cables are still significant ~ 300 p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shift could probably be eliminated by proper cable grounding, better routing in the counting hous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 talk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A07-90DF-407D-AA32-CC8B41FCABE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in the tunn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6244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Ground_T0_P0_N0_vs_time" descr=""/>
          <p:cNvPicPr/>
          <p:nvPr/>
        </p:nvPicPr>
        <p:blipFill>
          <a:blip r:embed="rId1"/>
          <a:stretch/>
        </p:blipFill>
        <p:spPr>
          <a:xfrm>
            <a:off x="152280" y="439560"/>
            <a:ext cx="3886200" cy="29894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36440" y="3546360"/>
            <a:ext cx="428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round noise on T0P0 (ch1) and T0N0 (ch 2). Both signals have peak-to-peak amplitude 6 mV, the T0P0 have positive offset 4 mV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986200" y="22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Ground_T0_P0_vs_N0" descr=""/>
          <p:cNvPicPr/>
          <p:nvPr/>
        </p:nvPicPr>
        <p:blipFill>
          <a:blip r:embed="rId2"/>
          <a:stretch/>
        </p:blipFill>
        <p:spPr>
          <a:xfrm>
            <a:off x="228600" y="4724280"/>
            <a:ext cx="2438280" cy="18525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286000" y="5334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T0P0 (ch1) vs T0N0 (ch2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7180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180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7180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rcRect l="0" t="19352" r="9523" b="0"/>
          <a:stretch/>
        </p:blipFill>
        <p:spPr>
          <a:xfrm>
            <a:off x="4572000" y="457200"/>
            <a:ext cx="2895480" cy="1905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86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4"/>
          <a:srcRect l="0" t="22670" r="8707" b="0"/>
          <a:stretch/>
        </p:blipFill>
        <p:spPr>
          <a:xfrm>
            <a:off x="4572000" y="2362320"/>
            <a:ext cx="2895480" cy="1819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986200" y="22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0" y="4267080"/>
            <a:ext cx="4191120" cy="228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Pr03 run there are stable correlations between the noises in different points of the PHOBOS. The amplitude changes depending on beam condi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Run Pr02 there was no such corre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144792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orrelations between pedestals of the different ADC channe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B017-B398-40FA-943E-968A6A7D418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28600" y="762120"/>
            <a:ext cx="8534520" cy="2014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nrealistic scenar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lace all cables with twinax.         ~ 60 K$. A lot of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parate signals in time (~20 ns).    Impossible. A lot of work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ve FASTBUS into the tunnel.         Almost no advantage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eed a remote controlled logic for self-triggering inside the tunn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cc3300"/>
                </a:solidFill>
                <a:latin typeface="Verdana"/>
              </a:rPr>
              <a:t>Still need ~ 100 ns of cable delays due to the Common Star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- Need very reliable Fast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429000"/>
            <a:ext cx="8534520" cy="916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alistic scenari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lace only T0 c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lace Front End electronics.     ~ 60 K$. Can be done by Nov 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. Phobos BWMeet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48C1-99C8-45C6-B6DF-6B60EB5BB66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5/9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04:12:22Z</dcterms:created>
  <dc:creator>Andrei</dc:creator>
  <dc:description/>
  <dc:language>en-US</dc:language>
  <cp:lastModifiedBy>Andrei</cp:lastModifiedBy>
  <dcterms:modified xsi:type="dcterms:W3CDTF">2003-05-13T18:51:41Z</dcterms:modified>
  <cp:revision>12</cp:revision>
  <dc:subject/>
  <dc:title>PowerPoint Presentation</dc:title>
</cp:coreProperties>
</file>