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CB11-74A3-4B15-8588-FA046F665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91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4F60-6D12-4F08-84F7-9870E673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91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57BF-9DFD-4B93-85AA-C7E30B11E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91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769B-439F-42AF-8944-D6250921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91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8AA3-54F2-4974-AEF5-EF984305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91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2B71-A210-4573-A5C7-D0B50F33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91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9F8-BFBB-40ED-9036-7458F5AF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91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0429-4D0F-436F-ACCE-F99F491F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57B4-501C-4152-BF69-11FE3032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91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23BC-9983-42E8-8394-5FBDF4CE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91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E17-61A6-445D-BB5C-EF972E38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91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0382-291D-4733-BA99-1346B929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590920" y="662904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8F57-893F-4D6B-95B5-5BECA74B7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191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609480"/>
          <a:ext cx="8839440" cy="543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8839440" cy="54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. Phobos Biweekly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94B-E065-41FA-AA0B-00317A85F19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/07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1915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280" y="533520"/>
          <a:ext cx="8839440" cy="441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533520"/>
                    <a:ext cx="8839440" cy="44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. Phobos Biweekly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AF9A-D1C5-47AE-8E9F-747C43AEFD3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8/07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7T14:25:05Z</dcterms:created>
  <dc:creator>Andrei</dc:creator>
  <dc:description/>
  <dc:language>en-US</dc:language>
  <cp:lastModifiedBy>Andrei</cp:lastModifiedBy>
  <dcterms:modified xsi:type="dcterms:W3CDTF">2003-08-07T17:48:57Z</dcterms:modified>
  <cp:revision>2</cp:revision>
  <dc:subject/>
  <dc:title>PowerPoint Presentation</dc:title>
</cp:coreProperties>
</file>