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5381-8DE9-40E1-8067-1DA96BCA9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BDFE-47DA-4F3E-BF35-E75D3FED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964C-9E9E-4921-B6EB-F9C45B1D4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4B11-852D-4AB9-8346-FB7975883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9380-16B6-4729-910D-F3404DCE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564F-0A02-4D01-AC18-55D6FA98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D106-E27D-4AF4-8448-E7765057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CA01-7BC7-42BD-9A89-CDC7CA07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4D5F-F60C-4F22-94DD-3E20AF8D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6492-0063-4804-86A8-8714D52C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942D-326C-4F19-88D4-6AE5421A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8010-921D-45B6-B58C-BA560796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514600" y="662904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781D-F57A-4020-AC44-AB21F4812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 and plans of DAQ and TOF upgrad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3146-03EC-4056-8F2B-E844069604F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53520" cy="7143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TDC Xilin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962-252B-495B-9301-2C116F55B58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53520" cy="71438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TDC V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1C13-C219-4278-A287-1C6925FEDE4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TiMeS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09480"/>
            <a:ext cx="8686800" cy="27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chematic of the PhTDC is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5059440"/>
            <a:ext cx="8686800" cy="27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0640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S485 cable link to Mercury c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2280" y="914400"/>
            <a:ext cx="8686800" cy="27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CB layout of the PhTDC is 50% read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1828800"/>
            <a:ext cx="8686800" cy="5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LoM logic module for PhTiMeS can be implemented using existing PCDP boards. New PhLoM is not time-critic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1219320"/>
            <a:ext cx="8686800" cy="27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t components are available immediately. Max lead time = 4 wee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2438280"/>
            <a:ext cx="8686800" cy="549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PTDCS chips are not in hand yet. Several thousands are waiting to be tested at CERN. They aware of our order of 80 chi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1523880"/>
            <a:ext cx="8686800" cy="27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ME crate with MVME commissione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4800600"/>
            <a:ext cx="868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oftware implementation to the existing DA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5364000"/>
            <a:ext cx="868680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0640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sting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668920"/>
            <a:ext cx="868680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0640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nchronization and setup. PhLoM progr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5973840"/>
            <a:ext cx="8686800" cy="274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0640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out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3429000"/>
            <a:ext cx="8686800" cy="274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0640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Xilinx programming of the PhTDC – 90% of the debugging proces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3733920"/>
            <a:ext cx="8686800" cy="2746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0640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ossible to get visas in less than 6 month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4038480"/>
            <a:ext cx="8686800" cy="5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0640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idering remote help from Dudna during debuggin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0640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e PhTDC probably need to be shipped to Dub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280" y="3124080"/>
            <a:ext cx="868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Debugging of the Ph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BB9-0AC2-4410-B5C8-C8363AC687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orting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EF7D-BD61-4318-A4BB-1F6A63ADA4F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River TK200 from Condu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56893" t="38888" r="12412" b="14284"/>
          <a:stretch/>
        </p:blipFill>
        <p:spPr>
          <a:xfrm>
            <a:off x="152280" y="609480"/>
            <a:ext cx="373392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F5D1-CA2B-461A-AD05-F9A6A649BCE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85800"/>
            <a:ext cx="4952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g River TK200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. Data Rat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 Mbytes/se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~ sustai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. Disk Drives (16) EIDE ATA 100, packaged in easily removable drive modules.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tal 3.2 T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wo Gigabit Ethern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. Duration 24/7 recording in Pendulum mode (addt'l modules requir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rnal Interface Front Panel Data Por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FPDP) ~ 50MHz at 32-b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wer ATX 550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ssis Dimensions (5U) 9”H x 19”W x 26”D Rackmou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ting Systems Windows NT/200/XP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inu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26321" t="23887" r="27168" b="28637"/>
          <a:stretch/>
        </p:blipFill>
        <p:spPr>
          <a:xfrm>
            <a:off x="0" y="838080"/>
            <a:ext cx="4191120" cy="3048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2280" y="4114800"/>
            <a:ext cx="374976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d 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T - Haystack Observatory Mark 5 VLBI Data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180-816C-4966-B135-32F2A87FFCB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Q Upg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2514600"/>
            <a:ext cx="8613720" cy="914400"/>
            <a:chOff x="228600" y="2514600"/>
            <a:chExt cx="8613720" cy="914400"/>
          </a:xfrm>
        </p:grpSpPr>
        <p:sp>
          <p:nvSpPr>
            <p:cNvPr id="44" name=""/>
            <p:cNvSpPr/>
            <p:nvPr/>
          </p:nvSpPr>
          <p:spPr>
            <a:xfrm>
              <a:off x="228600" y="2514600"/>
              <a:ext cx="146376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lic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ront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209680" y="2514600"/>
              <a:ext cx="129564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ercu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6200000">
              <a:off x="3238560" y="2781360"/>
              <a:ext cx="91440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FP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7" name=""/>
            <p:cNvCxnSpPr>
              <a:stCxn id="44" idx="3"/>
              <a:endCxn id="45" idx="1"/>
            </p:cNvCxnSpPr>
            <p:nvPr/>
          </p:nvCxnSpPr>
          <p:spPr>
            <a:xfrm>
              <a:off x="1692000" y="2971440"/>
              <a:ext cx="518040" cy="1080"/>
            </a:xfrm>
            <a:prstGeom prst="straightConnector1">
              <a:avLst/>
            </a:prstGeom>
            <a:ln w="101520">
              <a:solidFill>
                <a:srgbClr val="ff0000"/>
              </a:solidFill>
              <a:miter/>
              <a:tailEnd len="med" type="triangle" w="sm"/>
            </a:ln>
          </p:spPr>
        </p:cxnSp>
        <p:cxnSp>
          <p:nvCxnSpPr>
            <p:cNvPr id="48" name=""/>
            <p:cNvCxnSpPr>
              <a:stCxn id="46" idx="2"/>
              <a:endCxn id="49" idx="0"/>
            </p:cNvCxnSpPr>
            <p:nvPr/>
          </p:nvCxnSpPr>
          <p:spPr>
            <a:xfrm>
              <a:off x="3884760" y="2970360"/>
              <a:ext cx="3816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49" name=""/>
            <p:cNvSpPr/>
            <p:nvPr/>
          </p:nvSpPr>
          <p:spPr>
            <a:xfrm rot="16200000">
              <a:off x="4000320" y="2781000"/>
              <a:ext cx="914400" cy="381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FP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48320" y="2514600"/>
              <a:ext cx="68580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5791320" y="2590920"/>
              <a:ext cx="685800" cy="837720"/>
              <a:chOff x="5791320" y="2590920"/>
              <a:chExt cx="685800" cy="837720"/>
            </a:xfrm>
          </p:grpSpPr>
          <p:sp>
            <p:nvSpPr>
              <p:cNvPr id="52" name=""/>
              <p:cNvSpPr/>
              <p:nvPr/>
            </p:nvSpPr>
            <p:spPr>
              <a:xfrm>
                <a:off x="5791320" y="3170880"/>
                <a:ext cx="685800" cy="25776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791320" y="2977560"/>
                <a:ext cx="685800" cy="25776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791320" y="2784240"/>
                <a:ext cx="685800" cy="25776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791320" y="2590920"/>
                <a:ext cx="685800" cy="25776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56" name=""/>
            <p:cNvCxnSpPr>
              <a:stCxn id="50" idx="3"/>
              <a:endCxn id="52" idx="2"/>
            </p:cNvCxnSpPr>
            <p:nvPr/>
          </p:nvCxnSpPr>
          <p:spPr>
            <a:xfrm>
              <a:off x="5334120" y="2971440"/>
              <a:ext cx="457920" cy="3290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57" name=""/>
            <p:cNvSpPr/>
            <p:nvPr/>
          </p:nvSpPr>
          <p:spPr>
            <a:xfrm>
              <a:off x="6858000" y="2514600"/>
              <a:ext cx="68580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"/>
            <p:cNvCxnSpPr>
              <a:stCxn id="55" idx="4"/>
              <a:endCxn id="57" idx="1"/>
            </p:cNvCxnSpPr>
            <p:nvPr/>
          </p:nvCxnSpPr>
          <p:spPr>
            <a:xfrm>
              <a:off x="6477120" y="2719080"/>
              <a:ext cx="381600" cy="253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cxnSp>
          <p:nvCxnSpPr>
            <p:cNvPr id="59" name=""/>
            <p:cNvCxnSpPr>
              <a:stCxn id="54" idx="4"/>
              <a:endCxn id="57" idx="1"/>
            </p:cNvCxnSpPr>
            <p:nvPr/>
          </p:nvCxnSpPr>
          <p:spPr>
            <a:xfrm>
              <a:off x="6477120" y="2912760"/>
              <a:ext cx="381600" cy="594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60" name=""/>
            <p:cNvSpPr/>
            <p:nvPr/>
          </p:nvSpPr>
          <p:spPr>
            <a:xfrm rot="16200000">
              <a:off x="7277040" y="2781360"/>
              <a:ext cx="91440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GigaB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" name=""/>
            <p:cNvCxnSpPr>
              <a:stCxn id="60" idx="2"/>
              <a:endCxn id="62" idx="0"/>
            </p:cNvCxnSpPr>
            <p:nvPr/>
          </p:nvCxnSpPr>
          <p:spPr>
            <a:xfrm>
              <a:off x="7922880" y="2970360"/>
              <a:ext cx="919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63" name=""/>
            <p:cNvSpPr/>
            <p:nvPr/>
          </p:nvSpPr>
          <p:spPr>
            <a:xfrm>
              <a:off x="8842320" y="297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182800" y="2666880"/>
              <a:ext cx="62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P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264200" y="2514600"/>
            <a:ext cx="4574880" cy="914400"/>
            <a:chOff x="4264200" y="2514600"/>
            <a:chExt cx="4574880" cy="914400"/>
          </a:xfrm>
        </p:grpSpPr>
        <p:sp>
          <p:nvSpPr>
            <p:cNvPr id="66" name=""/>
            <p:cNvSpPr/>
            <p:nvPr/>
          </p:nvSpPr>
          <p:spPr>
            <a:xfrm rot="16200000">
              <a:off x="3997440" y="2781360"/>
              <a:ext cx="91440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P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645080" y="2514600"/>
              <a:ext cx="289548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K 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rot="16200000">
              <a:off x="7273800" y="2781000"/>
              <a:ext cx="914400" cy="381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igaB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2"/>
              <a:endCxn id="70" idx="0"/>
            </p:cNvCxnSpPr>
            <p:nvPr/>
          </p:nvCxnSpPr>
          <p:spPr>
            <a:xfrm>
              <a:off x="7919640" y="2970360"/>
              <a:ext cx="919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71" name=""/>
            <p:cNvSpPr/>
            <p:nvPr/>
          </p:nvSpPr>
          <p:spPr>
            <a:xfrm>
              <a:off x="8839080" y="297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702480" y="2590920"/>
              <a:ext cx="685800" cy="761400"/>
              <a:chOff x="6702480" y="2590920"/>
              <a:chExt cx="685800" cy="761400"/>
            </a:xfrm>
          </p:grpSpPr>
          <p:sp>
            <p:nvSpPr>
              <p:cNvPr id="73" name=""/>
              <p:cNvSpPr/>
              <p:nvPr/>
            </p:nvSpPr>
            <p:spPr>
              <a:xfrm>
                <a:off x="6702480" y="3118320"/>
                <a:ext cx="685800" cy="2340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702480" y="2942280"/>
                <a:ext cx="685800" cy="2340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02480" y="2766600"/>
                <a:ext cx="685800" cy="2340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702480" y="2590920"/>
                <a:ext cx="685800" cy="2340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179560" y="2666880"/>
              <a:ext cx="62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P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152280" y="39625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modifications in the data collecting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out the Sun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ltraspar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bos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dicat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ta recor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stead of a general purpose work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gabit Ethernet from Linux to HP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7621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pted triggers rate: 500 Hz, 5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d time: 1.4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tleneck: Silicon @ 800 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3657600"/>
            <a:ext cx="1158840" cy="284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T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3657600"/>
            <a:ext cx="1158840" cy="284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3657600"/>
            <a:ext cx="1158840" cy="284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Ti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600200" y="3428640"/>
            <a:ext cx="13716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971800" y="3428640"/>
            <a:ext cx="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2971800" y="3428640"/>
            <a:ext cx="13716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97AA-3683-43FC-BA6C-DC6FF20B73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Q Schedule of 6/2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280" y="762120"/>
          <a:ext cx="8702640" cy="247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762120"/>
                    <a:ext cx="870264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522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3429000"/>
            <a:ext cx="8686800" cy="28954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95240" indent="-79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 for TK200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Waiting for approval from the head of the Procurement Offi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95240" indent="-79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FASTBUS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Don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Debugging of the cable link to replace Etherne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95240" indent="-79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To do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aster data taking. Improved reliabilit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95240" indent="-79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ilicon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Done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noth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95240" indent="-79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Verdana"/>
              </a:rPr>
              <a:t>To do: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Reliability at higher speed (1.4 ms dead time). </a:t>
            </a:r>
            <a:r>
              <a:rPr b="0" lang="en-US" sz="1600" spc="-1" strike="noStrike">
                <a:solidFill>
                  <a:srgbClr val="cc3300"/>
                </a:solidFill>
                <a:latin typeface="Verdana"/>
              </a:rPr>
              <a:t>Cannot be done without Low Voltage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795240" indent="-795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DD4-1924-42FC-9816-F43A3DB97F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52280" y="609480"/>
            <a:ext cx="86868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Replacing Ethernet link with RS485 cab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TBUS-&gt;VME-&gt;(PhTiMeS)-&gt;Mercu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cessary with new Data Record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280" y="1447920"/>
            <a:ext cx="8686800" cy="823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bugging of the point-to-point connection finished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ME block data transfer works (20 MB/s)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ulti-drop protocol develop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286000"/>
            <a:ext cx="8686800" cy="5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 in the FASTBUS and VME DAQ crates.</a:t>
            </a:r>
            <a:br>
              <a:rPr sz="1800"/>
            </a:b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Implementation in the Mercury cr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2280" y="2895480"/>
            <a:ext cx="8686800" cy="27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ent building in Mercury. 90% finis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connection task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3E5-BD6D-491D-936D-0DDD0295A11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853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licon readout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609480"/>
            <a:ext cx="8686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Improvement of the Silicon readout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oal: Reliable data taking with 1.4 ms dead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219320"/>
            <a:ext cx="8686800" cy="27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code are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523880"/>
            <a:ext cx="8686800" cy="5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bugging of the system with dummy receiver on the FPDP li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his requires Low Voltages on FE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DA73-6EA6-4EB6-ADE2-23E3D318572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Data Recorder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914400"/>
            <a:ext cx="8686800" cy="274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FTP for Linu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609480"/>
            <a:ext cx="8686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5760" indent="-455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reparation for the new Data Recorder (TK20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219320"/>
            <a:ext cx="8686800" cy="823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Data mover goes Linu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ding from the Data Record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igabit Ethernet with new adap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2057400"/>
            <a:ext cx="8686800" cy="549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Writing data to the Data Recor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ngle data stream (from Mercury crate). No event build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257-3093-4ED1-87CF-B89C4F2A21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TiMeS 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52280" y="609480"/>
          <a:ext cx="7824960" cy="536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609480"/>
                    <a:ext cx="7824960" cy="53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882C-4F9D-451A-8546-4B0371AD49A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53520" cy="71438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TDC inp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5B96-7978-44FD-B00E-502375CE9F2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53520" cy="71438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hTDC TD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D81D-96C1-42BB-AA76-E54E818D64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7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3:27:58Z</dcterms:created>
  <dc:creator>Andrei</dc:creator>
  <dc:description/>
  <dc:language>en-US</dc:language>
  <cp:lastModifiedBy>Andrei</cp:lastModifiedBy>
  <dcterms:modified xsi:type="dcterms:W3CDTF">2003-07-25T14:17:35Z</dcterms:modified>
  <cp:revision>8</cp:revision>
  <dc:subject/>
  <dc:title>DAQ Upgrade 04</dc:title>
</cp:coreProperties>
</file>