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DA75-ED2D-4E4D-9D44-86116F58C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-1533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87631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746880"/>
            <a:ext cx="87631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5663-65CD-4137-BB3B-A5EAC686F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1533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4276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8880" y="761760"/>
            <a:ext cx="4276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746880"/>
            <a:ext cx="4276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8880" y="3746880"/>
            <a:ext cx="4276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FDC7-FA0C-4AC5-8542-41B9D1BCC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-1533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28213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1400" y="761760"/>
            <a:ext cx="28213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4200" y="761760"/>
            <a:ext cx="28213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746880"/>
            <a:ext cx="28213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1400" y="3746880"/>
            <a:ext cx="28213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4200" y="3746880"/>
            <a:ext cx="28213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EFFE-5200-4C27-910B-6E2A7C1D8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-1533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76176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1F3A-D3FB-415A-9B53-E706D9D89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1533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883E-94DD-48B0-BE8C-99327295E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1533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427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8880" y="761760"/>
            <a:ext cx="427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E750-FD97-4F3D-9A51-5A469B46A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1533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CB3C-0B2A-4385-8C27-410D879ED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960F-DD51-4C25-A508-767BA5AE1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1533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4276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880" y="761760"/>
            <a:ext cx="427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746880"/>
            <a:ext cx="4276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7DB4-C289-45BB-B141-2DE9A0CE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-1533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427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8880" y="761760"/>
            <a:ext cx="4276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8880" y="3746880"/>
            <a:ext cx="4276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DEBA-5ABE-4BF1-933A-22DE8A03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-1533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761760"/>
            <a:ext cx="4276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8880" y="761760"/>
            <a:ext cx="427608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746880"/>
            <a:ext cx="87631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F922-B400-4A6E-883C-DABE690F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76176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B3C2E-D1A1-4A9B-98D3-50AA635203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17680" y="685800"/>
            <a:ext cx="83214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ed input rat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80 Hz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Instantaneous rate ~ 400 Hz (during 0.1 s), sustained: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60 Hz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blem at the rate above 200 Hz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es not handle properly the Event Builder overf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ata taking time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`Silicon: 1.8(1.4) ms . Fastbus: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0 m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VME: 1.0 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rrect synchronization between Silicon, Fastbus and V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 L0, L1 bits are in the data stre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ression factor 3.3 (9800 ev/se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Q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i Sukhan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03/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Q Problems &amp; Pl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17680" y="685800"/>
            <a:ext cx="83214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ndling of the Event Builder Overflow on UltraSpar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op/Start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expected L0. Rare, resulting in the Fastbus mismatch. Recoverable during data tak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stbus ADC 18, 22. Several per sequ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ectrig TDCs. Needs commissio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rrupted events. Workaround for offline by Bur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nor memory leak in the TPhDAQ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ndrei Sukhanov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/03/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1T14:24:45Z</dcterms:created>
  <dc:creator>Andrei</dc:creator>
  <dc:description/>
  <dc:language>en-US</dc:language>
  <cp:lastModifiedBy>Andrei</cp:lastModifiedBy>
  <dcterms:modified xsi:type="dcterms:W3CDTF">2003-01-03T16:40:08Z</dcterms:modified>
  <cp:revision>18</cp:revision>
  <dc:subject/>
  <dc:title>DAQ Status</dc:title>
</cp:coreProperties>
</file>