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7F3-18E4-4188-958E-22EA82EE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4C71-AF2F-4553-BDDF-AEA1742D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F92-8A80-4FA3-A539-512C5C08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007-EC5B-4AF3-ACA5-C3B46812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B6F-DC76-4739-9FEE-558040DB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522-AAA6-4E1C-8CAD-57F42A1B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CB2-175A-468E-A6F5-15B8B82E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785-6C24-40A3-B505-10D8C5EA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5DD-29FD-4BB4-A076-8C0E34BA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ECE-9C5B-4204-B45A-073D1A51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39B-D077-4AB7-97EC-400EFF02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044-5086-43FB-826D-0E17B860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4FC4-754A-4C13-8884-122F1D762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762120"/>
          <a:ext cx="8839440" cy="5567040"/>
        </p:xfrm>
        <a:graphic>
          <a:graphicData uri="http://schemas.openxmlformats.org/drawingml/2006/table">
            <a:tbl>
              <a:tblPr/>
              <a:tblGrid>
                <a:gridCol w="1189080"/>
                <a:gridCol w="371520"/>
                <a:gridCol w="727884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FPDP ordered and received. (Faster transfer from Mercury to vmespar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Full set of CPUs (21) put into operation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200 Hz achieved (w/o FASTB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for online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Integration of FASTBU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 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Q rehear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vmesparc, new Mercury OS. (Faster disk transfer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PDP install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 for more fibers/c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mization of Mercury timing. Goal: 30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gger detectors insta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gger/DAQ integr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ation of crates/fibers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g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gger integration. (need outside groups at BN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optimization. Goal: 500 H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of cool-dow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s after the Collaboration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19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69960" y="395280"/>
            <a:ext cx="7864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otation from Mercury Inc. received. Everything we need is available for order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Backplane Interlink1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Motherboard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RINT I/O modul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Daughtercard with 2 CPU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more hardware to the DAQ (RICH, more TDC/ADC) made eas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pelining for every data transfer is implemented. The code on Solaris is multi-threa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DAQ code is in C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19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cope" descr=""/>
          <p:cNvPicPr/>
          <p:nvPr/>
        </p:nvPicPr>
        <p:blipFill>
          <a:blip r:embed="rId1"/>
          <a:stretch/>
        </p:blipFill>
        <p:spPr>
          <a:xfrm>
            <a:off x="-47520" y="71280"/>
            <a:ext cx="9239040" cy="6715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76920" y="3581280"/>
            <a:ext cx="1828800" cy="609840"/>
          </a:xfrm>
          <a:prstGeom prst="wedgeRoundRectCallout">
            <a:avLst>
              <a:gd name="adj1" fmla="val -79773"/>
              <a:gd name="adj2" fmla="val -59634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ber transfer ends @ 3.5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diagram of Mercury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962520"/>
            <a:ext cx="1447920" cy="685800"/>
          </a:xfrm>
          <a:prstGeom prst="wedgeRoundRectCallout">
            <a:avLst>
              <a:gd name="adj1" fmla="val 41995"/>
              <a:gd name="adj2" fmla="val 78935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ression in one 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19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2:25:42Z</dcterms:created>
  <dc:creator>Andrei</dc:creator>
  <dc:description/>
  <dc:language>en-US</dc:language>
  <cp:lastModifiedBy>Andrei</cp:lastModifiedBy>
  <dcterms:modified xsi:type="dcterms:W3CDTF">2002-04-19T18:23:32Z</dcterms:modified>
  <cp:revision>8</cp:revision>
  <dc:subject/>
  <dc:title>Plans after the Collaboration meeting</dc:title>
</cp:coreProperties>
</file>