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86D-2ED4-4E65-BFAD-41CFBF98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1D2-3D6C-46E1-9425-5BBE50FA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F9A-196C-4C8B-A056-C65B8712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ABD-1E1D-4CE2-8985-23F0996D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735-878D-4EE1-AFD5-D02EAF94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4C1-54A9-4A5B-AC15-2BC89AC0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250-ADA3-4CB0-ADA4-3B48D3B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528-3B30-4A83-A8B1-48F12B8F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DFB-FD88-4563-95A6-2E28DB44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306-99CC-4E6C-AF42-852AE2E9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87D-42E2-4537-A70F-A9B6924E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515-7B48-4A67-ABAF-4A18245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C4F-4E9F-4D7E-9D69-BF3193D77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g005" descr=""/>
          <p:cNvPicPr/>
          <p:nvPr/>
        </p:nvPicPr>
        <p:blipFill>
          <a:blip r:embed="rId1"/>
          <a:stretch/>
        </p:blipFill>
        <p:spPr>
          <a:xfrm>
            <a:off x="182520" y="13824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0" y="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g014" descr=""/>
          <p:cNvPicPr/>
          <p:nvPr/>
        </p:nvPicPr>
        <p:blipFill>
          <a:blip r:embed="rId1"/>
          <a:stretch/>
        </p:blipFill>
        <p:spPr>
          <a:xfrm>
            <a:off x="182520" y="138240"/>
            <a:ext cx="8778960" cy="658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76520" y="182880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1680840"/>
            <a:ext cx="922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20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182880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880" y="1676160"/>
            <a:ext cx="9212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80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19810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20640" y="1676160"/>
            <a:ext cx="10904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500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438280"/>
            <a:ext cx="1828800" cy="457200"/>
          </a:xfrm>
          <a:prstGeom prst="wedgeRoundRectCallout">
            <a:avLst>
              <a:gd name="adj1" fmla="val -44356"/>
              <a:gd name="adj2" fmla="val -15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28600"/>
            <a:ext cx="1828800" cy="457200"/>
          </a:xfrm>
          <a:prstGeom prst="wedgeRoundRectCallout">
            <a:avLst>
              <a:gd name="adj1" fmla="val 68750"/>
              <a:gd name="adj2" fmla="val 12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95480" y="4038480"/>
            <a:ext cx="1295640" cy="381240"/>
          </a:xfrm>
          <a:prstGeom prst="wedgeRoundRectCallout">
            <a:avLst>
              <a:gd name="adj1" fmla="val 39092"/>
              <a:gd name="adj2" fmla="val -124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038480"/>
            <a:ext cx="1295640" cy="838440"/>
          </a:xfrm>
          <a:prstGeom prst="wedgeRoundRectCallout">
            <a:avLst>
              <a:gd name="adj1" fmla="val 12009"/>
              <a:gd name="adj2" fmla="val -8219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with max FEC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4038480"/>
            <a:ext cx="1295280" cy="838440"/>
          </a:xfrm>
          <a:prstGeom prst="wedgeRoundRectCallout">
            <a:avLst>
              <a:gd name="adj1" fmla="val -22796"/>
              <a:gd name="adj2" fmla="val -7727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with max crat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219320"/>
          <a:ext cx="7620120" cy="256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6201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1295280"/>
          <a:ext cx="8001000" cy="132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010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33520" y="29718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pending: FPDP interface for UltraSPARC VME to connect to Mercury (avoid problematic VME transfer) - $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17920" y="849240"/>
            <a:ext cx="476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resul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ion rate: 16 MB/s/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estal subtraction rate: 60 MB/s/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6:24:50Z</dcterms:created>
  <dc:creator>Andrei Sukhanov</dc:creator>
  <dc:description/>
  <dc:language>en-US</dc:language>
  <cp:lastModifiedBy>Andrei</cp:lastModifiedBy>
  <dcterms:modified xsi:type="dcterms:W3CDTF">2002-02-12T18:13:41Z</dcterms:modified>
  <cp:revision>2</cp:revision>
  <dc:subject/>
  <dc:title>PowerPoint Presentation</dc:title>
</cp:coreProperties>
</file>