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589-E01C-4E52-9344-E892AA44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A39-C15B-402C-BCDF-C364CB3C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88D-DDF4-48D9-B425-E357BD31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0D7-D27A-4311-B013-4724C714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E21-1D48-4886-A23F-182AC34D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069-9B2B-4126-9608-CB99C526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6A0-6EA5-4879-BBF3-7094168D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8CC-B81B-4FB2-9772-BDCF65E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FEF-093C-4B44-BDD6-6965DFC0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E76-222D-4637-ABFE-94803E73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005-0232-43B5-8D9B-0F67C74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2C8-B9D1-44EC-A4D6-F88C9CF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600" y="662904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CEF2-999A-4B22-9436-4D8A2E4C4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6290129_AS_Simply_the_bes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atus of the PHOBOS DA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2680" y="1143000"/>
            <a:ext cx="69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e are with the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Q Bottlenecks, results from recent 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 rem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 improvement of DAQ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increase the disk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gs t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194-5CB2-4427-A807-8AB7F5DAF4D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960" y="685800"/>
            <a:ext cx="7750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rcury can process 520 Hz saf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FEC errors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er rate requires optimization of the system. Expect 700 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stained data taking rate (from Silicon to disk) for today = 28 MB, 280 Hz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ed @ 28 MB/s by disk bottleneck @ 35 MB/s and Mercury-fpdp link @ 330 Hz. Can be improved to ~ 35 MB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ression does not work yet due to messed up pedestals. Need 1 day test with powered FE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sk array optimization finish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stained writing speed limit = 42-50 MB/s. Simultaneous writing @ 42 MB/s and reading @ 28 MB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ding one more disk writing cha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increase Mercury-disk rate to 28*2 = 56 MB/s or 560 Hz. Guarante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AQ code &amp; designs are in C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0E1-2F85-4D0D-B422-EE40C07626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784080"/>
          <a:ext cx="8763120" cy="533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4080"/>
                    <a:ext cx="876312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8E7-397B-4C8C-9ECB-B23EB4F808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7680" y="1447920"/>
            <a:ext cx="8321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icon to Mercur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700 ev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B/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ingle event data taking time = 1.4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 to UltraSPAR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ard 80 MB/s, soft 64 MB/s, achievable 50 MB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Q instantaneou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0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 MB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 CP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Q sustained: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330 ev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SPARC to dis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0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 MB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% CP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cord = event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 to disk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80 ev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8 MB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CP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Q program. There is a room for impr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to phobosx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0 ev/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reading and writing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MB/s write (4%CPU), 28 MB/s read (34%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to RCF.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 ev/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-30 MB/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est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BUS + VME combined 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574560"/>
            <a:ext cx="87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ASTBUS, real data from Silicon to Mercury, simulated data in the Merc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438280"/>
            <a:ext cx="129528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E2E-03A9-43C8-862B-9A7D8624F0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2120"/>
            <a:ext cx="84582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ong pedestals used for compression. Compression factor = 1, expected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BUS data transfer over Ethernet failed during last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transfer of FASTBUS and VME tested standalone but not yet in the DA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ed data files have final format but  bad compression and missing FASTB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783-C729-4300-A3C3-C8C6F5DB41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02002_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0666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3"/>
            <a:endCxn id="54" idx="1"/>
          </p:cNvCxnSpPr>
          <p:nvPr/>
        </p:nvCxnSpPr>
        <p:spPr>
          <a:xfrm>
            <a:off x="3200040" y="12949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7" name=""/>
          <p:cNvSpPr/>
          <p:nvPr/>
        </p:nvSpPr>
        <p:spPr>
          <a:xfrm>
            <a:off x="4343400" y="274320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3"/>
            <a:endCxn id="59" idx="1"/>
          </p:cNvCxnSpPr>
          <p:nvPr/>
        </p:nvCxnSpPr>
        <p:spPr>
          <a:xfrm>
            <a:off x="3884760" y="1295280"/>
            <a:ext cx="459360" cy="137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pic>
        <p:nvPicPr>
          <p:cNvPr id="60" name="PE02002_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5238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60" idx="1"/>
          </p:cNvCxnSpPr>
          <p:nvPr/>
        </p:nvCxnSpPr>
        <p:spPr>
          <a:xfrm>
            <a:off x="3200040" y="17521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60" idx="3"/>
            <a:endCxn id="64" idx="1"/>
          </p:cNvCxnSpPr>
          <p:nvPr/>
        </p:nvCxnSpPr>
        <p:spPr>
          <a:xfrm>
            <a:off x="3884760" y="1752480"/>
            <a:ext cx="45936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pic>
        <p:nvPicPr>
          <p:cNvPr id="65" name="PE02002_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19810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3"/>
            <a:endCxn id="65" idx="1"/>
          </p:cNvCxnSpPr>
          <p:nvPr/>
        </p:nvCxnSpPr>
        <p:spPr>
          <a:xfrm>
            <a:off x="3200040" y="22093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65" idx="3"/>
            <a:endCxn id="69" idx="1"/>
          </p:cNvCxnSpPr>
          <p:nvPr/>
        </p:nvCxnSpPr>
        <p:spPr>
          <a:xfrm>
            <a:off x="3884760" y="2209320"/>
            <a:ext cx="45936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9" name=""/>
          <p:cNvSpPr/>
          <p:nvPr/>
        </p:nvSpPr>
        <p:spPr>
          <a:xfrm>
            <a:off x="4343400" y="259092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438280"/>
            <a:ext cx="38088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28600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743200"/>
            <a:ext cx="38124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590920"/>
            <a:ext cx="38124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438280"/>
            <a:ext cx="38124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286000"/>
            <a:ext cx="38124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133720"/>
            <a:ext cx="38124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1981080"/>
            <a:ext cx="38124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E02002_" descr=""/>
          <p:cNvPicPr/>
          <p:nvPr/>
        </p:nvPicPr>
        <p:blipFill>
          <a:blip r:embed="rId4"/>
          <a:stretch/>
        </p:blipFill>
        <p:spPr>
          <a:xfrm>
            <a:off x="3429000" y="25909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3200" y="25909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3"/>
            <a:endCxn id="76" idx="1"/>
          </p:cNvCxnSpPr>
          <p:nvPr/>
        </p:nvCxnSpPr>
        <p:spPr>
          <a:xfrm>
            <a:off x="3200040" y="28191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9" name=""/>
          <p:cNvCxnSpPr>
            <a:stCxn id="76" idx="3"/>
            <a:endCxn id="80" idx="1"/>
          </p:cNvCxnSpPr>
          <p:nvPr/>
        </p:nvCxnSpPr>
        <p:spPr>
          <a:xfrm flipV="1">
            <a:off x="3884760" y="1904760"/>
            <a:ext cx="84024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pic>
        <p:nvPicPr>
          <p:cNvPr id="81" name="PE02002_" descr=""/>
          <p:cNvPicPr/>
          <p:nvPr/>
        </p:nvPicPr>
        <p:blipFill>
          <a:blip r:embed="rId5"/>
          <a:stretch/>
        </p:blipFill>
        <p:spPr>
          <a:xfrm>
            <a:off x="3429000" y="30481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43200" y="30481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3"/>
            <a:endCxn id="81" idx="1"/>
          </p:cNvCxnSpPr>
          <p:nvPr/>
        </p:nvCxnSpPr>
        <p:spPr>
          <a:xfrm>
            <a:off x="3200040" y="32763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81" idx="3"/>
            <a:endCxn id="57" idx="1"/>
          </p:cNvCxnSpPr>
          <p:nvPr/>
        </p:nvCxnSpPr>
        <p:spPr>
          <a:xfrm flipV="1">
            <a:off x="3884760" y="2819160"/>
            <a:ext cx="4593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pic>
        <p:nvPicPr>
          <p:cNvPr id="85" name="PE02002_" descr=""/>
          <p:cNvPicPr/>
          <p:nvPr/>
        </p:nvPicPr>
        <p:blipFill>
          <a:blip r:embed="rId6"/>
          <a:stretch/>
        </p:blipFill>
        <p:spPr>
          <a:xfrm>
            <a:off x="3429000" y="35053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3200" y="35053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3"/>
            <a:endCxn id="85" idx="1"/>
          </p:cNvCxnSpPr>
          <p:nvPr/>
        </p:nvCxnSpPr>
        <p:spPr>
          <a:xfrm>
            <a:off x="3200040" y="37335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8" name=""/>
          <p:cNvCxnSpPr>
            <a:stCxn id="85" idx="3"/>
            <a:endCxn id="75" idx="1"/>
          </p:cNvCxnSpPr>
          <p:nvPr/>
        </p:nvCxnSpPr>
        <p:spPr>
          <a:xfrm flipV="1">
            <a:off x="3884760" y="2056680"/>
            <a:ext cx="840240" cy="16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80" name=""/>
          <p:cNvSpPr/>
          <p:nvPr/>
        </p:nvSpPr>
        <p:spPr>
          <a:xfrm>
            <a:off x="4724280" y="1828800"/>
            <a:ext cx="38124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74320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59092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2438280"/>
            <a:ext cx="38088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28600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13372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981080"/>
            <a:ext cx="38088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828800"/>
            <a:ext cx="3808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3520" y="1219320"/>
            <a:ext cx="1371600" cy="688680"/>
          </a:xfrm>
          <a:prstGeom prst="rect">
            <a:avLst/>
          </a:prstGeom>
          <a:ln w="0">
            <a:noFill/>
          </a:ln>
        </p:spPr>
      </p:pic>
      <p:cxnSp>
        <p:nvCxnSpPr>
          <p:cNvPr id="97" name=""/>
          <p:cNvCxnSpPr>
            <a:stCxn id="98" idx="0"/>
            <a:endCxn id="55" idx="1"/>
          </p:cNvCxnSpPr>
          <p:nvPr/>
        </p:nvCxnSpPr>
        <p:spPr>
          <a:xfrm flipV="1">
            <a:off x="1905120" y="1294920"/>
            <a:ext cx="838800" cy="53424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8" idx="1"/>
            <a:endCxn id="61" idx="1"/>
          </p:cNvCxnSpPr>
          <p:nvPr/>
        </p:nvCxnSpPr>
        <p:spPr>
          <a:xfrm flipV="1">
            <a:off x="1905120" y="1752480"/>
            <a:ext cx="838800" cy="7668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00" name=""/>
          <p:cNvCxnSpPr>
            <a:stCxn id="98" idx="1"/>
            <a:endCxn id="66" idx="1"/>
          </p:cNvCxnSpPr>
          <p:nvPr/>
        </p:nvCxnSpPr>
        <p:spPr>
          <a:xfrm>
            <a:off x="1905120" y="1828800"/>
            <a:ext cx="838800" cy="38160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01" name=""/>
          <p:cNvCxnSpPr>
            <a:stCxn id="102" idx="0"/>
            <a:endCxn id="77" idx="1"/>
          </p:cNvCxnSpPr>
          <p:nvPr/>
        </p:nvCxnSpPr>
        <p:spPr>
          <a:xfrm flipV="1">
            <a:off x="1905120" y="2819160"/>
            <a:ext cx="838800" cy="30528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03" name=""/>
          <p:cNvCxnSpPr>
            <a:stCxn id="102" idx="1"/>
            <a:endCxn id="82" idx="1"/>
          </p:cNvCxnSpPr>
          <p:nvPr/>
        </p:nvCxnSpPr>
        <p:spPr>
          <a:xfrm>
            <a:off x="1905120" y="3124080"/>
            <a:ext cx="838800" cy="15336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04" name=""/>
          <p:cNvCxnSpPr>
            <a:stCxn id="102" idx="1"/>
            <a:endCxn id="86" idx="1"/>
          </p:cNvCxnSpPr>
          <p:nvPr/>
        </p:nvCxnSpPr>
        <p:spPr>
          <a:xfrm>
            <a:off x="1905120" y="3124080"/>
            <a:ext cx="838800" cy="61056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33520" y="251460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28800" y="1828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6327720" y="2971800"/>
            <a:ext cx="682920" cy="45792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sp>
        <p:nvSpPr>
          <p:cNvPr id="109" name=""/>
          <p:cNvSpPr/>
          <p:nvPr/>
        </p:nvSpPr>
        <p:spPr>
          <a:xfrm>
            <a:off x="533520" y="1905120"/>
            <a:ext cx="1447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bers from DMU crates @ 2*12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038480"/>
            <a:ext cx="129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*15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2952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715000" y="1600200"/>
          <a:ext cx="122544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1600200"/>
                    <a:ext cx="1225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114800" y="1295280"/>
            <a:ext cx="297180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505320"/>
            <a:ext cx="129564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3505320"/>
            <a:ext cx="1371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PDP link to UltraSP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@ 5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05120" y="476568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work up to 7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6D2-636C-4AB1-AA7E-CC89FFC83E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ing, potential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02002_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10666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3"/>
            <a:endCxn id="119" idx="1"/>
          </p:cNvCxnSpPr>
          <p:nvPr/>
        </p:nvCxnSpPr>
        <p:spPr>
          <a:xfrm>
            <a:off x="3200040" y="12949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"/>
          <p:cNvCxnSpPr>
            <a:stCxn id="119" idx="3"/>
            <a:endCxn id="123" idx="1"/>
          </p:cNvCxnSpPr>
          <p:nvPr/>
        </p:nvCxnSpPr>
        <p:spPr>
          <a:xfrm>
            <a:off x="3884400" y="129492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4" name="PE02002_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43200" y="15238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3"/>
            <a:endCxn id="124" idx="1"/>
          </p:cNvCxnSpPr>
          <p:nvPr/>
        </p:nvCxnSpPr>
        <p:spPr>
          <a:xfrm>
            <a:off x="3200040" y="17521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7" name=""/>
          <p:cNvCxnSpPr>
            <a:stCxn id="124" idx="3"/>
            <a:endCxn id="128" idx="1"/>
          </p:cNvCxnSpPr>
          <p:nvPr/>
        </p:nvCxnSpPr>
        <p:spPr>
          <a:xfrm>
            <a:off x="3884400" y="175212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9" name="PE02002_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43200" y="19810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9" idx="1"/>
          </p:cNvCxnSpPr>
          <p:nvPr/>
        </p:nvCxnSpPr>
        <p:spPr>
          <a:xfrm>
            <a:off x="3200040" y="22093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2" name=""/>
          <p:cNvCxnSpPr>
            <a:stCxn id="129" idx="3"/>
            <a:endCxn id="133" idx="1"/>
          </p:cNvCxnSpPr>
          <p:nvPr/>
        </p:nvCxnSpPr>
        <p:spPr>
          <a:xfrm>
            <a:off x="3884400" y="220932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4" name="PE02002_" descr=""/>
          <p:cNvPicPr/>
          <p:nvPr/>
        </p:nvPicPr>
        <p:blipFill>
          <a:blip r:embed="rId4"/>
          <a:stretch/>
        </p:blipFill>
        <p:spPr>
          <a:xfrm>
            <a:off x="3429000" y="25909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25909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3"/>
            <a:endCxn id="134" idx="1"/>
          </p:cNvCxnSpPr>
          <p:nvPr/>
        </p:nvCxnSpPr>
        <p:spPr>
          <a:xfrm>
            <a:off x="3200040" y="28191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7" name=""/>
          <p:cNvCxnSpPr>
            <a:stCxn id="134" idx="3"/>
            <a:endCxn id="138" idx="1"/>
          </p:cNvCxnSpPr>
          <p:nvPr/>
        </p:nvCxnSpPr>
        <p:spPr>
          <a:xfrm>
            <a:off x="3884400" y="281916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9" name="PE02002_" descr=""/>
          <p:cNvPicPr/>
          <p:nvPr/>
        </p:nvPicPr>
        <p:blipFill>
          <a:blip r:embed="rId5"/>
          <a:stretch/>
        </p:blipFill>
        <p:spPr>
          <a:xfrm>
            <a:off x="3429000" y="30481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3200" y="30481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3"/>
            <a:endCxn id="139" idx="1"/>
          </p:cNvCxnSpPr>
          <p:nvPr/>
        </p:nvCxnSpPr>
        <p:spPr>
          <a:xfrm>
            <a:off x="3200040" y="32763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39" idx="3"/>
            <a:endCxn id="143" idx="1"/>
          </p:cNvCxnSpPr>
          <p:nvPr/>
        </p:nvCxnSpPr>
        <p:spPr>
          <a:xfrm>
            <a:off x="3884400" y="327636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4" name="PE02002_" descr=""/>
          <p:cNvPicPr/>
          <p:nvPr/>
        </p:nvPicPr>
        <p:blipFill>
          <a:blip r:embed="rId6"/>
          <a:stretch/>
        </p:blipFill>
        <p:spPr>
          <a:xfrm>
            <a:off x="3429000" y="350532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43200" y="35053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44" idx="1"/>
          </p:cNvCxnSpPr>
          <p:nvPr/>
        </p:nvCxnSpPr>
        <p:spPr>
          <a:xfrm>
            <a:off x="3200040" y="37335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7" name=""/>
          <p:cNvCxnSpPr>
            <a:stCxn id="144" idx="3"/>
            <a:endCxn id="148" idx="1"/>
          </p:cNvCxnSpPr>
          <p:nvPr/>
        </p:nvCxnSpPr>
        <p:spPr>
          <a:xfrm>
            <a:off x="3884400" y="3733560"/>
            <a:ext cx="230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533520" y="1219320"/>
            <a:ext cx="1371600" cy="688680"/>
          </a:xfrm>
          <a:prstGeom prst="rect">
            <a:avLst/>
          </a:prstGeom>
          <a:ln w="0">
            <a:noFill/>
          </a:ln>
        </p:spPr>
      </p:pic>
      <p:cxnSp>
        <p:nvCxnSpPr>
          <p:cNvPr id="150" name=""/>
          <p:cNvCxnSpPr>
            <a:stCxn id="151" idx="0"/>
            <a:endCxn id="120" idx="1"/>
          </p:cNvCxnSpPr>
          <p:nvPr/>
        </p:nvCxnSpPr>
        <p:spPr>
          <a:xfrm flipV="1">
            <a:off x="1905120" y="1294920"/>
            <a:ext cx="838800" cy="53424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52" name=""/>
          <p:cNvCxnSpPr>
            <a:stCxn id="151" idx="1"/>
            <a:endCxn id="125" idx="1"/>
          </p:cNvCxnSpPr>
          <p:nvPr/>
        </p:nvCxnSpPr>
        <p:spPr>
          <a:xfrm flipV="1">
            <a:off x="1905120" y="1752480"/>
            <a:ext cx="838800" cy="7668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53" name=""/>
          <p:cNvCxnSpPr>
            <a:stCxn id="151" idx="1"/>
            <a:endCxn id="130" idx="1"/>
          </p:cNvCxnSpPr>
          <p:nvPr/>
        </p:nvCxnSpPr>
        <p:spPr>
          <a:xfrm>
            <a:off x="1905120" y="1828800"/>
            <a:ext cx="838800" cy="38160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54" name=""/>
          <p:cNvCxnSpPr>
            <a:stCxn id="155" idx="0"/>
            <a:endCxn id="135" idx="1"/>
          </p:cNvCxnSpPr>
          <p:nvPr/>
        </p:nvCxnSpPr>
        <p:spPr>
          <a:xfrm flipV="1">
            <a:off x="1905120" y="2819160"/>
            <a:ext cx="838800" cy="30528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56" name=""/>
          <p:cNvCxnSpPr>
            <a:stCxn id="155" idx="1"/>
            <a:endCxn id="140" idx="1"/>
          </p:cNvCxnSpPr>
          <p:nvPr/>
        </p:nvCxnSpPr>
        <p:spPr>
          <a:xfrm>
            <a:off x="1905120" y="3124080"/>
            <a:ext cx="838800" cy="15336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cxnSp>
        <p:nvCxnSpPr>
          <p:cNvPr id="157" name=""/>
          <p:cNvCxnSpPr>
            <a:stCxn id="155" idx="1"/>
            <a:endCxn id="145" idx="1"/>
          </p:cNvCxnSpPr>
          <p:nvPr/>
        </p:nvCxnSpPr>
        <p:spPr>
          <a:xfrm>
            <a:off x="1905120" y="3124080"/>
            <a:ext cx="838800" cy="610560"/>
          </a:xfrm>
          <a:prstGeom prst="straightConnector1">
            <a:avLst/>
          </a:prstGeom>
          <a:ln w="101520">
            <a:solidFill>
              <a:srgbClr val="666699"/>
            </a:solidFill>
            <a:miter/>
            <a:tailEnd len="med" type="triangle" w="sm"/>
          </a:ln>
        </p:spPr>
      </p:cxnSp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33520" y="251460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28800" y="1828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05120"/>
            <a:ext cx="1371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bers from DMU crates @ 12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038480"/>
            <a:ext cx="129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*15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505320"/>
            <a:ext cx="205740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81480" y="1676520"/>
            <a:ext cx="2438280" cy="2940120"/>
            <a:chOff x="5181480" y="1676520"/>
            <a:chExt cx="2438280" cy="2940120"/>
          </a:xfrm>
        </p:grpSpPr>
        <p:cxnSp>
          <p:nvCxnSpPr>
            <p:cNvPr id="165" name=""/>
            <p:cNvCxnSpPr/>
            <p:nvPr/>
          </p:nvCxnSpPr>
          <p:spPr>
            <a:xfrm>
              <a:off x="6251400" y="3352320"/>
              <a:ext cx="682920" cy="457560"/>
            </a:xfrm>
            <a:prstGeom prst="straightConnector1">
              <a:avLst/>
            </a:prstGeom>
            <a:ln w="101520">
              <a:solidFill>
                <a:srgbClr val="666699"/>
              </a:solidFill>
              <a:miter/>
              <a:tailEnd len="med" type="triangle" w="sm"/>
            </a:ln>
          </p:spPr>
        </p:cxnSp>
        <p:sp>
          <p:nvSpPr>
            <p:cNvPr id="166" name=""/>
            <p:cNvSpPr/>
            <p:nvPr/>
          </p:nvSpPr>
          <p:spPr>
            <a:xfrm>
              <a:off x="5410080" y="167652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ll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5638680" y="1981080"/>
            <a:ext cx="1225440" cy="1371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38680" y="1981080"/>
                      <a:ext cx="1225440" cy="137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5181480" y="1676520"/>
              <a:ext cx="1828800" cy="175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160" y="38862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PDP link to UltraSP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@ 50 MB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114800" y="10666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15238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198108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5909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0481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457200" cy="4572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23" idx="3"/>
            <a:endCxn id="169" idx="1"/>
          </p:cNvCxnSpPr>
          <p:nvPr/>
        </p:nvCxnSpPr>
        <p:spPr>
          <a:xfrm>
            <a:off x="4571640" y="1294920"/>
            <a:ext cx="610200" cy="12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28" idx="3"/>
            <a:endCxn id="169" idx="1"/>
          </p:cNvCxnSpPr>
          <p:nvPr/>
        </p:nvCxnSpPr>
        <p:spPr>
          <a:xfrm>
            <a:off x="4571640" y="1752120"/>
            <a:ext cx="610200" cy="80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33" idx="3"/>
            <a:endCxn id="169" idx="1"/>
          </p:cNvCxnSpPr>
          <p:nvPr/>
        </p:nvCxnSpPr>
        <p:spPr>
          <a:xfrm>
            <a:off x="4571640" y="2209320"/>
            <a:ext cx="610200" cy="34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38" idx="3"/>
            <a:endCxn id="169" idx="1"/>
          </p:cNvCxnSpPr>
          <p:nvPr/>
        </p:nvCxnSpPr>
        <p:spPr>
          <a:xfrm flipV="1">
            <a:off x="4571640" y="2552400"/>
            <a:ext cx="610200" cy="26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3" idx="3"/>
            <a:endCxn id="169" idx="1"/>
          </p:cNvCxnSpPr>
          <p:nvPr/>
        </p:nvCxnSpPr>
        <p:spPr>
          <a:xfrm flipV="1">
            <a:off x="4571640" y="2552040"/>
            <a:ext cx="610200" cy="72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8" idx="3"/>
            <a:endCxn id="169" idx="1"/>
          </p:cNvCxnSpPr>
          <p:nvPr/>
        </p:nvCxnSpPr>
        <p:spPr>
          <a:xfrm flipV="1">
            <a:off x="4571640" y="2552040"/>
            <a:ext cx="610200" cy="11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A1D-99B3-4FFB-A069-C2CB74FD17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638680" y="1600200"/>
            <a:ext cx="335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hardw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DP-PMC interface, $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 PMC board, $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SCSI-PCI interface, $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Gigabit interface, $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enclosure, $2.5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*180 GB disks, $8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par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disk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ra 5 will be overloaded. Upgrading to double CPU  will cost $15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the writ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2280" y="527040"/>
            <a:ext cx="69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Grad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ing two UltraSPARCs and two disk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rate210a" descr=""/>
          <p:cNvPicPr/>
          <p:nvPr/>
        </p:nvPicPr>
        <p:blipFill>
          <a:blip r:embed="rId1"/>
          <a:stretch/>
        </p:blipFill>
        <p:spPr>
          <a:xfrm>
            <a:off x="0" y="1143000"/>
            <a:ext cx="541008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8D1-240E-4441-A037-89A4C069B7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410080" y="1600200"/>
            <a:ext cx="3581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hardw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- RACEway, $6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RAID controller, $4.4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HBA, $2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Gigabit interface, $1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ury to disk directly @10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file systems on the disk array. How PFTP to RCF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ata should be available in Mercu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the writ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335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ad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riting from Mercury to disk array directly over fiber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rate210" descr=""/>
          <p:cNvPicPr/>
          <p:nvPr/>
        </p:nvPicPr>
        <p:blipFill>
          <a:blip r:embed="rId1"/>
          <a:stretch/>
        </p:blipFill>
        <p:spPr>
          <a:xfrm>
            <a:off x="0" y="1447920"/>
            <a:ext cx="5257800" cy="42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8F5-5ED5-4956-9C09-7C3D0BC876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762120"/>
            <a:ext cx="545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bus and VME over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bus and VME over c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to on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Phat on CVS with final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venient handling of pedes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429000"/>
            <a:ext cx="54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aul of the L0/L1/L2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the XLM mo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48D-8ED7-47BD-8135-BA0178C80C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4:11:43Z</dcterms:created>
  <dc:creator>Andrei</dc:creator>
  <dc:description/>
  <dc:language>en-US</dc:language>
  <cp:lastModifiedBy>Andrei</cp:lastModifiedBy>
  <dcterms:modified xsi:type="dcterms:W3CDTF">2002-10-05T14:04:13Z</dcterms:modified>
  <cp:revision>28</cp:revision>
  <dc:subject/>
  <dc:title>PHOBOS DAQ  Status</dc:title>
</cp:coreProperties>
</file>