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53C-8B79-45DF-B48D-EE56AF5E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649-2968-43DC-863E-0212B4C6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D07-B5CE-48FD-BFE6-DC1D9389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8E8-7814-4537-A071-0FFBB233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4FD-EB47-492D-8DCE-1F9CD1B7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799-EC95-4B0A-B704-0989D969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F93-A471-443A-9C75-C5F651BB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135-7AD1-4F9A-9AB9-B2D23F05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B2D-A1E1-45D4-93A0-75D55655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417-9162-4407-940E-88F92DCB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705-A273-4DFB-9547-CAD7D08E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D27-07F5-4BD5-BFFD-D991356A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B2F9-4B8C-488A-A293-58F1CA76B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BOS DAQ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6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7520" y="1376280"/>
          <a:ext cx="9090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1376280"/>
                    <a:ext cx="9090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6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4:11:43Z</dcterms:created>
  <dc:creator>Andrei</dc:creator>
  <dc:description/>
  <dc:language>en-US</dc:language>
  <cp:lastModifiedBy>Andrei</cp:lastModifiedBy>
  <dcterms:modified xsi:type="dcterms:W3CDTF">2002-09-06T14:21:05Z</dcterms:modified>
  <cp:revision>3</cp:revision>
  <dc:subject/>
  <dc:title>PHOBOS DAQ  Status</dc:title>
</cp:coreProperties>
</file>