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8336-CFB6-4F84-B382-ADB7F1C9B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7631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746880"/>
            <a:ext cx="87631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C536-92A9-43C2-9194-9CF32F0E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880" y="76176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74688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880" y="374688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C167-0E6E-4D73-B13B-45DAF00BB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2821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1400" y="761760"/>
            <a:ext cx="2821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4200" y="761760"/>
            <a:ext cx="2821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746880"/>
            <a:ext cx="2821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1400" y="3746880"/>
            <a:ext cx="2821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4200" y="3746880"/>
            <a:ext cx="2821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E518-352C-4543-B5C8-895534368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7617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A83C-B51C-44C0-86EF-99FDD64B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BBD4-B9C5-4A2D-8DC0-6A7C0D48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427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880" y="761760"/>
            <a:ext cx="427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A261-2BC7-44F8-840E-E4CB4E06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F0BA-6B28-48CF-AD92-52083EAF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4CB6-EF72-4059-82BF-6D2D5110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880" y="761760"/>
            <a:ext cx="427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74688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BF82-AA0F-4A6A-96C8-70D0F79C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427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880" y="76176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880" y="374688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10BE-F8CA-439F-8DA4-C3DB421F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880" y="76176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746880"/>
            <a:ext cx="87631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C21F-72EF-407E-A3DD-5A11F745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7617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F2C9-254E-4011-8169-A52EBCF78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7680" y="685800"/>
            <a:ext cx="8321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essfu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Q t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Oct 18. New data files written with Silicon and Fast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at upda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Support for compressed/uncompressed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16 of Corey joined the DAQ team. Thanks to him the pedestal macro was able to process new data format. Old and new compressed/uncompressed data formats suppor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inor modification made to data format on request from Corey and Marguerite. Will be applied for next data f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 for on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implemen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validation did not run yet due to missing magnet information in the DataBase. The MAGMON computer fixed and ready for next DAQ ru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B TDC8 (TrigBits) sent for repair, replaced by LeCroy 1872A 100 ps resolution, 400 ns r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Q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1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Q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ess rehearsal on Nov 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ME readout (beta version) should be ready by Nov 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pedestal calculation for DAQ. Expect compression factor 5 for dress rehears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0 modifications to fix old FastBus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0 and L1 modifications for new trigger log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1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1T14:24:45Z</dcterms:created>
  <dc:creator>Andrei</dc:creator>
  <dc:description/>
  <dc:language>en-US</dc:language>
  <cp:lastModifiedBy>Andrei</cp:lastModifiedBy>
  <dcterms:modified xsi:type="dcterms:W3CDTF">2002-11-01T15:20:24Z</dcterms:modified>
  <cp:revision>3</cp:revision>
  <dc:subject/>
  <dc:title>DAQ Status</dc:title>
</cp:coreProperties>
</file>