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78A1-27EB-4FC0-80EB-944655212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121680"/>
            <a:ext cx="6858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0600" y="638280"/>
            <a:ext cx="6450120" cy="382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10600" y="4823640"/>
            <a:ext cx="6450120" cy="382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7362-3BAC-4CCF-8C1E-5B34D59C9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121680"/>
            <a:ext cx="6858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10600" y="638280"/>
            <a:ext cx="3147480" cy="382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15760" y="638280"/>
            <a:ext cx="3147480" cy="382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10600" y="4823640"/>
            <a:ext cx="3147480" cy="382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15760" y="4823640"/>
            <a:ext cx="3147480" cy="382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27D7-15D9-461C-8F5C-A971B18BD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121680"/>
            <a:ext cx="6858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10600" y="638280"/>
            <a:ext cx="2076840" cy="382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91840" y="638280"/>
            <a:ext cx="2076840" cy="382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720" y="638280"/>
            <a:ext cx="2076840" cy="382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10600" y="4823640"/>
            <a:ext cx="2076840" cy="382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91840" y="4823640"/>
            <a:ext cx="2076840" cy="382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72720" y="4823640"/>
            <a:ext cx="2076840" cy="382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57E8-4DB4-4E26-A16B-BECD3254C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121680"/>
            <a:ext cx="6858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10600" y="638280"/>
            <a:ext cx="6450120" cy="801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103B-5C19-43CF-937E-37CF29CA8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121680"/>
            <a:ext cx="6858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10600" y="638280"/>
            <a:ext cx="6450120" cy="801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2E6C-DB03-4C73-BA8D-D325B51DD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121680"/>
            <a:ext cx="6858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10600" y="638280"/>
            <a:ext cx="3147480" cy="801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15760" y="638280"/>
            <a:ext cx="3147480" cy="801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2809-9D21-443E-B271-03C815482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121680"/>
            <a:ext cx="6858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E77B-0980-447B-A8F3-2C731EAA0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6858000" cy="185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7945-1095-4B11-89E6-1864A8D7A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121680"/>
            <a:ext cx="6858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10600" y="638280"/>
            <a:ext cx="3147480" cy="382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15760" y="638280"/>
            <a:ext cx="3147480" cy="801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10600" y="4823640"/>
            <a:ext cx="3147480" cy="382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0BE4-F3C9-4636-B3F1-CB0281C58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121680"/>
            <a:ext cx="6858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0600" y="638280"/>
            <a:ext cx="3147480" cy="801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15760" y="638280"/>
            <a:ext cx="3147480" cy="382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15760" y="4823640"/>
            <a:ext cx="3147480" cy="382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7D22-5FB8-4467-9FFC-1778512FB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121680"/>
            <a:ext cx="6858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0600" y="638280"/>
            <a:ext cx="3147480" cy="382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15760" y="638280"/>
            <a:ext cx="3147480" cy="382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10600" y="4823640"/>
            <a:ext cx="6450120" cy="382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203A-C973-4891-AABF-19A94E592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85800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10600" y="638280"/>
            <a:ext cx="6450120" cy="801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8880480"/>
            <a:ext cx="10699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886960"/>
            <a:ext cx="217152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41840" y="8900640"/>
            <a:ext cx="4158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1ED59-BF01-4A07-9280-21562B3AF0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20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1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2.png"/><Relationship Id="rId1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228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Q statu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erformance of the Mercury part of the DAQ = 234 Hz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eiving program on vmesparc receives the event from Mercury and immediately acknowledge it. No DMA transfer. No FASTBUS. Internally generated dat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cepted rate = 234 Hz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e of errors = 1 H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y s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rcury output queue is always emp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MC%20loopback%20low%20rate" descr=""/>
          <p:cNvPicPr/>
          <p:nvPr/>
        </p:nvPicPr>
        <p:blipFill>
          <a:blip r:embed="rId1"/>
          <a:srcRect l="7339" t="18994" r="16819" b="17849"/>
          <a:stretch/>
        </p:blipFill>
        <p:spPr>
          <a:xfrm>
            <a:off x="304920" y="2209680"/>
            <a:ext cx="3124080" cy="2795760"/>
          </a:xfrm>
          <a:prstGeom prst="rect">
            <a:avLst/>
          </a:prstGeom>
          <a:ln w="0">
            <a:noFill/>
          </a:ln>
        </p:spPr>
      </p:pic>
      <p:pic>
        <p:nvPicPr>
          <p:cNvPr id="43" name="MC%20loopback%20high%20rate" descr=""/>
          <p:cNvPicPr/>
          <p:nvPr/>
        </p:nvPicPr>
        <p:blipFill>
          <a:blip r:embed="rId2"/>
          <a:srcRect l="0" t="0" r="-883" b="0"/>
          <a:stretch/>
        </p:blipFill>
        <p:spPr>
          <a:xfrm>
            <a:off x="3429000" y="2209680"/>
            <a:ext cx="3124080" cy="28242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971800" y="25909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AQ Bus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71800" y="3124080"/>
            <a:ext cx="5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te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971800" y="3581280"/>
            <a:ext cx="609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Val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971800" y="4343400"/>
            <a:ext cx="609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te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2280" y="5029200"/>
            <a:ext cx="2667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ig x. Slow input r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5029200"/>
            <a:ext cx="2666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ig x. High input r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5573880"/>
            <a:ext cx="68580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erformance without writing and without FASTBUS = 190 Hz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mesparc us=15%, sy=15%, id=7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No%20FASTBUS,%20writing%20off" descr=""/>
          <p:cNvPicPr/>
          <p:nvPr/>
        </p:nvPicPr>
        <p:blipFill>
          <a:blip r:embed="rId3"/>
          <a:stretch/>
        </p:blipFill>
        <p:spPr>
          <a:xfrm>
            <a:off x="3124080" y="6095880"/>
            <a:ext cx="3429000" cy="25257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47840" y="6284880"/>
            <a:ext cx="2604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cepted rate = 190 H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e of errors ~ 1H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y s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rcury output queue is always emp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drei Sukhanov, BN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12E6-9F09-43E5-B68A-EB948B91DD0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247680" y="6400800"/>
            <a:ext cx="615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5/21/2002 Trying to place output queue EBQueue on an inactive work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0" y="361800"/>
          <a:ext cx="3425760" cy="23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61800"/>
                    <a:ext cx="3425760" cy="23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"/>
          <p:cNvSpPr/>
          <p:nvPr/>
        </p:nvSpPr>
        <p:spPr>
          <a:xfrm>
            <a:off x="0" y="2789280"/>
            <a:ext cx="3429000" cy="2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9000" bIns="9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g 205151. Polling for the trig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824200" y="2095560"/>
            <a:ext cx="585720" cy="2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45720" tIns="9000" bIns="9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852640" y="1447920"/>
            <a:ext cx="547920" cy="2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45720" tIns="9000" bIns="9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Val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3441600" y="361800"/>
          <a:ext cx="3416400" cy="2367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41600" y="361800"/>
                    <a:ext cx="3416400" cy="236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"/>
          <p:cNvSpPr/>
          <p:nvPr/>
        </p:nvSpPr>
        <p:spPr>
          <a:xfrm>
            <a:off x="3429000" y="2789280"/>
            <a:ext cx="34290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9000" bIns="9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g 205152. Polling for the trigg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ouble events. Intermittent data transf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drei Sukhanov, BN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F0EA-5E14-49AE-949F-5D6A01FA8E0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5" name=""/>
          <p:cNvGraphicFramePr/>
          <p:nvPr/>
        </p:nvGraphicFramePr>
        <p:xfrm>
          <a:off x="0" y="204840"/>
          <a:ext cx="3429000" cy="23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4840"/>
                    <a:ext cx="3429000" cy="23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"/>
          <p:cNvSpPr/>
          <p:nvPr/>
        </p:nvSpPr>
        <p:spPr>
          <a:xfrm>
            <a:off x="0" y="2637000"/>
            <a:ext cx="3429000" cy="2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9000" bIns="9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g 205211. EBQueue on empty 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433680" y="208080"/>
          <a:ext cx="3424320" cy="2387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33680" y="208080"/>
                    <a:ext cx="3424320" cy="23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"/>
          <p:cNvSpPr/>
          <p:nvPr/>
        </p:nvSpPr>
        <p:spPr>
          <a:xfrm>
            <a:off x="3429000" y="2637000"/>
            <a:ext cx="3429000" cy="2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9000" bIns="9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g 205212. Example of RINT time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0" y="2836800"/>
          <a:ext cx="3402000" cy="2386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2836800"/>
                    <a:ext cx="3402000" cy="23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"/>
          <p:cNvSpPr/>
          <p:nvPr/>
        </p:nvSpPr>
        <p:spPr>
          <a:xfrm>
            <a:off x="0" y="5222880"/>
            <a:ext cx="3429000" cy="5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9000" bIns="9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g 205213. EBQueue is on the mas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data transfer is intermittent. RACEway congestio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3427560" y="5911920"/>
          <a:ext cx="3430440" cy="2359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427560" y="5911920"/>
                    <a:ext cx="3430440" cy="23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"/>
          <p:cNvSpPr/>
          <p:nvPr/>
        </p:nvSpPr>
        <p:spPr>
          <a:xfrm>
            <a:off x="3429000" y="5222880"/>
            <a:ext cx="34290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9000" bIns="9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g 205214. EBQueue is on the mas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processing time is longer, 8.4 ms vs. 7.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3429000" y="2852640"/>
          <a:ext cx="3390840" cy="2370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429000" y="2852640"/>
                    <a:ext cx="3390840" cy="237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-6480" y="5877000"/>
          <a:ext cx="3435480" cy="23940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-6480" y="5877000"/>
                    <a:ext cx="3435480" cy="239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"/>
          <p:cNvSpPr/>
          <p:nvPr/>
        </p:nvSpPr>
        <p:spPr>
          <a:xfrm>
            <a:off x="0" y="8271000"/>
            <a:ext cx="3429000" cy="5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9000" bIns="9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g 205215. EBQueue is on the mas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ECs on. Event size is 108 kB. On previous pictures it was 300 k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429000" y="8271000"/>
            <a:ext cx="34290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9000" bIns="9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g 205216. Same as before but double event.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t can run at ~ 400 Hz 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124680" y="6286680"/>
            <a:ext cx="676080" cy="607680"/>
          </a:xfrm>
          <a:prstGeom prst="wedgeRoundRectCallout">
            <a:avLst>
              <a:gd name="adj1" fmla="val -92486"/>
              <a:gd name="adj2" fmla="val -65925"/>
              <a:gd name="adj3" fmla="val 16667"/>
            </a:avLst>
          </a:prstGeom>
          <a:solidFill>
            <a:srgbClr val="ccffff">
              <a:alpha val="5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" rIns="900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ond event finished @ 8.5 m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529240" y="5904000"/>
            <a:ext cx="112680" cy="197280"/>
          </a:xfrm>
          <a:prstGeom prst="wedgeRoundRectCallout">
            <a:avLst>
              <a:gd name="adj1" fmla="val -176750"/>
              <a:gd name="adj2" fmla="val 185333"/>
              <a:gd name="adj3" fmla="val 16667"/>
            </a:avLst>
          </a:prstGeom>
          <a:solidFill>
            <a:srgbClr val="ccffff">
              <a:alpha val="5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" rIns="900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410080" y="5904000"/>
            <a:ext cx="112680" cy="197280"/>
          </a:xfrm>
          <a:prstGeom prst="wedgeRoundRectCallout">
            <a:avLst>
              <a:gd name="adj1" fmla="val -108916"/>
              <a:gd name="adj2" fmla="val 223949"/>
              <a:gd name="adj3" fmla="val 16667"/>
            </a:avLst>
          </a:prstGeom>
          <a:solidFill>
            <a:srgbClr val="ccffff">
              <a:alpha val="5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" rIns="900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067360" y="5913360"/>
            <a:ext cx="112680" cy="197280"/>
          </a:xfrm>
          <a:prstGeom prst="wedgeRoundRectCallout">
            <a:avLst>
              <a:gd name="adj1" fmla="val -62416"/>
              <a:gd name="adj2" fmla="val 231236"/>
              <a:gd name="adj3" fmla="val 16667"/>
            </a:avLst>
          </a:prstGeom>
          <a:solidFill>
            <a:srgbClr val="ccffff">
              <a:alpha val="5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" rIns="900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3880" y="6843600"/>
            <a:ext cx="676440" cy="446040"/>
          </a:xfrm>
          <a:prstGeom prst="wedgeRoundRectCallout">
            <a:avLst>
              <a:gd name="adj1" fmla="val -48824"/>
              <a:gd name="adj2" fmla="val -86652"/>
              <a:gd name="adj3" fmla="val 16667"/>
            </a:avLst>
          </a:prstGeom>
          <a:solidFill>
            <a:srgbClr val="ccffff">
              <a:alpha val="5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" rIns="900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ond transfer finished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686480" y="5918040"/>
            <a:ext cx="112680" cy="197280"/>
          </a:xfrm>
          <a:prstGeom prst="wedgeRoundRectCallout">
            <a:avLst>
              <a:gd name="adj1" fmla="val -197768"/>
              <a:gd name="adj2" fmla="val 495537"/>
              <a:gd name="adj3" fmla="val 16667"/>
            </a:avLst>
          </a:prstGeom>
          <a:solidFill>
            <a:srgbClr val="ccffff">
              <a:alpha val="5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" rIns="900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452840" y="5904000"/>
            <a:ext cx="112680" cy="197280"/>
          </a:xfrm>
          <a:prstGeom prst="wedgeRoundRectCallout">
            <a:avLst>
              <a:gd name="adj1" fmla="val -41722"/>
              <a:gd name="adj2" fmla="val 182967"/>
              <a:gd name="adj3" fmla="val 16667"/>
            </a:avLst>
          </a:prstGeom>
          <a:solidFill>
            <a:srgbClr val="ccffff">
              <a:alpha val="5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" rIns="900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572000" y="5908680"/>
            <a:ext cx="112680" cy="197280"/>
          </a:xfrm>
          <a:prstGeom prst="wedgeRoundRectCallout">
            <a:avLst>
              <a:gd name="adj1" fmla="val -130254"/>
              <a:gd name="adj2" fmla="val 233606"/>
              <a:gd name="adj3" fmla="val 16667"/>
            </a:avLst>
          </a:prstGeom>
          <a:solidFill>
            <a:srgbClr val="ccffff">
              <a:alpha val="5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" rIns="900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262400" y="5908680"/>
            <a:ext cx="112680" cy="197280"/>
          </a:xfrm>
          <a:prstGeom prst="wedgeRoundRectCallout">
            <a:avLst>
              <a:gd name="adj1" fmla="val 93629"/>
              <a:gd name="adj2" fmla="val 491893"/>
              <a:gd name="adj3" fmla="val 16667"/>
            </a:avLst>
          </a:prstGeom>
          <a:solidFill>
            <a:srgbClr val="ccffff">
              <a:alpha val="5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" rIns="900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335480" y="5765760"/>
            <a:ext cx="112680" cy="197280"/>
          </a:xfrm>
          <a:prstGeom prst="wedgeRoundRectCallout">
            <a:avLst>
              <a:gd name="adj1" fmla="val 54138"/>
              <a:gd name="adj2" fmla="val 243259"/>
              <a:gd name="adj3" fmla="val 16667"/>
            </a:avLst>
          </a:prstGeom>
          <a:solidFill>
            <a:srgbClr val="ccffff">
              <a:alpha val="5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" rIns="900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925800" y="5751360"/>
            <a:ext cx="112680" cy="197280"/>
          </a:xfrm>
          <a:prstGeom prst="wedgeRoundRectCallout">
            <a:avLst>
              <a:gd name="adj1" fmla="val 108916"/>
              <a:gd name="adj2" fmla="val 166754"/>
              <a:gd name="adj3" fmla="val 16667"/>
            </a:avLst>
          </a:prstGeom>
          <a:solidFill>
            <a:srgbClr val="ccffff">
              <a:alpha val="5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" rIns="900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186520" y="7386480"/>
            <a:ext cx="652320" cy="632160"/>
          </a:xfrm>
          <a:prstGeom prst="wedgeRoundRectCallout">
            <a:avLst>
              <a:gd name="adj1" fmla="val -201337"/>
              <a:gd name="adj2" fmla="val -142962"/>
              <a:gd name="adj3" fmla="val 16667"/>
            </a:avLst>
          </a:prstGeom>
          <a:solidFill>
            <a:srgbClr val="ccffff">
              <a:alpha val="5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" rIns="900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ew trigger during transf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drei Sukhanov, BN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7014-C22A-48E6-9527-00C6A5D6A66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85800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esting FPDP Transf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44440" y="587520"/>
            <a:ext cx="6396120" cy="14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9000" tIns="9000" bIns="9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 have implemented the data transfer from Mercury to vmesparc using FPD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ink (to avoid VME backplane bottleneck at 37 MB/s). The test program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ercury generates data through the cable at 125 MB/s but vmesparc accep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nly 40.00 MB/s sharp. The vmesparc is 50% busy in the system state. I am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ntact with hardware vendors to find out what can be done to improve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ading performance. For today this seem to be a current limit of the DA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andwidth it will correspond to 400-500 Hz of compressed events. Notice th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e can use 2 of our vmesparc's to receive data from Mercu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44440" y="2220840"/>
            <a:ext cx="6384960" cy="7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9000" tIns="9000" bIns="9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FPDP transfer rate does not depend on data size if the size is larger 0.1 M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FPDP driver support only asynchronous read/write. After starting the operation one must wait until it finished and then get data from a system to the local buffer using GET_DATA ioctl. Without this ioctl the rate is 52 MB/s, but data are not correct of cour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14200" y="8489880"/>
            <a:ext cx="6384960" cy="2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9000" tIns="9000" bIns="9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4200" y="3363840"/>
            <a:ext cx="6384960" cy="22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9000" tIns="9000" bIns="9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riting speed on usp using “Bonnias -s 1000 -w -d /data/3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s 42 MB/s, sy=67%, id=13%, disk %b=10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test_fpdp and Bonnias are running simultaneously th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ize = 4 MB, FPDP = 38 MB/s, disk = 16 MB/s, sy=80%, id=20%, disk%b=9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est_fpdp with writing to the dis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ize = 0.1 MB, FPDP = 18 MB/s, disk = 17.6 MB/s, sy = 51%, disk%b = 3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fter implementing 2-buffer read the FPDP transfer rate become 43 MB/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ize = .1 MB, FPDP = disk = 19.5 MB/s, sy=67%, dsik%b = 37% , w/s = 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odo: test at 4M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drei Sukhanov, BN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34D3-3756-4257-B454-97832A840C0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4/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152280" y="228600"/>
          <a:ext cx="6553440" cy="4641840"/>
        </p:xfrm>
        <a:graphic>
          <a:graphicData uri="http://schemas.openxmlformats.org/drawingml/2006/table">
            <a:tbl>
              <a:tblPr/>
              <a:tblGrid>
                <a:gridCol w="381240"/>
                <a:gridCol w="5638680"/>
                <a:gridCol w="53352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igger detected in EM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paring EMM inform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paring RI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nding ROUT command, DMUs will start sending data, removing DAQ_Bus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NT0 transfer finished, RINT1 transfer finish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th RINT transfer finish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iting for available space in the queue by taking semaphore EventAckMast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ot space in the queu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orker0. Waiting for event by checking last word in the buffer for modific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rt DMU transfer. Transfer = 1900 us for 172256 byt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orker0. Event received, checking data format for an FE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orker0. Processing FEC data. 1360 us for 20 KB data samp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orker0. Huffman cod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orker0. Processing finished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orker0. Critical section. Modifying the output buffer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orker0: starting transfer. Last worker: sending semaphore to vmesparc New ev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orker0: transfer finished. Last worker: send acknowledging semaphore to mast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157320" y="5029200"/>
          <a:ext cx="4282920" cy="304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320" y="5029200"/>
                    <a:ext cx="428292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1241280" y="643716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333440" y="6485040"/>
            <a:ext cx="1306440" cy="1828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MU trans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333440" y="6662880"/>
            <a:ext cx="13050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357560" y="6854760"/>
            <a:ext cx="111960" cy="197280"/>
          </a:xfrm>
          <a:prstGeom prst="wedgeRoundRectCallout">
            <a:avLst>
              <a:gd name="adj1" fmla="val 79805"/>
              <a:gd name="adj2" fmla="val 127412"/>
              <a:gd name="adj3" fmla="val 16667"/>
            </a:avLst>
          </a:prstGeom>
          <a:solidFill>
            <a:srgbClr val="ccffff">
              <a:alpha val="5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" rIns="900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626840" y="5345280"/>
            <a:ext cx="204120" cy="197280"/>
          </a:xfrm>
          <a:prstGeom prst="wedgeRoundRectCallout">
            <a:avLst>
              <a:gd name="adj1" fmla="val -102462"/>
              <a:gd name="adj2" fmla="val 112111"/>
              <a:gd name="adj3" fmla="val 16667"/>
            </a:avLst>
          </a:prstGeom>
          <a:solidFill>
            <a:srgbClr val="ccffff">
              <a:alpha val="5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" rIns="900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598400" y="5106960"/>
            <a:ext cx="204120" cy="197280"/>
          </a:xfrm>
          <a:prstGeom prst="wedgeRoundRectCallout">
            <a:avLst>
              <a:gd name="adj1" fmla="val -98587"/>
              <a:gd name="adj2" fmla="val 229597"/>
              <a:gd name="adj3" fmla="val 16667"/>
            </a:avLst>
          </a:prstGeom>
          <a:solidFill>
            <a:srgbClr val="ccffff">
              <a:alpha val="5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" rIns="900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160360" y="5311800"/>
            <a:ext cx="204120" cy="197280"/>
          </a:xfrm>
          <a:prstGeom prst="wedgeRoundRectCallout">
            <a:avLst>
              <a:gd name="adj1" fmla="val -91546"/>
              <a:gd name="adj2" fmla="val 130689"/>
              <a:gd name="adj3" fmla="val 16667"/>
            </a:avLst>
          </a:prstGeom>
          <a:solidFill>
            <a:srgbClr val="ccffff">
              <a:alpha val="5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" rIns="900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131920" y="5073480"/>
            <a:ext cx="204120" cy="197280"/>
          </a:xfrm>
          <a:prstGeom prst="wedgeRoundRectCallout">
            <a:avLst>
              <a:gd name="adj1" fmla="val -87319"/>
              <a:gd name="adj2" fmla="val 247995"/>
              <a:gd name="adj3" fmla="val 16667"/>
            </a:avLst>
          </a:prstGeom>
          <a:solidFill>
            <a:srgbClr val="ccffff">
              <a:alpha val="5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" rIns="900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86080" y="5348160"/>
            <a:ext cx="111960" cy="197280"/>
          </a:xfrm>
          <a:prstGeom prst="wedgeRoundRectCallout">
            <a:avLst>
              <a:gd name="adj1" fmla="val -183333"/>
              <a:gd name="adj2" fmla="val 111930"/>
              <a:gd name="adj3" fmla="val 16667"/>
            </a:avLst>
          </a:prstGeom>
          <a:solidFill>
            <a:srgbClr val="ccffff">
              <a:alpha val="5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" rIns="900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81400" y="5099040"/>
            <a:ext cx="111960" cy="197280"/>
          </a:xfrm>
          <a:prstGeom prst="wedgeRoundRectCallout">
            <a:avLst>
              <a:gd name="adj1" fmla="val -176277"/>
              <a:gd name="adj2" fmla="val 229597"/>
              <a:gd name="adj3" fmla="val 16667"/>
            </a:avLst>
          </a:prstGeom>
          <a:solidFill>
            <a:srgbClr val="ccffff">
              <a:alpha val="5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" rIns="900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5160" y="5943600"/>
            <a:ext cx="111960" cy="197280"/>
          </a:xfrm>
          <a:prstGeom prst="wedgeRoundRectCallout">
            <a:avLst>
              <a:gd name="adj1" fmla="val -268587"/>
              <a:gd name="adj2" fmla="val 167666"/>
              <a:gd name="adj3" fmla="val 16667"/>
            </a:avLst>
          </a:prstGeom>
          <a:solidFill>
            <a:srgbClr val="ccffff">
              <a:alpha val="5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" rIns="900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9840" y="5724360"/>
            <a:ext cx="111960" cy="197280"/>
          </a:xfrm>
          <a:prstGeom prst="wedgeRoundRectCallout">
            <a:avLst>
              <a:gd name="adj1" fmla="val -282689"/>
              <a:gd name="adj2" fmla="val 285879"/>
              <a:gd name="adj3" fmla="val 16667"/>
            </a:avLst>
          </a:prstGeom>
          <a:solidFill>
            <a:srgbClr val="ccffff">
              <a:alpha val="5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" rIns="900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855440" y="5969160"/>
            <a:ext cx="204120" cy="197280"/>
          </a:xfrm>
          <a:prstGeom prst="wedgeRoundRectCallout">
            <a:avLst>
              <a:gd name="adj1" fmla="val 242425"/>
              <a:gd name="adj2" fmla="val -206101"/>
              <a:gd name="adj3" fmla="val 16667"/>
            </a:avLst>
          </a:prstGeom>
          <a:solidFill>
            <a:srgbClr val="ccffff">
              <a:alpha val="5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" rIns="900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827000" y="5730840"/>
            <a:ext cx="204120" cy="197280"/>
          </a:xfrm>
          <a:prstGeom prst="wedgeRoundRectCallout">
            <a:avLst>
              <a:gd name="adj1" fmla="val 246300"/>
              <a:gd name="adj2" fmla="val -83148"/>
              <a:gd name="adj3" fmla="val 16667"/>
            </a:avLst>
          </a:prstGeom>
          <a:solidFill>
            <a:srgbClr val="ccffff">
              <a:alpha val="5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" rIns="900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808000" y="5626080"/>
            <a:ext cx="204120" cy="197280"/>
          </a:xfrm>
          <a:prstGeom prst="wedgeRoundRectCallout">
            <a:avLst>
              <a:gd name="adj1" fmla="val -130453"/>
              <a:gd name="adj2" fmla="val 117574"/>
              <a:gd name="adj3" fmla="val 16667"/>
            </a:avLst>
          </a:prstGeom>
          <a:solidFill>
            <a:srgbClr val="ccffff">
              <a:alpha val="5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" rIns="900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000600" y="5302080"/>
            <a:ext cx="111960" cy="197280"/>
          </a:xfrm>
          <a:prstGeom prst="wedgeRoundRectCallout">
            <a:avLst>
              <a:gd name="adj1" fmla="val -279805"/>
              <a:gd name="adj2" fmla="val -69305"/>
              <a:gd name="adj3" fmla="val 16667"/>
            </a:avLst>
          </a:prstGeom>
          <a:solidFill>
            <a:srgbClr val="ccffff">
              <a:alpha val="5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" rIns="900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989080" y="5087880"/>
            <a:ext cx="204120" cy="197280"/>
          </a:xfrm>
          <a:prstGeom prst="wedgeRoundRectCallout">
            <a:avLst>
              <a:gd name="adj1" fmla="val -184856"/>
              <a:gd name="adj2" fmla="val 23768"/>
              <a:gd name="adj3" fmla="val 16667"/>
            </a:avLst>
          </a:prstGeom>
          <a:solidFill>
            <a:srgbClr val="ccffff">
              <a:alpha val="5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" rIns="900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927880" y="7278840"/>
            <a:ext cx="111960" cy="197280"/>
          </a:xfrm>
          <a:prstGeom prst="wedgeRoundRectCallout">
            <a:avLst>
              <a:gd name="adj1" fmla="val -118268"/>
              <a:gd name="adj2" fmla="val 127412"/>
              <a:gd name="adj3" fmla="val 16667"/>
            </a:avLst>
          </a:prstGeom>
          <a:solidFill>
            <a:srgbClr val="ccffff">
              <a:alpha val="5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" rIns="900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9960" y="5797440"/>
            <a:ext cx="111960" cy="197280"/>
          </a:xfrm>
          <a:prstGeom prst="wedgeRoundRectCallout">
            <a:avLst>
              <a:gd name="adj1" fmla="val -193587"/>
              <a:gd name="adj2" fmla="val -113569"/>
              <a:gd name="adj3" fmla="val 16667"/>
            </a:avLst>
          </a:prstGeom>
          <a:solidFill>
            <a:srgbClr val="ccffff">
              <a:alpha val="5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" rIns="900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17520" y="5864400"/>
            <a:ext cx="250200" cy="197280"/>
          </a:xfrm>
          <a:prstGeom prst="wedgeRoundRectCallout">
            <a:avLst>
              <a:gd name="adj1" fmla="val -65513"/>
              <a:gd name="adj2" fmla="val 31782"/>
              <a:gd name="adj3" fmla="val 16667"/>
            </a:avLst>
          </a:prstGeom>
          <a:solidFill>
            <a:srgbClr val="ccffff">
              <a:alpha val="5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" rIns="900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,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369960" y="5064120"/>
            <a:ext cx="204120" cy="197280"/>
          </a:xfrm>
          <a:prstGeom prst="wedgeRoundRectCallout">
            <a:avLst>
              <a:gd name="adj1" fmla="val 80101"/>
              <a:gd name="adj2" fmla="val 248902"/>
              <a:gd name="adj3" fmla="val 16667"/>
            </a:avLst>
          </a:prstGeom>
          <a:solidFill>
            <a:srgbClr val="ccffff">
              <a:alpha val="5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" rIns="900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98480" y="6006960"/>
            <a:ext cx="204120" cy="197280"/>
          </a:xfrm>
          <a:prstGeom prst="wedgeRoundRectCallout">
            <a:avLst>
              <a:gd name="adj1" fmla="val 42777"/>
              <a:gd name="adj2" fmla="val -224861"/>
              <a:gd name="adj3" fmla="val 16667"/>
            </a:avLst>
          </a:prstGeom>
          <a:solidFill>
            <a:srgbClr val="ccffff">
              <a:alpha val="5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" rIns="900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798720" y="5305320"/>
            <a:ext cx="594000" cy="394200"/>
          </a:xfrm>
          <a:prstGeom prst="wedgeRoundRectCallout">
            <a:avLst>
              <a:gd name="adj1" fmla="val -66291"/>
              <a:gd name="adj2" fmla="val 41787"/>
              <a:gd name="adj3" fmla="val 16667"/>
            </a:avLst>
          </a:prstGeom>
          <a:solidFill>
            <a:srgbClr val="ccffff">
              <a:alpha val="5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" rIns="900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@ 4.86 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0520" y="8124840"/>
            <a:ext cx="4129200" cy="2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9000" tIns="9000" bIns="9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g 205031. Single ev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drei Sukhanov, BN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D7A2-317D-46EE-9447-8E258F24F97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Ajacent%20events" descr=""/>
          <p:cNvPicPr/>
          <p:nvPr/>
        </p:nvPicPr>
        <p:blipFill>
          <a:blip r:embed="rId1"/>
          <a:stretch/>
        </p:blipFill>
        <p:spPr>
          <a:xfrm>
            <a:off x="600120" y="390600"/>
            <a:ext cx="4327560" cy="30654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961920" y="1366920"/>
            <a:ext cx="228600" cy="180720"/>
          </a:xfrm>
          <a:prstGeom prst="wedgeRoundRectCallout">
            <a:avLst>
              <a:gd name="adj1" fmla="val 118750"/>
              <a:gd name="adj2" fmla="val -242981"/>
              <a:gd name="adj3" fmla="val 16667"/>
            </a:avLst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33480" y="1128600"/>
            <a:ext cx="228600" cy="190440"/>
          </a:xfrm>
          <a:prstGeom prst="wedgeRoundRectCallout">
            <a:avLst>
              <a:gd name="adj1" fmla="val 125000"/>
              <a:gd name="adj2" fmla="val -113333"/>
              <a:gd name="adj3" fmla="val 16667"/>
            </a:avLst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581120" y="1843200"/>
            <a:ext cx="219240" cy="190440"/>
          </a:xfrm>
          <a:prstGeom prst="wedgeRoundRectCallout">
            <a:avLst>
              <a:gd name="adj1" fmla="val -102175"/>
              <a:gd name="adj2" fmla="val -333333"/>
              <a:gd name="adj3" fmla="val 16667"/>
            </a:avLst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043000" y="1843200"/>
            <a:ext cx="162000" cy="180720"/>
          </a:xfrm>
          <a:prstGeom prst="wedgeRoundRectCallout">
            <a:avLst>
              <a:gd name="adj1" fmla="val -358824"/>
              <a:gd name="adj2" fmla="val -342981"/>
              <a:gd name="adj3" fmla="val 16667"/>
            </a:avLst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805040" y="1843200"/>
            <a:ext cx="228600" cy="180720"/>
          </a:xfrm>
          <a:prstGeom prst="wedgeRoundRectCallout">
            <a:avLst>
              <a:gd name="adj1" fmla="val -166666"/>
              <a:gd name="adj2" fmla="val -321930"/>
              <a:gd name="adj3" fmla="val 16667"/>
            </a:avLst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824120" y="2714760"/>
            <a:ext cx="147600" cy="180720"/>
          </a:xfrm>
          <a:prstGeom prst="wedgeRoundRectCallout">
            <a:avLst>
              <a:gd name="adj1" fmla="val -169356"/>
              <a:gd name="adj2" fmla="val 96490"/>
              <a:gd name="adj3" fmla="val 16667"/>
            </a:avLst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195640" y="471600"/>
            <a:ext cx="171360" cy="199800"/>
          </a:xfrm>
          <a:prstGeom prst="wedgeRoundRectCallout">
            <a:avLst>
              <a:gd name="adj1" fmla="val -191666"/>
              <a:gd name="adj2" fmla="val 232541"/>
              <a:gd name="adj3" fmla="val 16667"/>
            </a:avLst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09840" y="1846440"/>
            <a:ext cx="1306440" cy="1828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MU trans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09840" y="2023920"/>
            <a:ext cx="13050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33280" y="1846440"/>
            <a:ext cx="1306440" cy="1828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MU trans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33280" y="2023920"/>
            <a:ext cx="13050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86080" y="500040"/>
            <a:ext cx="199800" cy="190440"/>
          </a:xfrm>
          <a:prstGeom prst="wedgeRoundRectCallout">
            <a:avLst>
              <a:gd name="adj1" fmla="val 66666"/>
              <a:gd name="adj2" fmla="val 229166"/>
              <a:gd name="adj3" fmla="val 16667"/>
            </a:avLst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795760" y="500040"/>
            <a:ext cx="209520" cy="190440"/>
          </a:xfrm>
          <a:prstGeom prst="wedgeRoundRectCallout">
            <a:avLst>
              <a:gd name="adj1" fmla="val -109092"/>
              <a:gd name="adj2" fmla="val 224166"/>
              <a:gd name="adj3" fmla="val 16667"/>
            </a:avLst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843200" y="461880"/>
            <a:ext cx="161640" cy="190440"/>
          </a:xfrm>
          <a:prstGeom prst="wedgeRoundRectCallout">
            <a:avLst>
              <a:gd name="adj1" fmla="val -58824"/>
              <a:gd name="adj2" fmla="val 231666"/>
              <a:gd name="adj3" fmla="val 16667"/>
            </a:avLst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023920" y="461880"/>
            <a:ext cx="171720" cy="200160"/>
          </a:xfrm>
          <a:prstGeom prst="wedgeRoundRectCallout">
            <a:avLst>
              <a:gd name="adj1" fmla="val -108333"/>
              <a:gd name="adj2" fmla="val 227777"/>
              <a:gd name="adj3" fmla="val 16667"/>
            </a:avLst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Ajacent%20events%202" descr=""/>
          <p:cNvPicPr/>
          <p:nvPr/>
        </p:nvPicPr>
        <p:blipFill>
          <a:blip r:embed="rId2"/>
          <a:stretch/>
        </p:blipFill>
        <p:spPr>
          <a:xfrm>
            <a:off x="604800" y="3562200"/>
            <a:ext cx="4303800" cy="31132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4995720" y="422280"/>
            <a:ext cx="1862280" cy="12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9000" tIns="9000" bIns="9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g 205032. Two adjacent events. No DMA transfers. Second event applied 400 us after first one. It shows long time between  two DMU transfer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543120" y="1147680"/>
            <a:ext cx="111960" cy="197280"/>
          </a:xfrm>
          <a:prstGeom prst="wedgeRoundRectCallout">
            <a:avLst>
              <a:gd name="adj1" fmla="val -157370"/>
              <a:gd name="adj2" fmla="val 255097"/>
              <a:gd name="adj3" fmla="val 16667"/>
            </a:avLst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" rIns="900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995720" y="3562200"/>
            <a:ext cx="1862280" cy="14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9000" tIns="9000" bIns="9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g 205033. Two adjacent events, same conditions, another example. It shows unusual delay for 700 us in state 2. In previous picture it was same delay but in state 3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776240" y="1095480"/>
            <a:ext cx="538200" cy="199800"/>
          </a:xfrm>
          <a:prstGeom prst="wedgeRoundRectCallout">
            <a:avLst>
              <a:gd name="adj1" fmla="val -47347"/>
              <a:gd name="adj2" fmla="val -84125"/>
              <a:gd name="adj3" fmla="val 16667"/>
            </a:avLst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,6,7,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567160" y="1130400"/>
            <a:ext cx="676080" cy="394200"/>
          </a:xfrm>
          <a:prstGeom prst="wedgeRoundRectCallout">
            <a:avLst>
              <a:gd name="adj1" fmla="val -153245"/>
              <a:gd name="adj2" fmla="val -77736"/>
              <a:gd name="adj3" fmla="val 16667"/>
            </a:avLst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 Expect 100 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24080" y="4219560"/>
            <a:ext cx="676440" cy="394200"/>
          </a:xfrm>
          <a:prstGeom prst="wedgeRoundRectCallout">
            <a:avLst>
              <a:gd name="adj1" fmla="val -88453"/>
              <a:gd name="adj2" fmla="val -52004"/>
              <a:gd name="adj3" fmla="val 16667"/>
            </a:avLst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 Expect 100 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928960" y="4340160"/>
            <a:ext cx="676080" cy="394200"/>
          </a:xfrm>
          <a:prstGeom prst="wedgeRoundRectCallout">
            <a:avLst>
              <a:gd name="adj1" fmla="val -70166"/>
              <a:gd name="adj2" fmla="val -130930"/>
              <a:gd name="adj3" fmla="val 16667"/>
            </a:avLst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 Expect 10 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660120" y="1147680"/>
            <a:ext cx="204480" cy="197280"/>
          </a:xfrm>
          <a:prstGeom prst="wedgeRoundRectCallout">
            <a:avLst>
              <a:gd name="adj1" fmla="val -158083"/>
              <a:gd name="adj2" fmla="val 255097"/>
              <a:gd name="adj3" fmla="val 16667"/>
            </a:avLst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" rIns="900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69640" y="1147680"/>
            <a:ext cx="204480" cy="197280"/>
          </a:xfrm>
          <a:prstGeom prst="wedgeRoundRectCallout">
            <a:avLst>
              <a:gd name="adj1" fmla="val -260893"/>
              <a:gd name="adj2" fmla="val 264750"/>
              <a:gd name="adj3" fmla="val 16667"/>
            </a:avLst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" rIns="900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747960" y="2206800"/>
            <a:ext cx="766800" cy="394200"/>
          </a:xfrm>
          <a:prstGeom prst="wedgeRoundRectCallout">
            <a:avLst>
              <a:gd name="adj1" fmla="val -149152"/>
              <a:gd name="adj2" fmla="val -95708"/>
              <a:gd name="adj3" fmla="val 16667"/>
            </a:avLst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ect  it start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95440" y="6848640"/>
            <a:ext cx="5548320" cy="7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9000" tIns="9000" bIns="9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ummary. Delay for 0.7 ms happens at states 2 or 3. Probably, the Mercury is busy with something (finishing the ongoing transfers). Another point: in the case of delay in state2 it finishes the state always slightly before the end of last worker transfer. (I canno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662280" y="4411800"/>
            <a:ext cx="828720" cy="788760"/>
          </a:xfrm>
          <a:prstGeom prst="wedgeRoundRectCallout">
            <a:avLst>
              <a:gd name="adj1" fmla="val -87125"/>
              <a:gd name="adj2" fmla="val -91375"/>
              <a:gd name="adj3" fmla="val 16667"/>
            </a:avLst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ways finishes before the state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71800" y="3757680"/>
            <a:ext cx="200160" cy="190440"/>
          </a:xfrm>
          <a:prstGeom prst="wedgeRoundRectCallout">
            <a:avLst>
              <a:gd name="adj1" fmla="val -185712"/>
              <a:gd name="adj2" fmla="val 84166"/>
              <a:gd name="adj3" fmla="val 16667"/>
            </a:avLst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drei Sukhanov, BN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687B-824F-4CF3-B15E-A4F553BCB32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Single%20event,%20uniform%20FECs" descr=""/>
          <p:cNvPicPr/>
          <p:nvPr/>
        </p:nvPicPr>
        <p:blipFill>
          <a:blip r:embed="rId1"/>
          <a:stretch/>
        </p:blipFill>
        <p:spPr>
          <a:xfrm>
            <a:off x="595440" y="1009800"/>
            <a:ext cx="4290840" cy="3095640"/>
          </a:xfrm>
          <a:prstGeom prst="rect">
            <a:avLst/>
          </a:prstGeom>
          <a:ln w="0">
            <a:noFill/>
          </a:ln>
        </p:spPr>
      </p:pic>
      <p:pic>
        <p:nvPicPr>
          <p:cNvPr id="111" name="Adjacent%20event,%20uniform%20FECs" descr=""/>
          <p:cNvPicPr/>
          <p:nvPr/>
        </p:nvPicPr>
        <p:blipFill>
          <a:blip r:embed="rId2"/>
          <a:stretch/>
        </p:blipFill>
        <p:spPr>
          <a:xfrm>
            <a:off x="595440" y="4591080"/>
            <a:ext cx="4286160" cy="30970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4767120" y="1380960"/>
            <a:ext cx="1862280" cy="5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9000" tIns="9000" bIns="9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g 205061. Single event. No difference with fig. 20503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71440" y="181080"/>
            <a:ext cx="60246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9000" tIns="9000" bIns="9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anged allocation of FECs between workers. Made more uniform. Before that it was longest workers first, shortest at the en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767120" y="4952880"/>
            <a:ext cx="18622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9000" tIns="9000" bIns="9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g 205062. Adjacent ev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drei Sukhanov, BN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C0B8-E1D2-4CB3-8D8E-9CDD8AE1B41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Adjacent%20event,%20uniform%20FECs,%20end" descr=""/>
          <p:cNvPicPr/>
          <p:nvPr/>
        </p:nvPicPr>
        <p:blipFill>
          <a:blip r:embed="rId1"/>
          <a:stretch/>
        </p:blipFill>
        <p:spPr>
          <a:xfrm>
            <a:off x="585720" y="465120"/>
            <a:ext cx="4295880" cy="30970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4881600" y="781200"/>
            <a:ext cx="18622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9000" tIns="9000" bIns="9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g 2050623. Adjacent events. End of the ev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drei Sukhanov, BN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465B-BCE9-4207-A45A-56A2480EAF7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High%20rate%20364%20Hz" descr=""/>
          <p:cNvPicPr/>
          <p:nvPr/>
        </p:nvPicPr>
        <p:blipFill>
          <a:blip r:embed="rId1"/>
          <a:stretch/>
        </p:blipFill>
        <p:spPr>
          <a:xfrm>
            <a:off x="585720" y="201600"/>
            <a:ext cx="4338720" cy="31464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4805280" y="630360"/>
            <a:ext cx="20527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9000" tIns="9000" bIns="9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g 2050624. High rate. Accepted 264 Hz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585720" y="3706920"/>
          <a:ext cx="4324320" cy="3093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85720" y="3706920"/>
                    <a:ext cx="4324320" cy="30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4805280" y="4145040"/>
            <a:ext cx="2052720" cy="7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9000" tIns="9000" bIns="9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g 2050625. High rate. Accepted 274 Hz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te1 moved after State3. Saved ~ 100 u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drei Sukhanov, BN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44CF-B323-4C2D-9C71-C6F32C6592D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High%20rate%20274%20Hz,%20all%20states" descr=""/>
          <p:cNvPicPr/>
          <p:nvPr/>
        </p:nvPicPr>
        <p:blipFill>
          <a:blip r:embed="rId1"/>
          <a:stretch/>
        </p:blipFill>
        <p:spPr>
          <a:xfrm>
            <a:off x="585720" y="290520"/>
            <a:ext cx="4324320" cy="3073320"/>
          </a:xfrm>
          <a:prstGeom prst="rect">
            <a:avLst/>
          </a:prstGeom>
          <a:ln w="0">
            <a:noFill/>
          </a:ln>
        </p:spPr>
      </p:pic>
      <p:pic>
        <p:nvPicPr>
          <p:cNvPr id="123" name="Single%20event,%20State1%20after%203" descr=""/>
          <p:cNvPicPr/>
          <p:nvPr/>
        </p:nvPicPr>
        <p:blipFill>
          <a:blip r:embed="rId2"/>
          <a:stretch/>
        </p:blipFill>
        <p:spPr>
          <a:xfrm>
            <a:off x="585720" y="3562200"/>
            <a:ext cx="4324320" cy="30736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4805280" y="630360"/>
            <a:ext cx="20527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9000" tIns="9000" bIns="9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g 2050626. Accepted 274 Hz. All states show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805280" y="3897360"/>
            <a:ext cx="2052720" cy="11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9000" tIns="9000" bIns="9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g 2050627. Single event. State1 moved after State3. The time 0-3 is smaller (58 us) than in multiple event case (180 us). RACEway more busy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76520" y="4552920"/>
            <a:ext cx="111960" cy="197280"/>
          </a:xfrm>
          <a:prstGeom prst="wedgeRoundRectCallout">
            <a:avLst>
              <a:gd name="adj1" fmla="val 564740"/>
              <a:gd name="adj2" fmla="val 133967"/>
              <a:gd name="adj3" fmla="val 16667"/>
            </a:avLst>
          </a:prstGeom>
          <a:solidFill>
            <a:srgbClr val="ccffff">
              <a:alpha val="5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" rIns="900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57600" y="4429080"/>
            <a:ext cx="111960" cy="197280"/>
          </a:xfrm>
          <a:prstGeom prst="wedgeRoundRectCallout">
            <a:avLst>
              <a:gd name="adj1" fmla="val 496791"/>
              <a:gd name="adj2" fmla="val -20495"/>
              <a:gd name="adj3" fmla="val 16667"/>
            </a:avLst>
          </a:prstGeom>
          <a:solidFill>
            <a:srgbClr val="ccffff">
              <a:alpha val="5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" rIns="900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176840" y="4543560"/>
            <a:ext cx="111960" cy="197280"/>
          </a:xfrm>
          <a:prstGeom prst="wedgeRoundRectCallout">
            <a:avLst>
              <a:gd name="adj1" fmla="val 479805"/>
              <a:gd name="adj2" fmla="val 143620"/>
              <a:gd name="adj3" fmla="val 16667"/>
            </a:avLst>
          </a:prstGeom>
          <a:solidFill>
            <a:srgbClr val="ccffff">
              <a:alpha val="5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" rIns="900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624320" y="4572000"/>
            <a:ext cx="111960" cy="197280"/>
          </a:xfrm>
          <a:prstGeom prst="wedgeRoundRectCallout">
            <a:avLst>
              <a:gd name="adj1" fmla="val 275638"/>
              <a:gd name="adj2" fmla="val 119398"/>
              <a:gd name="adj3" fmla="val 16667"/>
            </a:avLst>
          </a:prstGeom>
          <a:solidFill>
            <a:srgbClr val="ccffff">
              <a:alpha val="5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" rIns="900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119600" y="1752480"/>
            <a:ext cx="111960" cy="197280"/>
          </a:xfrm>
          <a:prstGeom prst="wedgeRoundRectCallout">
            <a:avLst>
              <a:gd name="adj1" fmla="val 105444"/>
              <a:gd name="adj2" fmla="val -97537"/>
              <a:gd name="adj3" fmla="val 16667"/>
            </a:avLst>
          </a:prstGeom>
          <a:solidFill>
            <a:srgbClr val="ccffff">
              <a:alpha val="5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" rIns="900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429200" y="1754280"/>
            <a:ext cx="111960" cy="197280"/>
          </a:xfrm>
          <a:prstGeom prst="wedgeRoundRectCallout">
            <a:avLst>
              <a:gd name="adj1" fmla="val -77240"/>
              <a:gd name="adj2" fmla="val -103185"/>
              <a:gd name="adj3" fmla="val 16667"/>
            </a:avLst>
          </a:prstGeom>
          <a:solidFill>
            <a:srgbClr val="ccffff">
              <a:alpha val="5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" rIns="900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52840" y="1519200"/>
            <a:ext cx="111960" cy="197280"/>
          </a:xfrm>
          <a:prstGeom prst="wedgeRoundRectCallout">
            <a:avLst>
              <a:gd name="adj1" fmla="val 237175"/>
              <a:gd name="adj2" fmla="val 13203"/>
              <a:gd name="adj3" fmla="val 16667"/>
            </a:avLst>
          </a:prstGeom>
          <a:solidFill>
            <a:srgbClr val="ccffff">
              <a:alpha val="5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" rIns="900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43200" y="1754280"/>
            <a:ext cx="111960" cy="197280"/>
          </a:xfrm>
          <a:prstGeom prst="wedgeRoundRectCallout">
            <a:avLst>
              <a:gd name="adj1" fmla="val 177884"/>
              <a:gd name="adj2" fmla="val -100819"/>
              <a:gd name="adj3" fmla="val 16667"/>
            </a:avLst>
          </a:prstGeom>
          <a:solidFill>
            <a:srgbClr val="ccffff">
              <a:alpha val="5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" rIns="900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591360" y="1754280"/>
            <a:ext cx="111960" cy="197280"/>
          </a:xfrm>
          <a:prstGeom prst="wedgeRoundRectCallout">
            <a:avLst>
              <a:gd name="adj1" fmla="val 148074"/>
              <a:gd name="adj2" fmla="val 94444"/>
              <a:gd name="adj3" fmla="val 16667"/>
            </a:avLst>
          </a:prstGeom>
          <a:solidFill>
            <a:srgbClr val="ccffff">
              <a:alpha val="5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" rIns="900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757320" y="1752480"/>
            <a:ext cx="250200" cy="197280"/>
          </a:xfrm>
          <a:prstGeom prst="wedgeRoundRectCallout">
            <a:avLst>
              <a:gd name="adj1" fmla="val 18101"/>
              <a:gd name="adj2" fmla="val -102273"/>
              <a:gd name="adj3" fmla="val 16667"/>
            </a:avLst>
          </a:prstGeom>
          <a:solidFill>
            <a:srgbClr val="ccffff">
              <a:alpha val="5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" rIns="900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,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067640" y="1752480"/>
            <a:ext cx="111960" cy="197280"/>
          </a:xfrm>
          <a:prstGeom prst="wedgeRoundRectCallout">
            <a:avLst>
              <a:gd name="adj1" fmla="val -136537"/>
              <a:gd name="adj2" fmla="val -476953"/>
              <a:gd name="adj3" fmla="val 16667"/>
            </a:avLst>
          </a:prstGeom>
          <a:solidFill>
            <a:srgbClr val="ccffff">
              <a:alpha val="5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" rIns="900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862280" y="938160"/>
            <a:ext cx="495000" cy="484200"/>
          </a:xfrm>
          <a:prstGeom prst="wedgeRoundRectCallout">
            <a:avLst>
              <a:gd name="adj1" fmla="val -53203"/>
              <a:gd name="adj2" fmla="val 95245"/>
              <a:gd name="adj3" fmla="val 16667"/>
            </a:avLst>
          </a:prstGeom>
          <a:solidFill>
            <a:srgbClr val="ccffff">
              <a:alpha val="5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" rIns="9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v. event finished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433600" y="961920"/>
            <a:ext cx="752400" cy="379440"/>
          </a:xfrm>
          <a:prstGeom prst="wedgeRoundRectCallout">
            <a:avLst>
              <a:gd name="adj1" fmla="val -17930"/>
              <a:gd name="adj2" fmla="val 105231"/>
              <a:gd name="adj3" fmla="val 16667"/>
            </a:avLst>
          </a:prstGeom>
          <a:solidFill>
            <a:srgbClr val="ccffff">
              <a:alpha val="5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" rIns="900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rst worker active 1 m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43520" y="1754280"/>
            <a:ext cx="111960" cy="197280"/>
          </a:xfrm>
          <a:prstGeom prst="wedgeRoundRectCallout">
            <a:avLst>
              <a:gd name="adj1" fmla="val 71472"/>
              <a:gd name="adj2" fmla="val -105555"/>
              <a:gd name="adj3" fmla="val 16667"/>
            </a:avLst>
          </a:prstGeom>
          <a:solidFill>
            <a:srgbClr val="ccffff">
              <a:alpha val="5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" rIns="900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374920" y="1754280"/>
            <a:ext cx="203040" cy="198360"/>
          </a:xfrm>
          <a:prstGeom prst="wedgeRoundRectCallout">
            <a:avLst>
              <a:gd name="adj1" fmla="val -36717"/>
              <a:gd name="adj2" fmla="val -102800"/>
              <a:gd name="adj3" fmla="val 16667"/>
            </a:avLst>
          </a:prstGeom>
          <a:solidFill>
            <a:srgbClr val="ccffff">
              <a:alpha val="5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" rIns="9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610000" y="1754280"/>
            <a:ext cx="203040" cy="198360"/>
          </a:xfrm>
          <a:prstGeom prst="wedgeRoundRectCallout">
            <a:avLst>
              <a:gd name="adj1" fmla="val 117967"/>
              <a:gd name="adj2" fmla="val -100398"/>
              <a:gd name="adj3" fmla="val 16667"/>
            </a:avLst>
          </a:prstGeom>
          <a:solidFill>
            <a:srgbClr val="ccffff">
              <a:alpha val="5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" rIns="9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841480" y="1754280"/>
            <a:ext cx="203400" cy="198360"/>
          </a:xfrm>
          <a:prstGeom prst="wedgeRoundRectCallout">
            <a:avLst>
              <a:gd name="adj1" fmla="val 15625"/>
              <a:gd name="adj2" fmla="val -100398"/>
              <a:gd name="adj3" fmla="val 16667"/>
            </a:avLst>
          </a:prstGeom>
          <a:solidFill>
            <a:srgbClr val="ccffff">
              <a:alpha val="5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" rIns="9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76560" y="1754280"/>
            <a:ext cx="217440" cy="198360"/>
          </a:xfrm>
          <a:prstGeom prst="wedgeRoundRectCallout">
            <a:avLst>
              <a:gd name="adj1" fmla="val -48541"/>
              <a:gd name="adj2" fmla="val -98000"/>
              <a:gd name="adj3" fmla="val 16667"/>
            </a:avLst>
          </a:prstGeom>
          <a:solidFill>
            <a:srgbClr val="ccffff">
              <a:alpha val="5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" rIns="9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390760" y="156204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166920" y="1258920"/>
            <a:ext cx="212760" cy="146160"/>
          </a:xfrm>
          <a:prstGeom prst="wedgeRoundRectCallout">
            <a:avLst>
              <a:gd name="adj1" fmla="val -73134"/>
              <a:gd name="adj2" fmla="val 217393"/>
              <a:gd name="adj3" fmla="val 16667"/>
            </a:avLst>
          </a:prstGeom>
          <a:solidFill>
            <a:srgbClr val="ccffff">
              <a:alpha val="5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" rIns="900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386160" y="1258920"/>
            <a:ext cx="122040" cy="141120"/>
          </a:xfrm>
          <a:prstGeom prst="wedgeRoundRectCallout">
            <a:avLst>
              <a:gd name="adj1" fmla="val -273375"/>
              <a:gd name="adj2" fmla="val 233148"/>
              <a:gd name="adj3" fmla="val 16667"/>
            </a:avLst>
          </a:prstGeom>
          <a:solidFill>
            <a:srgbClr val="ccffff">
              <a:alpha val="5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" rIns="900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drei Sukhanov, BN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980B-9A8A-4FC0-A3E7-309F4E61AE0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85920" y="382680"/>
            <a:ext cx="6243480" cy="13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9000" tIns="9000" bIns="9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5/6/2002. Result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 DMA: 274 ev/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MA, no FASTBUS, no disk: 203 ev/s, us=13%, sys=1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Verdana"/>
              </a:rPr>
              <a:t>Possible improvement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: Try to move SMB containing the queue of processed events (EBQueue) from the Master to a Worker. This should make the master less busy due to DMA from the work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2520" y="1952640"/>
            <a:ext cx="6243480" cy="77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9000" tIns="9000" bIns="9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5/7/2002. DAQ dry run with silic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king with F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ernal busy 1 ms appli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Bias%200,%201%20event" descr=""/>
          <p:cNvPicPr/>
          <p:nvPr/>
        </p:nvPicPr>
        <p:blipFill>
          <a:blip r:embed="rId1"/>
          <a:srcRect l="28864" t="14711" r="21764" b="59979"/>
          <a:stretch/>
        </p:blipFill>
        <p:spPr>
          <a:xfrm>
            <a:off x="566640" y="3781440"/>
            <a:ext cx="4343400" cy="306396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4653000" y="4097160"/>
            <a:ext cx="22050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45720" tIns="9000" bIns="9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g 205071. Single ev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MA on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drei Sukhanov, BN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A715-E4E9-41A6-8B0F-13E771AB497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760" y="584280"/>
            <a:ext cx="6645240" cy="21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rors when rate goes above 200 Hz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[0]WorkerMod3(22): Error! Event 327a, FEC2e dmu0=32e0000!=0x80000000. ffaaaa,84000000,b80f007a,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[0]WorkerMod3(14): Error! Event 34fa, FEC1a dmu0=b01b00fa!=0x80000000. b01b00fa,b01b00fa,b01b00fa,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[0]WorkerMod3(14): Error! Event 34fa, FEC1a dmu0=b01b00fa!=0x80000000. b01b00fa,b01b00fa,b01b00fa,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[0]WorkerMod3(14): Error! Event 3515, FEC17 dmu0=3170000!=0x80000000. bbaaaa,820[0]WorkerMod3(19): Error! Event 3515, FEC29 dmu0=3290000!=0x80000000. ffaaaa,84000000,b80a0015,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00000,b0180015,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[0]WorkerMod3(14): Error! Event 3515, FEC17 dmu0=3170000!=0x80000000. bbaaaa,82000000,b0180015,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[0]WorkerMod3(14): Error! Event 3515, FEC17 dmu0=3170000!=0x80000000. bbaaaa,82000000,b0180015,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strange, it shows dmu0=32e0000!=0x80000000 but when it dumps then dmu = 84000000. Oops, it was error in error logg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ed error logging probl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rors in the case of low rate doub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[0]WorkerMod3(14): Error! Event 14b, FEC1a Trail2!=0x80000000. b01b004b,b01b004b,b01b004b,b01b004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52280" y="3092400"/>
            <a:ext cx="3490920" cy="6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5/7/2002 12:34 PM Modifications ma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DC BUSY L2 or’ed with main BUS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0800" y="3760920"/>
            <a:ext cx="68299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rors again at 200 Hz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0]WorkerMod3(14): Error! Event 1028f, FEC17 Trail2!=0x80000000. 3170000,bbaaaa,84000000,b018008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0]WorkerMod3(14): Error! Event 1028f, FEC17 Trail2!=0x80000000. 3170000,bbaaaa,84000000,b018008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0]WorkerMod3(14): Error! Event 1028f, FEC17 Trail2!=0x80000000. 3170000,bbaaaa,84000000,b018008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0]WorkerMod3(14): Error! Event 1028f, FEC17 Trail2!=0x80000000. 3170000,bbaaaa,84000000,b018008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508464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5132520"/>
            <a:ext cx="673740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/7/2002 1:21 P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witched off error printout.  DMA on, accepted rate = 210 Hz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/7/2002 1:49 P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nning with DMA off. Accepted rate = 300 Hz, Error rate ~ 1 Hz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/7/2002 3:32 P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 DMA mode. Faced a bottleneck at 300 Hz, the EvtAckMCE semaphore sharply drops to 0 from 31. That means the vmesparc is not responding fast enoug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/7/2002 5:47 P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ok several files with bias off and on. Achieved 184 Hz accepted rate for several sequences. There was no FASTBUS, but this should make any differe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drei Sukhanov, BN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135E-8AE1-4390-BF1E-9EC45C3FBEE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3T23:10:41Z</dcterms:created>
  <dc:creator>Andrei Sukhanov</dc:creator>
  <dc:description/>
  <dc:language>en-US</dc:language>
  <cp:lastModifiedBy>Andrei</cp:lastModifiedBy>
  <dcterms:modified xsi:type="dcterms:W3CDTF">2002-06-05T22:08:38Z</dcterms:modified>
  <cp:revision>31</cp:revision>
  <dc:subject/>
  <dc:title>PowerPoint Presentation</dc:title>
</cp:coreProperties>
</file>