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9B5-10FC-4B1E-A3E8-2F848E04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1180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BEA-9707-43C7-A33A-A5BBFA6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685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11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511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A88-BA43-4B88-83D5-8C73C907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68580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68580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1180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51180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51180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C73-AD9C-4673-AAE6-AB051FCB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678-E8C3-450D-8A8A-DBFC7BC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15B-DBA6-4B5C-AA6F-F006A479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68580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D73-9038-4912-A1AA-579C192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542-1BD5-41D6-A5F1-993C52A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724-3939-44CC-A261-4DF9D67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68580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11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AFE-43AB-4E10-B2EA-E8B123E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685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511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7D6-D145-47A7-8CA6-FC41926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68580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1180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AA1-D4F3-4AE9-9DAD-7CE4543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3A23-1BA3-4724-A927-C5AF83C0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gress in DAQ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Q in progr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i Sukhanov, B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53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1BB-BCD1-4CF4-A882-90B99A5D117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28600" y="609480"/>
          <a:ext cx="8763120" cy="5748480"/>
        </p:xfrm>
        <a:graphic>
          <a:graphicData uri="http://schemas.openxmlformats.org/drawingml/2006/table">
            <a:tbl>
              <a:tblPr/>
              <a:tblGrid>
                <a:gridCol w="7315200"/>
                <a:gridCol w="14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UltraSPARC is inst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DP link between Mercury and UltraSPARC is implemented. Slower (43 MB/s) than expected (80) but better than V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performance =                           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 MB/s/CP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of Mercury with 21 C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aking in Mercury+Silicon =                               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out from Mercury =                                          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3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dditional UltraSPARC and disk array ($6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B/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writing to the disk (host busy 5%) =                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0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out from Mercury + writing (host busy 50%) =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8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dditional UltraSPARC and disk arr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king data to HPSS =                                           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0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d sustained rate =                                              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86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urrent fib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48A-8D0F-49FD-ADAF-93655F42B7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8960" y="933480"/>
            <a:ext cx="557856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mponents in D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rocessing in Merc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in Silicon and Merc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f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reasonably achievab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FD0-C0FF-47CC-AE08-11559C0620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rate" descr=""/>
          <p:cNvPicPr/>
          <p:nvPr/>
        </p:nvPicPr>
        <p:blipFill>
          <a:blip r:embed="rId1"/>
          <a:srcRect l="0" t="0" r="19073" b="6013"/>
          <a:stretch/>
        </p:blipFill>
        <p:spPr>
          <a:xfrm>
            <a:off x="533520" y="192240"/>
            <a:ext cx="7391160" cy="6437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C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90A-8BF1-4F8B-8CA5-B2D7428BEF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Processing in DA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2800" y="685800"/>
            <a:ext cx="6401520" cy="5486400"/>
            <a:chOff x="532800" y="685800"/>
            <a:chExt cx="6401520" cy="5486400"/>
          </a:xfrm>
        </p:grpSpPr>
        <p:sp>
          <p:nvSpPr>
            <p:cNvPr id="49" name=""/>
            <p:cNvSpPr/>
            <p:nvPr/>
          </p:nvSpPr>
          <p:spPr>
            <a:xfrm>
              <a:off x="1447920" y="685800"/>
              <a:ext cx="6858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14475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52" idx="3"/>
              <a:endCxn id="53" idx="3"/>
            </p:cNvCxnSpPr>
            <p:nvPr/>
          </p:nvCxnSpPr>
          <p:spPr>
            <a:xfrm flipV="1">
              <a:off x="3352320" y="1523520"/>
              <a:ext cx="2520" cy="915120"/>
            </a:xfrm>
            <a:prstGeom prst="curvedConnector5">
              <a:avLst>
                <a:gd name="adj1" fmla="val 14400000"/>
                <a:gd name="adj2" fmla="val 4998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54" name=""/>
            <p:cNvSpPr/>
            <p:nvPr/>
          </p:nvSpPr>
          <p:spPr>
            <a:xfrm>
              <a:off x="2286000" y="160020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160020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14475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1447560"/>
              <a:ext cx="5331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160020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480" y="160020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19520" y="2209680"/>
              <a:ext cx="533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52480" y="14475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66680" y="16002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0" y="175248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9520" y="1752480"/>
              <a:ext cx="5331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9320" y="1752480"/>
              <a:ext cx="5331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52480" y="175248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75248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1904760"/>
              <a:ext cx="53352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19520" y="1904760"/>
              <a:ext cx="53316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1904760"/>
              <a:ext cx="53316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2480" y="1904760"/>
              <a:ext cx="53352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190476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0" y="205740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2057400"/>
              <a:ext cx="5331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52480" y="220968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52480" y="205740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05740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9320" y="1447560"/>
              <a:ext cx="5331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23619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2057400"/>
              <a:ext cx="533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2480" y="2361960"/>
              <a:ext cx="53352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9320" y="2209680"/>
              <a:ext cx="533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9320" y="2361960"/>
              <a:ext cx="5331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0" y="220968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9520" y="2361960"/>
              <a:ext cx="5331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20968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6680" y="236196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2895480"/>
              <a:ext cx="5331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297180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2895480"/>
              <a:ext cx="5335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2971800"/>
              <a:ext cx="5331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69" idx="2"/>
              <a:endCxn id="86" idx="0"/>
            </p:cNvCxnSpPr>
            <p:nvPr/>
          </p:nvCxnSpPr>
          <p:spPr>
            <a:xfrm>
              <a:off x="1485720" y="2057400"/>
              <a:ext cx="1080" cy="83880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0" idx="2"/>
              <a:endCxn id="87" idx="0"/>
            </p:cNvCxnSpPr>
            <p:nvPr/>
          </p:nvCxnSpPr>
          <p:spPr>
            <a:xfrm>
              <a:off x="2018880" y="2514600"/>
              <a:ext cx="1080" cy="4579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3" idx="2"/>
              <a:endCxn id="88" idx="0"/>
            </p:cNvCxnSpPr>
            <p:nvPr/>
          </p:nvCxnSpPr>
          <p:spPr>
            <a:xfrm>
              <a:off x="2552400" y="2361960"/>
              <a:ext cx="1080" cy="53424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73" idx="2"/>
              <a:endCxn id="89" idx="0"/>
            </p:cNvCxnSpPr>
            <p:nvPr/>
          </p:nvCxnSpPr>
          <p:spPr>
            <a:xfrm>
              <a:off x="3085920" y="2209320"/>
              <a:ext cx="1080" cy="76284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49" idx="2"/>
              <a:endCxn id="64" idx="0"/>
            </p:cNvCxnSpPr>
            <p:nvPr/>
          </p:nvCxnSpPr>
          <p:spPr>
            <a:xfrm flipH="1">
              <a:off x="1485720" y="1028160"/>
              <a:ext cx="305280" cy="72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49" idx="2"/>
              <a:endCxn id="65" idx="0"/>
            </p:cNvCxnSpPr>
            <p:nvPr/>
          </p:nvCxnSpPr>
          <p:spPr>
            <a:xfrm>
              <a:off x="1790280" y="1028160"/>
              <a:ext cx="229320" cy="72468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7" idx="2"/>
              <a:endCxn id="62" idx="0"/>
            </p:cNvCxnSpPr>
            <p:nvPr/>
          </p:nvCxnSpPr>
          <p:spPr>
            <a:xfrm flipH="1">
              <a:off x="2552040" y="1028160"/>
              <a:ext cx="229320" cy="72468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97" idx="2"/>
              <a:endCxn id="63" idx="0"/>
            </p:cNvCxnSpPr>
            <p:nvPr/>
          </p:nvCxnSpPr>
          <p:spPr>
            <a:xfrm>
              <a:off x="2781000" y="1028160"/>
              <a:ext cx="305640" cy="72468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2438280" y="685800"/>
              <a:ext cx="6858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IN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41907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0" y="342900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520" y="342900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41907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4190760"/>
              <a:ext cx="5331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3429000"/>
              <a:ext cx="533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52480" y="342900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2480" y="41907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6680" y="34290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4038480"/>
              <a:ext cx="5331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3581280"/>
              <a:ext cx="5331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35812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19520" y="3733560"/>
              <a:ext cx="53316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52480" y="4038480"/>
              <a:ext cx="5335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3733560"/>
              <a:ext cx="53316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37335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3886200"/>
              <a:ext cx="5335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3886200"/>
              <a:ext cx="5331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4038480"/>
              <a:ext cx="5331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886200"/>
              <a:ext cx="53316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4038480"/>
              <a:ext cx="15264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4190760"/>
              <a:ext cx="53316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37335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2480" y="3886200"/>
              <a:ext cx="5335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52480" y="3581280"/>
              <a:ext cx="5335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3733560"/>
              <a:ext cx="5335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4038480"/>
              <a:ext cx="5335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9520" y="3581280"/>
              <a:ext cx="533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3581280"/>
              <a:ext cx="5335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86" idx="2"/>
              <a:endCxn id="109" idx="0"/>
            </p:cNvCxnSpPr>
            <p:nvPr/>
          </p:nvCxnSpPr>
          <p:spPr>
            <a:xfrm>
              <a:off x="1485720" y="3047760"/>
              <a:ext cx="1080" cy="5342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87" idx="2"/>
              <a:endCxn id="122" idx="2"/>
            </p:cNvCxnSpPr>
            <p:nvPr/>
          </p:nvCxnSpPr>
          <p:spPr>
            <a:xfrm>
              <a:off x="2018880" y="3124080"/>
              <a:ext cx="1080" cy="915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88" idx="2"/>
              <a:endCxn id="121" idx="2"/>
            </p:cNvCxnSpPr>
            <p:nvPr/>
          </p:nvCxnSpPr>
          <p:spPr>
            <a:xfrm>
              <a:off x="2552400" y="3047400"/>
              <a:ext cx="1080" cy="839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89" idx="2"/>
              <a:endCxn id="126" idx="2"/>
            </p:cNvCxnSpPr>
            <p:nvPr/>
          </p:nvCxnSpPr>
          <p:spPr>
            <a:xfrm>
              <a:off x="3085920" y="3123720"/>
              <a:ext cx="108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1066680" y="38862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85" idx="2"/>
              <a:endCxn id="119" idx="0"/>
            </p:cNvCxnSpPr>
            <p:nvPr/>
          </p:nvCxnSpPr>
          <p:spPr>
            <a:xfrm>
              <a:off x="1142640" y="2514240"/>
              <a:ext cx="1080" cy="1524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03" idx="3"/>
              <a:endCxn id="101" idx="3"/>
            </p:cNvCxnSpPr>
            <p:nvPr/>
          </p:nvCxnSpPr>
          <p:spPr>
            <a:xfrm flipV="1">
              <a:off x="3352320" y="350424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35" name=""/>
            <p:cNvSpPr/>
            <p:nvPr/>
          </p:nvSpPr>
          <p:spPr>
            <a:xfrm>
              <a:off x="1219320" y="4952880"/>
              <a:ext cx="53316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4952880"/>
              <a:ext cx="53352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4952880"/>
              <a:ext cx="53352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4952880"/>
              <a:ext cx="53316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90720" y="4952880"/>
              <a:ext cx="22860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52680" y="4952880"/>
              <a:ext cx="38124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5105160"/>
              <a:ext cx="53316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5105160"/>
              <a:ext cx="53352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0" y="5105160"/>
              <a:ext cx="53352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5105160"/>
              <a:ext cx="53316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5105160"/>
              <a:ext cx="22860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5105160"/>
              <a:ext cx="38124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257800"/>
              <a:ext cx="53316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5257800"/>
              <a:ext cx="53352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5257800"/>
              <a:ext cx="53352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5257800"/>
              <a:ext cx="53316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0720" y="5257800"/>
              <a:ext cx="22860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257800"/>
              <a:ext cx="38124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endCxn id="137" idx="1"/>
            </p:cNvCxnSpPr>
            <p:nvPr/>
          </p:nvCxnSpPr>
          <p:spPr>
            <a:xfrm>
              <a:off x="2285640" y="4343040"/>
              <a:ext cx="1080" cy="686520"/>
            </a:xfrm>
            <a:prstGeom prst="straightConnector1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3200400" y="274320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0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4572000"/>
              <a:ext cx="53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>
              <a:off x="2285640" y="5410080"/>
              <a:ext cx="1080" cy="381600"/>
            </a:xfrm>
            <a:prstGeom prst="straightConnector1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2057400" y="5790960"/>
              <a:ext cx="457200" cy="304920"/>
            </a:xfrm>
            <a:prstGeom prst="flowChartMagneticDisk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8280" y="5562360"/>
              <a:ext cx="533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86200" y="990360"/>
              <a:ext cx="2209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transfer from 2 DMU crates to Workers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1371600"/>
              <a:ext cx="304920" cy="2971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31"/>
                  </a:lnTo>
                  <a:cubicBezTo>
                    <a:pt x="10800" y="9831"/>
                    <a:pt x="16200" y="10731"/>
                    <a:pt x="21600" y="10731"/>
                  </a:cubicBezTo>
                  <a:cubicBezTo>
                    <a:pt x="16200" y="10731"/>
                    <a:pt x="10800" y="11631"/>
                    <a:pt x="10800" y="1253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81280" y="990360"/>
              <a:ext cx="228600" cy="3812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31"/>
                  </a:lnTo>
                  <a:cubicBezTo>
                    <a:pt x="10800" y="9831"/>
                    <a:pt x="16200" y="10731"/>
                    <a:pt x="21600" y="10731"/>
                  </a:cubicBezTo>
                  <a:cubicBezTo>
                    <a:pt x="16200" y="10731"/>
                    <a:pt x="10800" y="11631"/>
                    <a:pt x="10800" y="1253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2520" y="243828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3 Worker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C format 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com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 calc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 to Event Builder Que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38480" y="4800600"/>
              <a:ext cx="289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t 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 to local buffer using 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ing subevents from FASTBUS and VME digitizing cr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ing to the disk 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4343400"/>
              <a:ext cx="304920" cy="1828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31"/>
                  </a:lnTo>
                  <a:cubicBezTo>
                    <a:pt x="10800" y="9831"/>
                    <a:pt x="16200" y="10731"/>
                    <a:pt x="21600" y="10731"/>
                  </a:cubicBezTo>
                  <a:cubicBezTo>
                    <a:pt x="16200" y="10731"/>
                    <a:pt x="10800" y="11631"/>
                    <a:pt x="10800" y="1253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00400" y="320040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0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9144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6200000">
              <a:off x="342000" y="2705040"/>
              <a:ext cx="5331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343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16200000">
              <a:off x="342000" y="4762440"/>
              <a:ext cx="5331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5333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16200000">
              <a:off x="341640" y="5600520"/>
              <a:ext cx="5335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+10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5120" y="1066680"/>
              <a:ext cx="53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106668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6200" y="2209680"/>
              <a:ext cx="274320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2520" y="4572000"/>
              <a:ext cx="2743200" cy="75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761760"/>
              <a:ext cx="274320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477120" y="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3960" y="0"/>
            <a:ext cx="8690040" cy="6017760"/>
            <a:chOff x="453960" y="0"/>
            <a:chExt cx="8690040" cy="6017760"/>
          </a:xfrm>
        </p:grpSpPr>
        <p:sp>
          <p:nvSpPr>
            <p:cNvPr id="180" name=""/>
            <p:cNvSpPr/>
            <p:nvPr/>
          </p:nvSpPr>
          <p:spPr>
            <a:xfrm rot="16200000">
              <a:off x="264960" y="5522040"/>
              <a:ext cx="685800" cy="305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3080" y="0"/>
              <a:ext cx="2590920" cy="45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Jun 200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188280" y="4531320"/>
              <a:ext cx="836640" cy="305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8280" y="5562720"/>
              <a:ext cx="838440" cy="228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 MB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189720" y="2550240"/>
              <a:ext cx="836640" cy="305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4495680"/>
              <a:ext cx="914400" cy="228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3 MB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2680" y="4722840"/>
            <a:ext cx="3849840" cy="1754280"/>
            <a:chOff x="112680" y="4722840"/>
            <a:chExt cx="3849840" cy="1754280"/>
          </a:xfrm>
        </p:grpSpPr>
        <p:sp>
          <p:nvSpPr>
            <p:cNvPr id="187" name=""/>
            <p:cNvSpPr/>
            <p:nvPr/>
          </p:nvSpPr>
          <p:spPr>
            <a:xfrm rot="16200000">
              <a:off x="-190800" y="5026680"/>
              <a:ext cx="912960" cy="305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5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6172200"/>
              <a:ext cx="327672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stained rate = 28 MB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57200" y="4343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C9A-69D5-4C8B-9F97-6C80AC4042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533520" y="838080"/>
            <a:ext cx="5714640" cy="3923280"/>
            <a:chOff x="533520" y="838080"/>
            <a:chExt cx="5714640" cy="3923280"/>
          </a:xfrm>
        </p:grpSpPr>
        <p:pic>
          <p:nvPicPr>
            <p:cNvPr id="191" name="ezped" descr=""/>
            <p:cNvPicPr/>
            <p:nvPr/>
          </p:nvPicPr>
          <p:blipFill>
            <a:blip r:embed="rId1"/>
            <a:stretch/>
          </p:blipFill>
          <p:spPr>
            <a:xfrm>
              <a:off x="819000" y="838080"/>
              <a:ext cx="5429160" cy="36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04840" y="4471560"/>
              <a:ext cx="500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mplitude (ADC Count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-939960" y="2442240"/>
              <a:ext cx="32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066680" y="48769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 of all silicon signals accumulated from all sensors in one run (3000 ev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08640" y="144792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 data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*140,000=1680 K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08640" y="232092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limi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1*140,000=574 K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66680" y="990720"/>
            <a:ext cx="8077320" cy="4635360"/>
            <a:chOff x="1066680" y="990720"/>
            <a:chExt cx="8077320" cy="4635360"/>
          </a:xfrm>
        </p:grpSpPr>
        <p:grpSp>
          <p:nvGrpSpPr>
            <p:cNvPr id="198" name=""/>
            <p:cNvGrpSpPr/>
            <p:nvPr/>
          </p:nvGrpSpPr>
          <p:grpSpPr>
            <a:xfrm>
              <a:off x="1066680" y="990720"/>
              <a:ext cx="5029200" cy="3276360"/>
              <a:chOff x="1066680" y="990720"/>
              <a:chExt cx="5029200" cy="327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2057400" y="990720"/>
                <a:ext cx="76320" cy="3276360"/>
              </a:xfrm>
              <a:prstGeom prst="rect">
                <a:avLst/>
              </a:prstGeom>
              <a:solidFill>
                <a:srgbClr val="ff00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76720" y="3352680"/>
                <a:ext cx="2819160" cy="914400"/>
              </a:xfrm>
              <a:prstGeom prst="rect">
                <a:avLst/>
              </a:prstGeom>
              <a:solidFill>
                <a:srgbClr val="9933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33720" y="2133720"/>
                <a:ext cx="152280" cy="21333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0" y="2590920"/>
                <a:ext cx="228600" cy="16761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14600" y="2743200"/>
                <a:ext cx="152280" cy="15238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5120" y="2133720"/>
                <a:ext cx="152280" cy="21333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66680" y="3352680"/>
                <a:ext cx="838440" cy="914400"/>
              </a:xfrm>
              <a:prstGeom prst="rect">
                <a:avLst/>
              </a:prstGeom>
              <a:solidFill>
                <a:srgbClr val="9933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66880" y="3048120"/>
                <a:ext cx="228600" cy="121896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95480" y="3200400"/>
                <a:ext cx="381240" cy="1066680"/>
              </a:xfrm>
              <a:prstGeom prst="rect">
                <a:avLst/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1066680"/>
                <a:ext cx="914400" cy="381240"/>
              </a:xfrm>
              <a:prstGeom prst="wedgeRoundRectCallout">
                <a:avLst>
                  <a:gd name="adj1" fmla="val -92708"/>
                  <a:gd name="adj2" fmla="val 119583"/>
                  <a:gd name="adj3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b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90920" y="1600200"/>
                <a:ext cx="914400" cy="380880"/>
              </a:xfrm>
              <a:prstGeom prst="wedgeRoundRectCallout">
                <a:avLst>
                  <a:gd name="adj1" fmla="val -91666"/>
                  <a:gd name="adj2" fmla="val 104583"/>
                  <a:gd name="adj3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b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0600" y="2362320"/>
                <a:ext cx="1066680" cy="380880"/>
              </a:xfrm>
              <a:prstGeom prst="wedgeRoundRectCallout">
                <a:avLst>
                  <a:gd name="adj1" fmla="val -130356"/>
                  <a:gd name="adj2" fmla="val 207083"/>
                  <a:gd name="adj3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 b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6308640" y="3505320"/>
              <a:ext cx="283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urrent Huffman encoding algorithm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3*140,000=602 K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4800600"/>
              <a:ext cx="281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ression factor: 16/4.3 = 3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99720" y="8380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ount of Information in th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EDD-0BCE-4BB2-808E-2599143CB3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0" y="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img014" descr=""/>
          <p:cNvPicPr/>
          <p:nvPr/>
        </p:nvPicPr>
        <p:blipFill>
          <a:blip r:embed="rId1"/>
          <a:stretch/>
        </p:blipFill>
        <p:spPr>
          <a:xfrm>
            <a:off x="182520" y="138240"/>
            <a:ext cx="8778960" cy="6583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76520" y="18288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1680840"/>
            <a:ext cx="922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20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18288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880" y="1676160"/>
            <a:ext cx="9212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0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82880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20640" y="1676160"/>
            <a:ext cx="10904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500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2438280"/>
            <a:ext cx="1828800" cy="457200"/>
          </a:xfrm>
          <a:prstGeom prst="wedgeRoundRectCallout">
            <a:avLst>
              <a:gd name="adj1" fmla="val -44356"/>
              <a:gd name="adj2" fmla="val -15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28600"/>
            <a:ext cx="1828800" cy="457200"/>
          </a:xfrm>
          <a:prstGeom prst="wedgeRoundRectCallout">
            <a:avLst>
              <a:gd name="adj1" fmla="val 68750"/>
              <a:gd name="adj2" fmla="val 12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icon T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FC3-E2BB-4DC3-886E-39788A95A6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 T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685800"/>
            <a:ext cx="9144000" cy="2743200"/>
            <a:chOff x="0" y="685800"/>
            <a:chExt cx="9144000" cy="2743200"/>
          </a:xfrm>
        </p:grpSpPr>
        <p:sp>
          <p:nvSpPr>
            <p:cNvPr id="228" name=""/>
            <p:cNvSpPr/>
            <p:nvPr/>
          </p:nvSpPr>
          <p:spPr>
            <a:xfrm>
              <a:off x="0" y="685800"/>
              <a:ext cx="914400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280" y="1371600"/>
              <a:ext cx="13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git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280" y="16002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MU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18288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ib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20574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ork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280" y="22860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ork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280" y="25146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orker 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208960" y="1676520"/>
              <a:ext cx="533880" cy="76320"/>
              <a:chOff x="2208960" y="1676520"/>
              <a:chExt cx="533880" cy="76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209680" y="1676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42840" y="1676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8" name=""/>
              <p:cNvCxnSpPr>
                <a:stCxn id="237" idx="0"/>
                <a:endCxn id="236" idx="0"/>
              </p:cNvCxnSpPr>
              <p:nvPr/>
            </p:nvCxnSpPr>
            <p:spPr>
              <a:xfrm flipH="1">
                <a:off x="2208960" y="1752120"/>
                <a:ext cx="533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39" name=""/>
            <p:cNvGrpSpPr/>
            <p:nvPr/>
          </p:nvGrpSpPr>
          <p:grpSpPr>
            <a:xfrm>
              <a:off x="2742840" y="1905120"/>
              <a:ext cx="1370520" cy="76320"/>
              <a:chOff x="2742840" y="1905120"/>
              <a:chExt cx="1370520" cy="76320"/>
            </a:xfrm>
          </p:grpSpPr>
          <p:sp>
            <p:nvSpPr>
              <p:cNvPr id="240" name=""/>
              <p:cNvSpPr/>
              <p:nvPr/>
            </p:nvSpPr>
            <p:spPr>
              <a:xfrm>
                <a:off x="274320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1336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2" name=""/>
              <p:cNvCxnSpPr>
                <a:stCxn id="241" idx="0"/>
                <a:endCxn id="240" idx="0"/>
              </p:cNvCxnSpPr>
              <p:nvPr/>
            </p:nvCxnSpPr>
            <p:spPr>
              <a:xfrm flipH="1">
                <a:off x="2742840" y="1980720"/>
                <a:ext cx="1370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43" name=""/>
            <p:cNvGrpSpPr/>
            <p:nvPr/>
          </p:nvGrpSpPr>
          <p:grpSpPr>
            <a:xfrm>
              <a:off x="2819160" y="2133720"/>
              <a:ext cx="989640" cy="76320"/>
              <a:chOff x="2819160" y="2133720"/>
              <a:chExt cx="989640" cy="76320"/>
            </a:xfrm>
          </p:grpSpPr>
          <p:sp>
            <p:nvSpPr>
              <p:cNvPr id="244" name=""/>
              <p:cNvSpPr/>
              <p:nvPr/>
            </p:nvSpPr>
            <p:spPr>
              <a:xfrm>
                <a:off x="2819520" y="21337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8800" y="21337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6" name=""/>
              <p:cNvCxnSpPr>
                <a:stCxn id="245" idx="0"/>
                <a:endCxn id="244" idx="0"/>
              </p:cNvCxnSpPr>
              <p:nvPr/>
            </p:nvCxnSpPr>
            <p:spPr>
              <a:xfrm flipH="1">
                <a:off x="2819160" y="2209320"/>
                <a:ext cx="9900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47" name=""/>
            <p:cNvGrpSpPr/>
            <p:nvPr/>
          </p:nvGrpSpPr>
          <p:grpSpPr>
            <a:xfrm>
              <a:off x="1828080" y="1447920"/>
              <a:ext cx="381240" cy="76320"/>
              <a:chOff x="1828080" y="1447920"/>
              <a:chExt cx="381240" cy="76320"/>
            </a:xfrm>
          </p:grpSpPr>
          <p:sp>
            <p:nvSpPr>
              <p:cNvPr id="248" name=""/>
              <p:cNvSpPr/>
              <p:nvPr/>
            </p:nvSpPr>
            <p:spPr>
              <a:xfrm>
                <a:off x="1828800" y="1447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09320" y="1447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0" name=""/>
              <p:cNvCxnSpPr>
                <a:stCxn id="249" idx="0"/>
                <a:endCxn id="248" idx="0"/>
              </p:cNvCxnSpPr>
              <p:nvPr/>
            </p:nvCxnSpPr>
            <p:spPr>
              <a:xfrm flipH="1">
                <a:off x="1828080" y="1523520"/>
                <a:ext cx="38124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1" name=""/>
            <p:cNvSpPr/>
            <p:nvPr/>
          </p:nvSpPr>
          <p:spPr>
            <a:xfrm>
              <a:off x="152280" y="274320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E to 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647960" y="2819520"/>
              <a:ext cx="2664360" cy="76320"/>
              <a:chOff x="4647960" y="2819520"/>
              <a:chExt cx="2664360" cy="76320"/>
            </a:xfrm>
          </p:grpSpPr>
          <p:sp>
            <p:nvSpPr>
              <p:cNvPr id="253" name=""/>
              <p:cNvSpPr/>
              <p:nvPr/>
            </p:nvSpPr>
            <p:spPr>
              <a:xfrm>
                <a:off x="4648320" y="2819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12320" y="2819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4" idx="0"/>
                <a:endCxn id="253" idx="0"/>
              </p:cNvCxnSpPr>
              <p:nvPr/>
            </p:nvCxnSpPr>
            <p:spPr>
              <a:xfrm flipH="1">
                <a:off x="4647960" y="2895120"/>
                <a:ext cx="266472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6" name=""/>
            <p:cNvSpPr/>
            <p:nvPr/>
          </p:nvSpPr>
          <p:spPr>
            <a:xfrm>
              <a:off x="1828800" y="1295280"/>
              <a:ext cx="38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1523880"/>
              <a:ext cx="38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1752480"/>
              <a:ext cx="53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48120" y="1981080"/>
              <a:ext cx="53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2590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1066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1066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0"/>
              <a:endCxn id="262" idx="0"/>
            </p:cNvCxnSpPr>
            <p:nvPr/>
          </p:nvCxnSpPr>
          <p:spPr>
            <a:xfrm>
              <a:off x="1828800" y="1218960"/>
              <a:ext cx="2820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</p:cxnSp>
        <p:sp>
          <p:nvSpPr>
            <p:cNvPr id="264" name=""/>
            <p:cNvSpPr/>
            <p:nvPr/>
          </p:nvSpPr>
          <p:spPr>
            <a:xfrm>
              <a:off x="1828800" y="1219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8320" y="1219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1800" y="9907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968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320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33920" y="762120"/>
              <a:ext cx="1218960" cy="304560"/>
            </a:xfrm>
            <a:prstGeom prst="wedgeRoundRectCallout">
              <a:avLst>
                <a:gd name="adj1" fmla="val -73305"/>
                <a:gd name="adj2" fmla="val 5364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Goal: 3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028480" y="1676520"/>
              <a:ext cx="533880" cy="76320"/>
              <a:chOff x="5028480" y="1676520"/>
              <a:chExt cx="533880" cy="76320"/>
            </a:xfrm>
          </p:grpSpPr>
          <p:sp>
            <p:nvSpPr>
              <p:cNvPr id="272" name=""/>
              <p:cNvSpPr/>
              <p:nvPr/>
            </p:nvSpPr>
            <p:spPr>
              <a:xfrm>
                <a:off x="5029200" y="1676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62360" y="1676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4" name=""/>
              <p:cNvCxnSpPr>
                <a:stCxn id="273" idx="0"/>
                <a:endCxn id="272" idx="0"/>
              </p:cNvCxnSpPr>
              <p:nvPr/>
            </p:nvCxnSpPr>
            <p:spPr>
              <a:xfrm flipH="1">
                <a:off x="5028480" y="1752120"/>
                <a:ext cx="533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75" name=""/>
            <p:cNvGrpSpPr/>
            <p:nvPr/>
          </p:nvGrpSpPr>
          <p:grpSpPr>
            <a:xfrm>
              <a:off x="5562360" y="1905120"/>
              <a:ext cx="1370520" cy="76320"/>
              <a:chOff x="5562360" y="1905120"/>
              <a:chExt cx="1370520" cy="7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556272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32880" y="1905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8" name=""/>
              <p:cNvCxnSpPr>
                <a:stCxn id="277" idx="0"/>
                <a:endCxn id="276" idx="0"/>
              </p:cNvCxnSpPr>
              <p:nvPr/>
            </p:nvCxnSpPr>
            <p:spPr>
              <a:xfrm flipH="1">
                <a:off x="5562360" y="1980720"/>
                <a:ext cx="1370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79" name=""/>
            <p:cNvGrpSpPr/>
            <p:nvPr/>
          </p:nvGrpSpPr>
          <p:grpSpPr>
            <a:xfrm>
              <a:off x="5637960" y="2133720"/>
              <a:ext cx="990360" cy="76320"/>
              <a:chOff x="5637960" y="2133720"/>
              <a:chExt cx="990360" cy="76320"/>
            </a:xfrm>
          </p:grpSpPr>
          <p:sp>
            <p:nvSpPr>
              <p:cNvPr id="280" name=""/>
              <p:cNvSpPr/>
              <p:nvPr/>
            </p:nvSpPr>
            <p:spPr>
              <a:xfrm>
                <a:off x="5638680" y="21337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28320" y="21337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" name=""/>
              <p:cNvCxnSpPr>
                <a:stCxn id="281" idx="0"/>
                <a:endCxn id="280" idx="0"/>
              </p:cNvCxnSpPr>
              <p:nvPr/>
            </p:nvCxnSpPr>
            <p:spPr>
              <a:xfrm flipH="1">
                <a:off x="5637960" y="2209320"/>
                <a:ext cx="99036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83" name=""/>
            <p:cNvGrpSpPr/>
            <p:nvPr/>
          </p:nvGrpSpPr>
          <p:grpSpPr>
            <a:xfrm>
              <a:off x="4647600" y="1447920"/>
              <a:ext cx="381240" cy="76320"/>
              <a:chOff x="4647600" y="1447920"/>
              <a:chExt cx="381240" cy="76320"/>
            </a:xfrm>
          </p:grpSpPr>
          <p:sp>
            <p:nvSpPr>
              <p:cNvPr id="284" name=""/>
              <p:cNvSpPr/>
              <p:nvPr/>
            </p:nvSpPr>
            <p:spPr>
              <a:xfrm>
                <a:off x="4648320" y="1447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8840" y="14479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6" name=""/>
              <p:cNvCxnSpPr>
                <a:stCxn id="285" idx="0"/>
                <a:endCxn id="284" idx="0"/>
              </p:cNvCxnSpPr>
              <p:nvPr/>
            </p:nvCxnSpPr>
            <p:spPr>
              <a:xfrm flipH="1">
                <a:off x="4647600" y="1523520"/>
                <a:ext cx="38124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7" name=""/>
            <p:cNvSpPr/>
            <p:nvPr/>
          </p:nvSpPr>
          <p:spPr>
            <a:xfrm>
              <a:off x="4648320" y="1295280"/>
              <a:ext cx="38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05520" y="1523880"/>
              <a:ext cx="38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1752480"/>
              <a:ext cx="53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1981080"/>
              <a:ext cx="53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272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7480" y="10666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467120" y="2819520"/>
              <a:ext cx="1675080" cy="76320"/>
              <a:chOff x="7467120" y="2819520"/>
              <a:chExt cx="1675080" cy="76320"/>
            </a:xfrm>
          </p:grpSpPr>
          <p:sp>
            <p:nvSpPr>
              <p:cNvPr id="296" name=""/>
              <p:cNvSpPr/>
              <p:nvPr/>
            </p:nvSpPr>
            <p:spPr>
              <a:xfrm>
                <a:off x="7467480" y="2819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142200" y="2819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8" name=""/>
              <p:cNvCxnSpPr>
                <a:stCxn id="297" idx="0"/>
                <a:endCxn id="296" idx="0"/>
              </p:cNvCxnSpPr>
              <p:nvPr/>
            </p:nvCxnSpPr>
            <p:spPr>
              <a:xfrm flipH="1">
                <a:off x="7467120" y="2895120"/>
                <a:ext cx="167544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99" name=""/>
            <p:cNvSpPr/>
            <p:nvPr/>
          </p:nvSpPr>
          <p:spPr>
            <a:xfrm>
              <a:off x="8001000" y="2590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00400" y="3200400"/>
              <a:ext cx="487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Fibers. Currently 176 Hz, achievable 300 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971080" y="2362320"/>
              <a:ext cx="990360" cy="76320"/>
              <a:chOff x="2971080" y="2362320"/>
              <a:chExt cx="990360" cy="763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71800" y="23623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961440" y="23623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4" name=""/>
              <p:cNvCxnSpPr>
                <a:stCxn id="303" idx="0"/>
                <a:endCxn id="302" idx="0"/>
              </p:cNvCxnSpPr>
              <p:nvPr/>
            </p:nvCxnSpPr>
            <p:spPr>
              <a:xfrm flipH="1">
                <a:off x="2971080" y="2437920"/>
                <a:ext cx="99036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5" name=""/>
            <p:cNvSpPr/>
            <p:nvPr/>
          </p:nvSpPr>
          <p:spPr>
            <a:xfrm>
              <a:off x="3200400" y="2209680"/>
              <a:ext cx="53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790960" y="2362320"/>
              <a:ext cx="989640" cy="76320"/>
              <a:chOff x="5790960" y="2362320"/>
              <a:chExt cx="989640" cy="76320"/>
            </a:xfrm>
          </p:grpSpPr>
          <p:sp>
            <p:nvSpPr>
              <p:cNvPr id="307" name=""/>
              <p:cNvSpPr/>
              <p:nvPr/>
            </p:nvSpPr>
            <p:spPr>
              <a:xfrm>
                <a:off x="5791320" y="23623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80600" y="23623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9" name=""/>
              <p:cNvCxnSpPr>
                <a:stCxn id="308" idx="0"/>
                <a:endCxn id="307" idx="0"/>
              </p:cNvCxnSpPr>
              <p:nvPr/>
            </p:nvCxnSpPr>
            <p:spPr>
              <a:xfrm flipH="1">
                <a:off x="5790960" y="2437920"/>
                <a:ext cx="9900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0" name=""/>
            <p:cNvSpPr/>
            <p:nvPr/>
          </p:nvSpPr>
          <p:spPr>
            <a:xfrm>
              <a:off x="6019920" y="2209680"/>
              <a:ext cx="53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114080" y="2438280"/>
              <a:ext cx="990360" cy="228960"/>
              <a:chOff x="4114080" y="2438280"/>
              <a:chExt cx="990360" cy="22896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4114080" y="2590560"/>
                <a:ext cx="990360" cy="76680"/>
                <a:chOff x="4114080" y="2590560"/>
                <a:chExt cx="990360" cy="76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114800" y="25905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104440" y="25905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15" name=""/>
                <p:cNvCxnSpPr>
                  <a:stCxn id="314" idx="0"/>
                  <a:endCxn id="313" idx="0"/>
                </p:cNvCxnSpPr>
                <p:nvPr/>
              </p:nvCxnSpPr>
              <p:spPr>
                <a:xfrm flipH="1">
                  <a:off x="4114080" y="2666520"/>
                  <a:ext cx="99036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316" name=""/>
              <p:cNvSpPr/>
              <p:nvPr/>
            </p:nvSpPr>
            <p:spPr>
              <a:xfrm>
                <a:off x="4343400" y="2438280"/>
                <a:ext cx="5335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1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933960" y="2438280"/>
              <a:ext cx="989640" cy="228960"/>
              <a:chOff x="6933960" y="2438280"/>
              <a:chExt cx="989640" cy="2289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6933960" y="2590560"/>
                <a:ext cx="989640" cy="76680"/>
                <a:chOff x="6933960" y="2590560"/>
                <a:chExt cx="989640" cy="766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934320" y="25905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923600" y="25905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21" name=""/>
                <p:cNvCxnSpPr>
                  <a:stCxn id="320" idx="0"/>
                  <a:endCxn id="319" idx="0"/>
                </p:cNvCxnSpPr>
                <p:nvPr/>
              </p:nvCxnSpPr>
              <p:spPr>
                <a:xfrm flipH="1">
                  <a:off x="6933960" y="2666520"/>
                  <a:ext cx="99000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322" name=""/>
              <p:cNvSpPr/>
              <p:nvPr/>
            </p:nvSpPr>
            <p:spPr>
              <a:xfrm>
                <a:off x="7162560" y="2438280"/>
                <a:ext cx="5331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1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0" y="3733920"/>
            <a:ext cx="9144000" cy="2743200"/>
            <a:chOff x="0" y="3733920"/>
            <a:chExt cx="9144000" cy="2743200"/>
          </a:xfrm>
        </p:grpSpPr>
        <p:sp>
          <p:nvSpPr>
            <p:cNvPr id="324" name=""/>
            <p:cNvSpPr/>
            <p:nvPr/>
          </p:nvSpPr>
          <p:spPr>
            <a:xfrm>
              <a:off x="0" y="3733920"/>
              <a:ext cx="914400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280" y="4419720"/>
              <a:ext cx="13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git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2280" y="464832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MU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280" y="487692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ib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280" y="510552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ork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533412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ork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280" y="556272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orker 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208960" y="4724640"/>
              <a:ext cx="533880" cy="76680"/>
              <a:chOff x="2208960" y="4724640"/>
              <a:chExt cx="533880" cy="76680"/>
            </a:xfrm>
          </p:grpSpPr>
          <p:sp>
            <p:nvSpPr>
              <p:cNvPr id="332" name=""/>
              <p:cNvSpPr/>
              <p:nvPr/>
            </p:nvSpPr>
            <p:spPr>
              <a:xfrm>
                <a:off x="2209680" y="4724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742840" y="4724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"/>
              <p:cNvCxnSpPr>
                <a:stCxn id="333" idx="0"/>
                <a:endCxn id="332" idx="0"/>
              </p:cNvCxnSpPr>
              <p:nvPr/>
            </p:nvCxnSpPr>
            <p:spPr>
              <a:xfrm flipH="1">
                <a:off x="2208960" y="4800600"/>
                <a:ext cx="533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35" name=""/>
            <p:cNvGrpSpPr/>
            <p:nvPr/>
          </p:nvGrpSpPr>
          <p:grpSpPr>
            <a:xfrm>
              <a:off x="1828080" y="4496040"/>
              <a:ext cx="381240" cy="76680"/>
              <a:chOff x="1828080" y="4496040"/>
              <a:chExt cx="381240" cy="76680"/>
            </a:xfrm>
          </p:grpSpPr>
          <p:sp>
            <p:nvSpPr>
              <p:cNvPr id="336" name=""/>
              <p:cNvSpPr/>
              <p:nvPr/>
            </p:nvSpPr>
            <p:spPr>
              <a:xfrm>
                <a:off x="1828800" y="4496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9320" y="4496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8" name=""/>
              <p:cNvCxnSpPr>
                <a:stCxn id="337" idx="0"/>
                <a:endCxn id="336" idx="0"/>
              </p:cNvCxnSpPr>
              <p:nvPr/>
            </p:nvCxnSpPr>
            <p:spPr>
              <a:xfrm flipH="1">
                <a:off x="1828080" y="4572000"/>
                <a:ext cx="38124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39" name=""/>
            <p:cNvSpPr/>
            <p:nvPr/>
          </p:nvSpPr>
          <p:spPr>
            <a:xfrm>
              <a:off x="152280" y="579132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PDP to 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47600" y="5867640"/>
              <a:ext cx="1827720" cy="76680"/>
              <a:chOff x="4647600" y="5867640"/>
              <a:chExt cx="1827720" cy="76680"/>
            </a:xfrm>
          </p:grpSpPr>
          <p:sp>
            <p:nvSpPr>
              <p:cNvPr id="341" name=""/>
              <p:cNvSpPr/>
              <p:nvPr/>
            </p:nvSpPr>
            <p:spPr>
              <a:xfrm>
                <a:off x="4648320" y="5867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75320" y="5867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>
                <a:stCxn id="342" idx="0"/>
                <a:endCxn id="341" idx="0"/>
              </p:cNvCxnSpPr>
              <p:nvPr/>
            </p:nvCxnSpPr>
            <p:spPr>
              <a:xfrm flipH="1">
                <a:off x="4647600" y="5943600"/>
                <a:ext cx="182772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4" name=""/>
            <p:cNvSpPr/>
            <p:nvPr/>
          </p:nvSpPr>
          <p:spPr>
            <a:xfrm>
              <a:off x="1828800" y="4343760"/>
              <a:ext cx="380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0" y="4572360"/>
              <a:ext cx="380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819160" y="5181840"/>
              <a:ext cx="989640" cy="76680"/>
              <a:chOff x="2819160" y="5181840"/>
              <a:chExt cx="989640" cy="76680"/>
            </a:xfrm>
          </p:grpSpPr>
          <p:sp>
            <p:nvSpPr>
              <p:cNvPr id="347" name=""/>
              <p:cNvSpPr/>
              <p:nvPr/>
            </p:nvSpPr>
            <p:spPr>
              <a:xfrm>
                <a:off x="2819520" y="5181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08800" y="5181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48" idx="0"/>
                <a:endCxn id="347" idx="0"/>
              </p:cNvCxnSpPr>
              <p:nvPr/>
            </p:nvCxnSpPr>
            <p:spPr>
              <a:xfrm flipH="1">
                <a:off x="2819160" y="5257800"/>
                <a:ext cx="9900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50" name=""/>
            <p:cNvGrpSpPr/>
            <p:nvPr/>
          </p:nvGrpSpPr>
          <p:grpSpPr>
            <a:xfrm>
              <a:off x="2895120" y="5410440"/>
              <a:ext cx="914040" cy="76680"/>
              <a:chOff x="2895120" y="5410440"/>
              <a:chExt cx="914040" cy="766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95480" y="54104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09160" y="54104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stCxn id="352" idx="0"/>
                <a:endCxn id="351" idx="0"/>
              </p:cNvCxnSpPr>
              <p:nvPr/>
            </p:nvCxnSpPr>
            <p:spPr>
              <a:xfrm flipH="1">
                <a:off x="2895120" y="5486400"/>
                <a:ext cx="9144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54" name=""/>
            <p:cNvGrpSpPr/>
            <p:nvPr/>
          </p:nvGrpSpPr>
          <p:grpSpPr>
            <a:xfrm>
              <a:off x="2742840" y="4800960"/>
              <a:ext cx="1370520" cy="228960"/>
              <a:chOff x="2742840" y="4800960"/>
              <a:chExt cx="1370520" cy="2289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2742840" y="4953240"/>
                <a:ext cx="1370520" cy="76680"/>
                <a:chOff x="2742840" y="4953240"/>
                <a:chExt cx="1370520" cy="76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743200" y="4953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113360" y="49532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8" name=""/>
                <p:cNvCxnSpPr>
                  <a:stCxn id="357" idx="0"/>
                  <a:endCxn id="356" idx="0"/>
                </p:cNvCxnSpPr>
                <p:nvPr/>
              </p:nvCxnSpPr>
              <p:spPr>
                <a:xfrm flipH="1">
                  <a:off x="2742840" y="5029200"/>
                  <a:ext cx="137088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359" name=""/>
              <p:cNvSpPr/>
              <p:nvPr/>
            </p:nvSpPr>
            <p:spPr>
              <a:xfrm>
                <a:off x="3200400" y="4800960"/>
                <a:ext cx="5335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15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3048120" y="5029560"/>
              <a:ext cx="53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1480" y="5639040"/>
              <a:ext cx="53352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3200" y="4115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0"/>
              <a:endCxn id="364" idx="0"/>
            </p:cNvCxnSpPr>
            <p:nvPr/>
          </p:nvCxnSpPr>
          <p:spPr>
            <a:xfrm>
              <a:off x="2743200" y="4267080"/>
              <a:ext cx="190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</p:cxnSp>
        <p:sp>
          <p:nvSpPr>
            <p:cNvPr id="365" name=""/>
            <p:cNvSpPr/>
            <p:nvPr/>
          </p:nvSpPr>
          <p:spPr>
            <a:xfrm>
              <a:off x="182880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4832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29000" y="403884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0968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4320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48320" y="4115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733200" y="4343760"/>
              <a:ext cx="914760" cy="457560"/>
              <a:chOff x="3733200" y="4343760"/>
              <a:chExt cx="914760" cy="45756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114080" y="4724640"/>
                <a:ext cx="533880" cy="76680"/>
                <a:chOff x="4114080" y="4724640"/>
                <a:chExt cx="533880" cy="76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114800" y="47246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647960" y="47246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76" name=""/>
                <p:cNvCxnSpPr>
                  <a:stCxn id="375" idx="0"/>
                  <a:endCxn id="374" idx="0"/>
                </p:cNvCxnSpPr>
                <p:nvPr/>
              </p:nvCxnSpPr>
              <p:spPr>
                <a:xfrm flipH="1">
                  <a:off x="4114080" y="4800600"/>
                  <a:ext cx="53388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77" name=""/>
              <p:cNvGrpSpPr/>
              <p:nvPr/>
            </p:nvGrpSpPr>
            <p:grpSpPr>
              <a:xfrm>
                <a:off x="3733200" y="4496040"/>
                <a:ext cx="381240" cy="76680"/>
                <a:chOff x="3733200" y="4496040"/>
                <a:chExt cx="381240" cy="766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733920" y="44960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14440" y="44960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80" name=""/>
                <p:cNvCxnSpPr>
                  <a:stCxn id="379" idx="0"/>
                  <a:endCxn id="378" idx="0"/>
                </p:cNvCxnSpPr>
                <p:nvPr/>
              </p:nvCxnSpPr>
              <p:spPr>
                <a:xfrm flipH="1">
                  <a:off x="3733200" y="4572000"/>
                  <a:ext cx="38124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381" name=""/>
              <p:cNvSpPr/>
              <p:nvPr/>
            </p:nvSpPr>
            <p:spPr>
              <a:xfrm>
                <a:off x="3733920" y="4343760"/>
                <a:ext cx="380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3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91120" y="4572360"/>
                <a:ext cx="380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4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647960" y="4953240"/>
              <a:ext cx="1370520" cy="76680"/>
              <a:chOff x="4647960" y="4953240"/>
              <a:chExt cx="1370520" cy="76680"/>
            </a:xfrm>
          </p:grpSpPr>
          <p:sp>
            <p:nvSpPr>
              <p:cNvPr id="384" name=""/>
              <p:cNvSpPr/>
              <p:nvPr/>
            </p:nvSpPr>
            <p:spPr>
              <a:xfrm>
                <a:off x="4648320" y="49532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018480" y="49532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6" name=""/>
              <p:cNvCxnSpPr>
                <a:stCxn id="385" idx="0"/>
                <a:endCxn id="384" idx="0"/>
              </p:cNvCxnSpPr>
              <p:nvPr/>
            </p:nvCxnSpPr>
            <p:spPr>
              <a:xfrm flipH="1">
                <a:off x="4647960" y="5029200"/>
                <a:ext cx="1370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87" name=""/>
            <p:cNvGrpSpPr/>
            <p:nvPr/>
          </p:nvGrpSpPr>
          <p:grpSpPr>
            <a:xfrm>
              <a:off x="4723560" y="5181840"/>
              <a:ext cx="990360" cy="76680"/>
              <a:chOff x="4723560" y="5181840"/>
              <a:chExt cx="990360" cy="76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724280" y="5181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13920" y="5181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0" name=""/>
              <p:cNvCxnSpPr>
                <a:stCxn id="389" idx="0"/>
                <a:endCxn id="388" idx="0"/>
              </p:cNvCxnSpPr>
              <p:nvPr/>
            </p:nvCxnSpPr>
            <p:spPr>
              <a:xfrm flipH="1">
                <a:off x="4723560" y="5257800"/>
                <a:ext cx="99036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91" name=""/>
            <p:cNvGrpSpPr/>
            <p:nvPr/>
          </p:nvGrpSpPr>
          <p:grpSpPr>
            <a:xfrm>
              <a:off x="4800240" y="5410440"/>
              <a:ext cx="914040" cy="76680"/>
              <a:chOff x="4800240" y="5410440"/>
              <a:chExt cx="914040" cy="76680"/>
            </a:xfrm>
          </p:grpSpPr>
          <p:sp>
            <p:nvSpPr>
              <p:cNvPr id="392" name=""/>
              <p:cNvSpPr/>
              <p:nvPr/>
            </p:nvSpPr>
            <p:spPr>
              <a:xfrm>
                <a:off x="4800600" y="54104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14280" y="54104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4" name=""/>
              <p:cNvCxnSpPr>
                <a:stCxn id="393" idx="0"/>
                <a:endCxn id="392" idx="0"/>
              </p:cNvCxnSpPr>
              <p:nvPr/>
            </p:nvCxnSpPr>
            <p:spPr>
              <a:xfrm flipH="1">
                <a:off x="4800240" y="5486400"/>
                <a:ext cx="9144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5" name=""/>
            <p:cNvSpPr/>
            <p:nvPr/>
          </p:nvSpPr>
          <p:spPr>
            <a:xfrm>
              <a:off x="5105520" y="4800960"/>
              <a:ext cx="53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2880" y="502956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992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5308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229600" y="4115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629040" y="5867640"/>
              <a:ext cx="1598760" cy="76680"/>
              <a:chOff x="6629040" y="5867640"/>
              <a:chExt cx="1598760" cy="76680"/>
            </a:xfrm>
          </p:grpSpPr>
          <p:sp>
            <p:nvSpPr>
              <p:cNvPr id="401" name=""/>
              <p:cNvSpPr/>
              <p:nvPr/>
            </p:nvSpPr>
            <p:spPr>
              <a:xfrm>
                <a:off x="6629400" y="5867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27800" y="5867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3" name=""/>
              <p:cNvCxnSpPr>
                <a:stCxn id="402" idx="0"/>
                <a:endCxn id="401" idx="0"/>
              </p:cNvCxnSpPr>
              <p:nvPr/>
            </p:nvCxnSpPr>
            <p:spPr>
              <a:xfrm flipH="1">
                <a:off x="6629040" y="5943600"/>
                <a:ext cx="159912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04" name=""/>
            <p:cNvGrpSpPr/>
            <p:nvPr/>
          </p:nvGrpSpPr>
          <p:grpSpPr>
            <a:xfrm>
              <a:off x="5637960" y="4343760"/>
              <a:ext cx="914760" cy="457560"/>
              <a:chOff x="5637960" y="4343760"/>
              <a:chExt cx="914760" cy="4575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6018840" y="4724640"/>
                <a:ext cx="533880" cy="76680"/>
                <a:chOff x="6018840" y="4724640"/>
                <a:chExt cx="533880" cy="766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019560" y="47246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52720" y="47246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08" name=""/>
                <p:cNvCxnSpPr>
                  <a:stCxn id="407" idx="0"/>
                  <a:endCxn id="406" idx="0"/>
                </p:cNvCxnSpPr>
                <p:nvPr/>
              </p:nvCxnSpPr>
              <p:spPr>
                <a:xfrm flipH="1">
                  <a:off x="6018840" y="4800600"/>
                  <a:ext cx="53388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09" name=""/>
              <p:cNvGrpSpPr/>
              <p:nvPr/>
            </p:nvGrpSpPr>
            <p:grpSpPr>
              <a:xfrm>
                <a:off x="5637960" y="4496040"/>
                <a:ext cx="381240" cy="76680"/>
                <a:chOff x="5637960" y="4496040"/>
                <a:chExt cx="381240" cy="766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638680" y="44960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9200" y="44960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2" name=""/>
                <p:cNvCxnSpPr>
                  <a:stCxn id="411" idx="0"/>
                  <a:endCxn id="410" idx="0"/>
                </p:cNvCxnSpPr>
                <p:nvPr/>
              </p:nvCxnSpPr>
              <p:spPr>
                <a:xfrm flipH="1">
                  <a:off x="5637960" y="4572000"/>
                  <a:ext cx="38124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3" name=""/>
              <p:cNvSpPr/>
              <p:nvPr/>
            </p:nvSpPr>
            <p:spPr>
              <a:xfrm>
                <a:off x="5638680" y="4343760"/>
                <a:ext cx="380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3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95880" y="4572360"/>
                <a:ext cx="380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4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52720" y="4953240"/>
              <a:ext cx="1370520" cy="76680"/>
              <a:chOff x="6552720" y="4953240"/>
              <a:chExt cx="1370520" cy="76680"/>
            </a:xfrm>
          </p:grpSpPr>
          <p:sp>
            <p:nvSpPr>
              <p:cNvPr id="416" name=""/>
              <p:cNvSpPr/>
              <p:nvPr/>
            </p:nvSpPr>
            <p:spPr>
              <a:xfrm>
                <a:off x="6553080" y="49532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23240" y="49532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8" name=""/>
              <p:cNvCxnSpPr>
                <a:stCxn id="417" idx="0"/>
                <a:endCxn id="416" idx="0"/>
              </p:cNvCxnSpPr>
              <p:nvPr/>
            </p:nvCxnSpPr>
            <p:spPr>
              <a:xfrm flipH="1">
                <a:off x="6552720" y="5029200"/>
                <a:ext cx="13708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19" name=""/>
            <p:cNvGrpSpPr/>
            <p:nvPr/>
          </p:nvGrpSpPr>
          <p:grpSpPr>
            <a:xfrm>
              <a:off x="6628680" y="5181840"/>
              <a:ext cx="990360" cy="76680"/>
              <a:chOff x="6628680" y="5181840"/>
              <a:chExt cx="990360" cy="766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29400" y="5181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619040" y="5181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2" name=""/>
              <p:cNvCxnSpPr>
                <a:stCxn id="421" idx="0"/>
                <a:endCxn id="420" idx="0"/>
              </p:cNvCxnSpPr>
              <p:nvPr/>
            </p:nvCxnSpPr>
            <p:spPr>
              <a:xfrm flipH="1">
                <a:off x="6628680" y="5257800"/>
                <a:ext cx="99036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23" name=""/>
            <p:cNvGrpSpPr/>
            <p:nvPr/>
          </p:nvGrpSpPr>
          <p:grpSpPr>
            <a:xfrm>
              <a:off x="6705360" y="5410440"/>
              <a:ext cx="914040" cy="76680"/>
              <a:chOff x="6705360" y="5410440"/>
              <a:chExt cx="914040" cy="76680"/>
            </a:xfrm>
          </p:grpSpPr>
          <p:sp>
            <p:nvSpPr>
              <p:cNvPr id="424" name=""/>
              <p:cNvSpPr/>
              <p:nvPr/>
            </p:nvSpPr>
            <p:spPr>
              <a:xfrm>
                <a:off x="6705720" y="54104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19400" y="54104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6" name=""/>
              <p:cNvCxnSpPr>
                <a:stCxn id="425" idx="0"/>
                <a:endCxn id="424" idx="0"/>
              </p:cNvCxnSpPr>
              <p:nvPr/>
            </p:nvCxnSpPr>
            <p:spPr>
              <a:xfrm flipH="1">
                <a:off x="6705360" y="5486400"/>
                <a:ext cx="9144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7" name=""/>
            <p:cNvSpPr/>
            <p:nvPr/>
          </p:nvSpPr>
          <p:spPr>
            <a:xfrm>
              <a:off x="7010280" y="480096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58000" y="502956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0400" y="6172560"/>
              <a:ext cx="495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Fibers. Overlapped digitization. 500 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3080" y="3733920"/>
              <a:ext cx="1905120" cy="914400"/>
            </a:xfrm>
            <a:prstGeom prst="wedgeRoundRectCallout">
              <a:avLst>
                <a:gd name="adj1" fmla="val -96250"/>
                <a:gd name="adj2" fmla="val 16562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ms instantane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 ms susta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114080" y="5639040"/>
              <a:ext cx="990360" cy="76680"/>
              <a:chOff x="4114080" y="5639040"/>
              <a:chExt cx="990360" cy="76680"/>
            </a:xfrm>
          </p:grpSpPr>
          <p:sp>
            <p:nvSpPr>
              <p:cNvPr id="432" name=""/>
              <p:cNvSpPr/>
              <p:nvPr/>
            </p:nvSpPr>
            <p:spPr>
              <a:xfrm>
                <a:off x="4114800" y="5639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04440" y="5639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3" idx="0"/>
                <a:endCxn id="432" idx="0"/>
              </p:cNvCxnSpPr>
              <p:nvPr/>
            </p:nvCxnSpPr>
            <p:spPr>
              <a:xfrm flipH="1">
                <a:off x="4114080" y="5715000"/>
                <a:ext cx="99036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5" name=""/>
            <p:cNvSpPr/>
            <p:nvPr/>
          </p:nvSpPr>
          <p:spPr>
            <a:xfrm>
              <a:off x="4343400" y="548676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019560" y="5639040"/>
              <a:ext cx="989640" cy="76680"/>
              <a:chOff x="6019560" y="5639040"/>
              <a:chExt cx="989640" cy="76680"/>
            </a:xfrm>
          </p:grpSpPr>
          <p:sp>
            <p:nvSpPr>
              <p:cNvPr id="437" name=""/>
              <p:cNvSpPr/>
              <p:nvPr/>
            </p:nvSpPr>
            <p:spPr>
              <a:xfrm>
                <a:off x="6019920" y="5639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09200" y="5639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9" name=""/>
              <p:cNvCxnSpPr>
                <a:stCxn id="438" idx="0"/>
                <a:endCxn id="437" idx="0"/>
              </p:cNvCxnSpPr>
              <p:nvPr/>
            </p:nvCxnSpPr>
            <p:spPr>
              <a:xfrm flipH="1">
                <a:off x="6019560" y="5715000"/>
                <a:ext cx="9900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40" name=""/>
            <p:cNvSpPr/>
            <p:nvPr/>
          </p:nvSpPr>
          <p:spPr>
            <a:xfrm>
              <a:off x="6248520" y="5486760"/>
              <a:ext cx="53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7923960" y="5639040"/>
              <a:ext cx="990360" cy="76680"/>
              <a:chOff x="7923960" y="5639040"/>
              <a:chExt cx="990360" cy="76680"/>
            </a:xfrm>
          </p:grpSpPr>
          <p:sp>
            <p:nvSpPr>
              <p:cNvPr id="442" name=""/>
              <p:cNvSpPr/>
              <p:nvPr/>
            </p:nvSpPr>
            <p:spPr>
              <a:xfrm>
                <a:off x="7924680" y="5639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14320" y="5639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4" name=""/>
              <p:cNvCxnSpPr>
                <a:stCxn id="443" idx="0"/>
                <a:endCxn id="442" idx="0"/>
              </p:cNvCxnSpPr>
              <p:nvPr/>
            </p:nvCxnSpPr>
            <p:spPr>
              <a:xfrm flipH="1">
                <a:off x="7923960" y="5715000"/>
                <a:ext cx="99036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45" name=""/>
            <p:cNvSpPr/>
            <p:nvPr/>
          </p:nvSpPr>
          <p:spPr>
            <a:xfrm>
              <a:off x="8153280" y="548676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082-8A88-46C5-A562-11E0465ACD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28600" y="43434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rrespon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H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aken into acco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s on the RACE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exclus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be optim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680" y="68580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 performance of the single worker = 14 MB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 factor for high intensity run = 3.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data sample per worker = 14432 bytes, output size ~ 4 K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80880" y="2362320"/>
          <a:ext cx="5791320" cy="1822320"/>
        </p:xfrm>
        <a:graphic>
          <a:graphicData uri="http://schemas.openxmlformats.org/drawingml/2006/table">
            <a:tbl>
              <a:tblPr/>
              <a:tblGrid>
                <a:gridCol w="4289400"/>
                <a:gridCol w="1501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, 14 kB / 160 MB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, 14 kB / 14 MB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out, 4 kB / 160 MB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22860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table shows itemized busy time of a single wor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of the Mercur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3434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P data we can expect compression factor 4.0, the event size = 295 KB/4.0 = 74 KB. At 900 Hz it correspond to 66 MB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EA2-3FAC-41C1-A0B4-C0110839C7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23920" y="684360"/>
          <a:ext cx="4941720" cy="58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684360"/>
                    <a:ext cx="494172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5181480" y="609480"/>
            <a:ext cx="381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ble shows the optimal distribution of FECs between 21 workers. Amazingly the number 21 is optimal for our setup, it allows maximal size of the worker = 14336 bytes. The next magic number of workers is 25, it has max worker size = 13312 bytes. To get the max worker size minimal (but full FECs) one need 32 workers and max worker size will be 122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on of FECs Between Wor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5486400"/>
            <a:ext cx="3581280" cy="990720"/>
          </a:xfrm>
          <a:prstGeom prst="wedgeRoundRectCallout">
            <a:avLst>
              <a:gd name="adj1" fmla="val -88120"/>
              <a:gd name="adj2" fmla="val -18573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redistributed uniformly between c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52680" y="3581280"/>
            <a:ext cx="83844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E1D-BC35-437E-A2EF-E208A0046C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6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44:01Z</dcterms:created>
  <dc:creator>Andrei</dc:creator>
  <dc:description/>
  <dc:language>en-US</dc:language>
  <cp:lastModifiedBy>Andrei</cp:lastModifiedBy>
  <dcterms:modified xsi:type="dcterms:W3CDTF">2002-06-06T21:26:44Z</dcterms:modified>
  <cp:revision>19</cp:revision>
  <dc:subject/>
  <dc:title>PowerPoint Presentation</dc:title>
</cp:coreProperties>
</file>