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549-5BC8-40F6-93FC-230407CF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4688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805-A83E-49E0-A606-C7CDB91F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ED9-9854-4A1C-8D5F-071016FD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546-15A9-439A-B564-F41AEA5A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B80-14A0-4B01-AD39-2E805A07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A0B-F2E3-4AE0-8079-858CA4CE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14C-FF29-473D-895A-DAEAE5BD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9C1-CABE-46D3-9960-F33881B3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C5B-4EDB-43D2-AD3A-F245AFF1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1F0-25A8-4413-B24D-0B5DDC28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A68-1044-4BDE-A749-736232E7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4688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6E7-F7DF-4256-8E8B-4F16C0D9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8114-9380-480F-B1FC-21DC6D8BF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7680" y="685800"/>
            <a:ext cx="8321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cessfu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ress Rehears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n Nov 6. New data files written with Silicon and FastBus, compressed/uncompressed. 140 Hz. Missing parts in data stream fixed. Phat upd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cessful manual data valid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ion to online is working. Being fine tu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-year old problem with L0 board solved (unexpected gates for padd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ineering runs with Silicon (successful) and TOF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successfu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0 board upgrad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dded: 4 prescalers, pileup monitoring. Boar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old and new D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F data taking time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2 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Silicon 1.4-1.8 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ME readout del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DAQ rate is not tu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Q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4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Q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7680" y="685800"/>
            <a:ext cx="8321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stBus calibration modes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ME readout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Nov 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der for disk system upgr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licon calibration mode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L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rate tu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4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14:24:45Z</dcterms:created>
  <dc:creator>Andrei</dc:creator>
  <dc:description/>
  <dc:language>en-US</dc:language>
  <cp:lastModifiedBy>Andrei</cp:lastModifiedBy>
  <dcterms:modified xsi:type="dcterms:W3CDTF">2002-11-14T18:26:20Z</dcterms:modified>
  <cp:revision>12</cp:revision>
  <dc:subject/>
  <dc:title>DAQ Status</dc:title>
</cp:coreProperties>
</file>