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EFB9-6F00-4D66-84CA-27094D244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3341-9D94-466A-9DC9-5444B70F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7255-4E6F-4E2C-9883-4146CD613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B0D7-9127-4306-8694-7B2FE6030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7BC3-7AD4-4A26-BD59-2FC0C560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E384-59DC-471A-BF1B-7E158CBC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6D1E-CE89-4F84-8ABD-7A157EF9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F713-1E95-4EEB-9438-EAC95E5C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24FF-7C12-4620-8A77-F11BE0BB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0325-3E99-4DEE-90CB-CFE88EE7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318C-E907-47AE-8434-80AEA2FE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257F-94D0-4ABF-9FBD-E1E94CD8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2C34-8537-4DC5-B8DA-5608436F6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7680" y="685800"/>
            <a:ext cx="8321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licon to Mercury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00 ev/s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 MB/s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single event data taking time = 1.4 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rcury to UltraSPARC. (hard 80 MB/s, soft 64 MB/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program: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20 ev/s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2 MB/s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% 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ltraSPARC to disk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47 ev/s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4.7 MB/s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% CPU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progr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rcury to disk.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30 ev/s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23 MB/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% CPU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program. There is a room for improv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k to RCF.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0 ev/s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-30 MB/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progr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licon to disk. ?, working on it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Q Bottlene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rate" descr=""/>
          <p:cNvPicPr/>
          <p:nvPr/>
        </p:nvPicPr>
        <p:blipFill>
          <a:blip r:embed="rId1"/>
          <a:stretch/>
        </p:blipFill>
        <p:spPr>
          <a:xfrm>
            <a:off x="0" y="1392120"/>
            <a:ext cx="5719680" cy="5465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638680" y="1600200"/>
            <a:ext cx="3353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hardwa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PDP-PMC interface, $2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 PMC board, $2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al SCSI-PCI interface, $1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I-Gigabit interface, $1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k enclosure, $2.5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*180 GB disks, $8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n par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ltra 5 will be overloaded. Upgrading to double CPU  will cost $15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410080" y="1600200"/>
            <a:ext cx="3581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hardwa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ber channel - RACEway, $6k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ber channel RAID controller, $4.4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ber channel HBA, $2k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I-Gigabit interface, $1k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rcury to disk directly @100 MB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file systems on the disk array. How to PFTP to RCF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data should be available in Mercu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i</cp:lastModifiedBy>
  <dcterms:modified xsi:type="dcterms:W3CDTF">2002-09-19T15:35:48Z</dcterms:modified>
  <cp:revision>10</cp:revision>
  <dc:subject/>
  <dc:title>PowerPoint Presentation</dc:title>
</cp:coreProperties>
</file>