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713-FAD2-45EC-A9C1-24399B40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A2A-64D1-4580-AEA8-6AFBB84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540-2DEB-4423-8BFA-C3C997D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9AC-F6E8-4A44-B2DB-841ABD4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4D9-86FC-4D85-98EB-BE6F58F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AB3-F76F-4E15-A7F2-96DD88F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A63-58E6-4DEC-A04A-3EF3719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FE2-1967-4FC6-BD6C-D0A797B7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5A1-ED62-4842-A9C3-10D49E3A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B41-1DAC-461E-9EC8-60FE6205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2F1-D3CB-459A-9D15-A11D200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65F-14EC-43C4-B089-86FDBBD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2FF-2A20-4A65-9C7B-793ECE9CD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5040" y="1468440"/>
            <a:ext cx="7848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licon Front End Electronic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ata Acquisition Syste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r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PHOBOS experiment at RH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8040" y="1458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Verdana"/>
              </a:rPr>
              <a:t>Silicon Front End Electronics and </a:t>
            </a:r>
            <a:br>
              <a:rPr sz="3000"/>
            </a:br>
            <a:r>
              <a:rPr b="0" lang="en-US" sz="3000" spc="-1" strike="noStrike">
                <a:solidFill>
                  <a:srgbClr val="3333cc"/>
                </a:solidFill>
                <a:latin typeface="Verdana"/>
              </a:rPr>
              <a:t>Data Acquisition System </a:t>
            </a:r>
            <a:br>
              <a:rPr sz="3000"/>
            </a:br>
            <a:r>
              <a:rPr b="0" lang="en-US" sz="3000" spc="-1" strike="noStrike">
                <a:solidFill>
                  <a:srgbClr val="3333cc"/>
                </a:solidFill>
                <a:latin typeface="Verdana"/>
              </a:rPr>
              <a:t>for</a:t>
            </a:r>
            <a:br>
              <a:rPr sz="3000"/>
            </a:br>
            <a:r>
              <a:rPr b="0" lang="en-US" sz="3000" spc="-1" strike="noStrike">
                <a:solidFill>
                  <a:srgbClr val="3333cc"/>
                </a:solidFill>
                <a:latin typeface="Verdana"/>
              </a:rPr>
              <a:t> PHOBOS experiment at RH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Pradeep Sarin for PHOBOS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ccff"/>
                </a:solidFill>
                <a:latin typeface="Arial"/>
              </a:rPr>
              <a:t>October 05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ccff"/>
                </a:solidFill>
                <a:latin typeface="Arial"/>
              </a:rPr>
              <a:t>Fall 2000 DNP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501920" y="201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Verdana"/>
              </a:rPr>
              <a:t>Performance in Physics Ru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63680" y="1254240"/>
            <a:ext cx="8256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HIC delivered ~2.7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Verdana"/>
              </a:rPr>
              <a:t>-1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tegrated luminosity to PHOBO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over 6 weeks of running in Summer 2000.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ilicon systems performed to specifications : Average S/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measured in the detector was 15 to 20 depending on Senso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type. 98% channels fully func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ront End Electronics were stable.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Every instance of latch-up in the VA chips was detec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successfully during adverse beam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HOBOS captured ~3.5M events on tape : mixture of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minimum bias and central triggers. 99% DAQ uptime.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stained data throughput rates of 5MB/s for Event-Builde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writing events to local dis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501920" y="201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Verdana"/>
              </a:rPr>
              <a:t>Planned Upgrades for 2001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3680" y="1254240"/>
            <a:ext cx="825660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HIC will increase luminosity by a factor of 10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econd Arm of Spectrometer will be installed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40K more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readou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vent Builder will be moved from Sun workstation into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VME based UltraSPARC server with local RAID disks.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Projected increase of throughput rate to ~ 20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ion of Silicon Detectors/FEE :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Silicon modules + Viking + FEC  = 2 slide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ion of Data path : 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MU + MDC + Mercury RACEway + Solaris Ho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ion of Trigger Management : 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vent Manager and Trigger Manag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description:  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Si Front-end Noise and stability, Data rat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523880"/>
            <a:ext cx="678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HOBOS Experimental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08400"/>
            <a:ext cx="9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licon Pad detectors for measuring charged particles (Multiplicity and Tracking/PID)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+  Plastic Scintillator for Triggering and T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hobos_apparatus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848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94216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6600"/>
                </a:solidFill>
                <a:latin typeface="Verdana"/>
              </a:rPr>
              <a:t>137,000 Silicon Reado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6600"/>
                </a:solidFill>
                <a:latin typeface="Verdana"/>
              </a:rPr>
              <a:t>1,300 Scintillator Reado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343040" y="3352680"/>
            <a:ext cx="205740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04320" y="312336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Nominal Interaction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un5332Event35225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54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0"/>
            <a:ext cx="7315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Run 5332 Event 35225 08/31/00 06:59:24</a:t>
            </a:r>
            <a:br>
              <a:rPr sz="2000"/>
            </a:b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PHOBOS Online Event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9000" y="457164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Spectrometer Arm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514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Spectrometer Ar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0240" y="3733200"/>
            <a:ext cx="16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Verdana"/>
              </a:rPr>
              <a:t>Octagon Multipl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Verdana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17680" y="5714280"/>
            <a:ext cx="12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Verdana"/>
              </a:rPr>
              <a:t>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Verdana"/>
              </a:rPr>
              <a:t>Scintillators 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76140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Verdana"/>
              </a:rPr>
              <a:t>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Verdana"/>
              </a:rPr>
              <a:t>Scintillators 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28800" y="5486040"/>
            <a:ext cx="152280" cy="2286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553080" y="1218960"/>
            <a:ext cx="152640" cy="2286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400440" y="4191120"/>
            <a:ext cx="228600" cy="45720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819520"/>
            <a:ext cx="685800" cy="15228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4191120"/>
            <a:ext cx="380880" cy="152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75760" y="6247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to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28360" y="624780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all sub-detector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351120" y="4460040"/>
            <a:ext cx="296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-Au Beam Momentum = 65.12 GeV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10280" y="1828800"/>
            <a:ext cx="1371600" cy="48769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1828800"/>
            <a:ext cx="1371600" cy="48769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762120"/>
            <a:ext cx="1752480" cy="59436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4920" y="3316320"/>
            <a:ext cx="22100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hobmod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4724280"/>
            <a:ext cx="1905120" cy="1508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-1522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PHOBOS Readout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54440" y="632340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licon Detecto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7160" y="3413160"/>
            <a:ext cx="22100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ont End Control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1760" y="4175280"/>
            <a:ext cx="75960" cy="7596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7520" y="4175280"/>
            <a:ext cx="76320" cy="7596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4175280"/>
            <a:ext cx="76320" cy="7596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4560" y="4175280"/>
            <a:ext cx="75960" cy="7596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ype1_05aug97_sensor" descr=""/>
          <p:cNvPicPr/>
          <p:nvPr/>
        </p:nvPicPr>
        <p:blipFill>
          <a:blip r:embed="rId2"/>
          <a:stretch/>
        </p:blipFill>
        <p:spPr>
          <a:xfrm>
            <a:off x="2514600" y="5486400"/>
            <a:ext cx="143496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5300640"/>
            <a:ext cx="540000" cy="185760"/>
          </a:xfrm>
          <a:prstGeom prst="line">
            <a:avLst/>
          </a:prstGeom>
          <a:ln w="0">
            <a:solidFill>
              <a:srgbClr val="ff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715000"/>
            <a:ext cx="685800" cy="457200"/>
          </a:xfrm>
          <a:prstGeom prst="line">
            <a:avLst/>
          </a:prstGeom>
          <a:ln w="0">
            <a:solidFill>
              <a:srgbClr val="ff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AChip" descr=""/>
          <p:cNvPicPr/>
          <p:nvPr/>
        </p:nvPicPr>
        <p:blipFill>
          <a:blip r:embed="rId3"/>
          <a:stretch/>
        </p:blipFill>
        <p:spPr>
          <a:xfrm>
            <a:off x="2590920" y="4648320"/>
            <a:ext cx="990360" cy="74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1981080" y="4724280"/>
            <a:ext cx="609840" cy="457200"/>
          </a:xfrm>
          <a:prstGeom prst="line">
            <a:avLst/>
          </a:prstGeom>
          <a:ln w="0">
            <a:solidFill>
              <a:srgbClr val="ff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5257800"/>
            <a:ext cx="609840" cy="76320"/>
          </a:xfrm>
          <a:prstGeom prst="line">
            <a:avLst/>
          </a:prstGeom>
          <a:ln w="0">
            <a:solidFill>
              <a:srgbClr val="ff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556092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ilicon Pad det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~1500 pa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5702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DE VA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VA - HDR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adout Chi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3423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N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4320" y="2459160"/>
            <a:ext cx="19810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Multiplex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523880"/>
            <a:ext cx="2590920" cy="5335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rcury RACEway/V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ro Suppress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04704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DIGITAL G-LI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1326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IBRE-OP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43400" y="533520"/>
            <a:ext cx="2666520" cy="1066320"/>
            <a:chOff x="4343400" y="533520"/>
            <a:chExt cx="2666520" cy="1066320"/>
          </a:xfrm>
        </p:grpSpPr>
        <p:sp>
          <p:nvSpPr>
            <p:cNvPr id="94" name=""/>
            <p:cNvSpPr/>
            <p:nvPr/>
          </p:nvSpPr>
          <p:spPr>
            <a:xfrm>
              <a:off x="4343400" y="533520"/>
              <a:ext cx="2346480" cy="10663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669600"/>
              <a:ext cx="22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Event 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36680" y="1115280"/>
              <a:ext cx="746280" cy="387720"/>
            </a:xfrm>
            <a:prstGeom prst="flowChartMagneticDisk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124560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DIS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124080" y="121824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100Mbps UD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of1" descr=""/>
          <p:cNvPicPr/>
          <p:nvPr/>
        </p:nvPicPr>
        <p:blipFill>
          <a:blip r:embed="rId4"/>
          <a:stretch/>
        </p:blipFill>
        <p:spPr>
          <a:xfrm>
            <a:off x="6858000" y="3962520"/>
            <a:ext cx="1690560" cy="2253960"/>
          </a:xfrm>
          <a:prstGeom prst="rect">
            <a:avLst/>
          </a:prstGeom>
          <a:ln w="0">
            <a:noFill/>
          </a:ln>
        </p:spPr>
      </p:pic>
      <p:pic>
        <p:nvPicPr>
          <p:cNvPr id="100" name="padles" descr=""/>
          <p:cNvPicPr/>
          <p:nvPr/>
        </p:nvPicPr>
        <p:blipFill>
          <a:blip r:embed="rId5"/>
          <a:stretch/>
        </p:blipFill>
        <p:spPr>
          <a:xfrm>
            <a:off x="5105520" y="4267080"/>
            <a:ext cx="11635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98080" y="632340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igger Detectors                TOF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819520"/>
            <a:ext cx="221004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Croy FAST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C + TDC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895480"/>
            <a:ext cx="182880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ME+NIM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267080"/>
            <a:ext cx="228600" cy="449280"/>
          </a:xfrm>
          <a:prstGeom prst="upDownArrow">
            <a:avLst>
              <a:gd name="adj1" fmla="val 50000"/>
              <a:gd name="adj2" fmla="val 39125"/>
            </a:avLst>
          </a:pr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2971800"/>
            <a:ext cx="228600" cy="449280"/>
          </a:xfrm>
          <a:prstGeom prst="upDownArrow">
            <a:avLst>
              <a:gd name="adj1" fmla="val 50000"/>
              <a:gd name="adj2" fmla="val 39125"/>
            </a:avLst>
          </a:prstGeom>
          <a:solidFill>
            <a:srgbClr val="ff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057400"/>
            <a:ext cx="228600" cy="449280"/>
          </a:xfrm>
          <a:prstGeom prst="upDownArrow">
            <a:avLst>
              <a:gd name="adj1" fmla="val 50000"/>
              <a:gd name="adj2" fmla="val 39125"/>
            </a:avLst>
          </a:prstGeom>
          <a:solidFill>
            <a:srgbClr val="ff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600200"/>
            <a:ext cx="228600" cy="1295280"/>
          </a:xfrm>
          <a:prstGeom prst="upDownArrow">
            <a:avLst>
              <a:gd name="adj1" fmla="val 50000"/>
              <a:gd name="adj2" fmla="val 112798"/>
            </a:avLst>
          </a:prstGeom>
          <a:solidFill>
            <a:srgbClr val="dcf0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3600000">
            <a:off x="3763800" y="1022400"/>
            <a:ext cx="233280" cy="1062000"/>
          </a:xfrm>
          <a:prstGeom prst="upDownArrow">
            <a:avLst>
              <a:gd name="adj1" fmla="val 50000"/>
              <a:gd name="adj2" fmla="val 90628"/>
            </a:avLst>
          </a:prstGeom>
          <a:solidFill>
            <a:srgbClr val="dcf0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6629040" y="1523520"/>
            <a:ext cx="233280" cy="1366920"/>
          </a:xfrm>
          <a:prstGeom prst="upDownArrow">
            <a:avLst>
              <a:gd name="adj1" fmla="val 50000"/>
              <a:gd name="adj2" fmla="val 116649"/>
            </a:avLst>
          </a:prstGeom>
          <a:solidFill>
            <a:srgbClr val="dcf0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13264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100Mbps UD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98000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100Mbps UD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6576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6565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N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000000">
            <a:off x="6476400" y="3428640"/>
            <a:ext cx="152640" cy="1371600"/>
          </a:xfrm>
          <a:prstGeom prst="upDownArrow">
            <a:avLst>
              <a:gd name="adj1" fmla="val 50000"/>
              <a:gd name="adj2" fmla="val 178885"/>
            </a:avLst>
          </a:pr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10080" y="373356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884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0, L1 TRIG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35053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3505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457200" y="-76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Silicon Front End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638680"/>
            <a:ext cx="430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80"/>
                </a:solidFill>
                <a:latin typeface="Verdana"/>
              </a:rPr>
              <a:t>Double Metal, Single sided, AC couple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80"/>
                </a:solidFill>
                <a:latin typeface="Verdana"/>
              </a:rPr>
              <a:t>polysilicon biased det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80"/>
                </a:solidFill>
                <a:latin typeface="Verdana"/>
              </a:rPr>
              <a:t>produced by ERSO, Tai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895480"/>
            <a:ext cx="33526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VA and VA-HDR1 readout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produced by IDE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1.2 </a:t>
            </a:r>
            <a:r>
              <a:rPr b="0" lang="en-US" sz="1400" spc="-1" strike="noStrike">
                <a:solidFill>
                  <a:srgbClr val="ff3399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s peaking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Radiation tolerance to ~ 20 k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Low Noise (~ 900 ENC/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3399"/>
                </a:solidFill>
                <a:latin typeface="Verdana"/>
              </a:rPr>
              <a:t>Dynamic Range ~ 100 M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62720" y="380880"/>
            <a:ext cx="3352320" cy="2362320"/>
            <a:chOff x="5562720" y="380880"/>
            <a:chExt cx="3352320" cy="2362320"/>
          </a:xfrm>
        </p:grpSpPr>
        <p:sp>
          <p:nvSpPr>
            <p:cNvPr id="123" name=""/>
            <p:cNvSpPr/>
            <p:nvPr/>
          </p:nvSpPr>
          <p:spPr>
            <a:xfrm>
              <a:off x="5790960" y="380880"/>
              <a:ext cx="3124080" cy="20574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32080"/>
              <a:ext cx="121860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VA Biasing and Trigge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3600" y="1080360"/>
              <a:ext cx="121860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VA Signal read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nd digitiz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12-bit ADC (ADS802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3600" y="2132640"/>
              <a:ext cx="1218600" cy="2311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VA Calib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9760" y="533160"/>
              <a:ext cx="1066680" cy="67068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Xilinx FPG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Controller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3600" y="1827720"/>
              <a:ext cx="1218600" cy="23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VA 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609480"/>
              <a:ext cx="380880" cy="181080"/>
            </a:xfrm>
            <a:prstGeom prst="leftArrow">
              <a:avLst>
                <a:gd name="adj1" fmla="val 50000"/>
                <a:gd name="adj2" fmla="val 52584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2720" y="2133720"/>
              <a:ext cx="380880" cy="180720"/>
            </a:xfrm>
            <a:prstGeom prst="leftArrow">
              <a:avLst>
                <a:gd name="adj1" fmla="val 50000"/>
                <a:gd name="adj2" fmla="val 52689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720" y="12952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18288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29600" y="1981080"/>
              <a:ext cx="609120" cy="381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G-LINK 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43800" y="1981080"/>
              <a:ext cx="609120" cy="381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Trig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400" y="2362320"/>
              <a:ext cx="151920" cy="380880"/>
            </a:xfrm>
            <a:prstGeom prst="upDownArrow">
              <a:avLst>
                <a:gd name="adj1" fmla="val 50000"/>
                <a:gd name="adj2" fmla="val 4991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58200" y="2362320"/>
              <a:ext cx="151920" cy="380880"/>
            </a:xfrm>
            <a:prstGeom prst="downArrow">
              <a:avLst>
                <a:gd name="adj1" fmla="val 50000"/>
                <a:gd name="adj2" fmla="val 62678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762120"/>
            <a:ext cx="5208840" cy="18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Front End Controllers designed and produced by 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MIT-LNS Electronics Facility (Bernie Wadsworth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Low Noise (~ 450 ENC/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NO measurable CMN introduced in signal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ach FEC controls upto 6K reado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50 MB/s output and double Event buff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Specialized monitoring of VA supply lines to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detect radiation induced latch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33920" y="2666880"/>
            <a:ext cx="3430080" cy="2770200"/>
            <a:chOff x="3733920" y="2666880"/>
            <a:chExt cx="3430080" cy="2770200"/>
          </a:xfrm>
        </p:grpSpPr>
        <p:pic>
          <p:nvPicPr>
            <p:cNvPr id="139" name="viking" descr=""/>
            <p:cNvPicPr/>
            <p:nvPr/>
          </p:nvPicPr>
          <p:blipFill>
            <a:blip r:embed="rId1"/>
            <a:stretch/>
          </p:blipFill>
          <p:spPr>
            <a:xfrm>
              <a:off x="3733920" y="2733840"/>
              <a:ext cx="342864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33640" y="4224240"/>
              <a:ext cx="490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ff"/>
                  </a:solidFill>
                  <a:latin typeface="Verdana"/>
                </a:rPr>
                <a:t>PREA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4213080"/>
              <a:ext cx="4266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ff"/>
                  </a:solidFill>
                  <a:latin typeface="Verdana"/>
                </a:rPr>
                <a:t>SHA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10160" y="3871800"/>
              <a:ext cx="490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ff"/>
                  </a:solidFill>
                  <a:latin typeface="Verdana"/>
                </a:rPr>
                <a:t>OUTBU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46800" y="3105000"/>
              <a:ext cx="3027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99080" y="3165480"/>
              <a:ext cx="3027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3800" y="2666880"/>
              <a:ext cx="160200" cy="41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43600" y="2700360"/>
              <a:ext cx="14256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015040" y="11894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640" y="4876920"/>
            <a:ext cx="2830680" cy="1752120"/>
            <a:chOff x="179640" y="4876920"/>
            <a:chExt cx="2830680" cy="1752120"/>
          </a:xfrm>
        </p:grpSpPr>
        <p:grpSp>
          <p:nvGrpSpPr>
            <p:cNvPr id="149" name=""/>
            <p:cNvGrpSpPr/>
            <p:nvPr/>
          </p:nvGrpSpPr>
          <p:grpSpPr>
            <a:xfrm>
              <a:off x="179640" y="4876920"/>
              <a:ext cx="2830680" cy="1752120"/>
              <a:chOff x="179640" y="4876920"/>
              <a:chExt cx="2830680" cy="1752120"/>
            </a:xfrm>
          </p:grpSpPr>
          <p:sp>
            <p:nvSpPr>
              <p:cNvPr id="150" name=""/>
              <p:cNvSpPr/>
              <p:nvPr/>
            </p:nvSpPr>
            <p:spPr>
              <a:xfrm>
                <a:off x="1730160" y="6011280"/>
                <a:ext cx="235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17360" y="5427000"/>
                <a:ext cx="1908720" cy="810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17360" y="5170320"/>
                <a:ext cx="1908720" cy="25128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4720" y="6242040"/>
                <a:ext cx="201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54720" y="6370560"/>
                <a:ext cx="201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13840" y="63705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59440" y="5510520"/>
                <a:ext cx="9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05040" y="5424480"/>
                <a:ext cx="20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05040" y="5295960"/>
                <a:ext cx="20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5040" y="5166000"/>
                <a:ext cx="20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04160" y="6196680"/>
                <a:ext cx="235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16240" y="5338440"/>
                <a:ext cx="20196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59360" y="5338440"/>
                <a:ext cx="19908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35000" y="5681520"/>
                <a:ext cx="834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+ Impl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25280" y="5298480"/>
                <a:ext cx="41040" cy="1227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62600" y="5256720"/>
                <a:ext cx="1101960" cy="345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21720" y="5170320"/>
                <a:ext cx="42480" cy="784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20560" y="5126400"/>
                <a:ext cx="243720" cy="36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21440" y="5385240"/>
                <a:ext cx="294840" cy="36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20240" y="6261120"/>
                <a:ext cx="1908360" cy="120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94480" y="6210000"/>
                <a:ext cx="6339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Verdana"/>
                  </a:rPr>
                  <a:t>n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72920" y="5471280"/>
                <a:ext cx="92520" cy="207000"/>
              </a:xfrm>
              <a:prstGeom prst="upArrow">
                <a:avLst>
                  <a:gd name="adj1" fmla="val 50000"/>
                  <a:gd name="adj2" fmla="val 111857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77120" y="5647680"/>
                <a:ext cx="941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Polysilicon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Drain Resis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3800" y="5256720"/>
                <a:ext cx="143640" cy="345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460000">
                <a:off x="1463400" y="5511960"/>
                <a:ext cx="92520" cy="210240"/>
              </a:xfrm>
              <a:prstGeom prst="upArrow">
                <a:avLst>
                  <a:gd name="adj1" fmla="val 50000"/>
                  <a:gd name="adj2" fmla="val 113608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07240" y="4876920"/>
                <a:ext cx="703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bias b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6960000">
                <a:off x="2125080" y="4979880"/>
                <a:ext cx="78480" cy="242280"/>
              </a:xfrm>
              <a:prstGeom prst="upArrow">
                <a:avLst>
                  <a:gd name="adj1" fmla="val 50000"/>
                  <a:gd name="adj2" fmla="val 154343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760000">
                <a:off x="2723400" y="5040000"/>
                <a:ext cx="92520" cy="208440"/>
              </a:xfrm>
              <a:prstGeom prst="upArrow">
                <a:avLst>
                  <a:gd name="adj1" fmla="val 50000"/>
                  <a:gd name="adj2" fmla="val 112635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60800" y="4876920"/>
                <a:ext cx="8953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ignal lin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66720" y="5122080"/>
                <a:ext cx="413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vi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61160" y="5421600"/>
                <a:ext cx="1166040" cy="90360"/>
              </a:xfrm>
              <a:custGeom>
                <a:avLst/>
                <a:gdLst/>
                <a:ahLst/>
                <a:rect l="l" t="t" r="r" b="b"/>
                <a:pathLst>
                  <a:path w="1111" h="101">
                    <a:moveTo>
                      <a:pt x="102" y="100"/>
                    </a:moveTo>
                    <a:lnTo>
                      <a:pt x="92" y="96"/>
                    </a:lnTo>
                    <a:lnTo>
                      <a:pt x="86" y="94"/>
                    </a:lnTo>
                    <a:lnTo>
                      <a:pt x="80" y="92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58" y="90"/>
                    </a:lnTo>
                    <a:lnTo>
                      <a:pt x="54" y="84"/>
                    </a:lnTo>
                    <a:lnTo>
                      <a:pt x="48" y="82"/>
                    </a:lnTo>
                    <a:lnTo>
                      <a:pt x="42" y="78"/>
                    </a:lnTo>
                    <a:lnTo>
                      <a:pt x="36" y="74"/>
                    </a:lnTo>
                    <a:lnTo>
                      <a:pt x="30" y="70"/>
                    </a:lnTo>
                    <a:lnTo>
                      <a:pt x="26" y="64"/>
                    </a:lnTo>
                    <a:lnTo>
                      <a:pt x="20" y="60"/>
                    </a:lnTo>
                    <a:lnTo>
                      <a:pt x="16" y="54"/>
                    </a:lnTo>
                    <a:lnTo>
                      <a:pt x="14" y="48"/>
                    </a:lnTo>
                    <a:lnTo>
                      <a:pt x="1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4" y="24"/>
                    </a:lnTo>
                    <a:lnTo>
                      <a:pt x="4" y="18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8" y="10"/>
                    </a:lnTo>
                    <a:lnTo>
                      <a:pt x="1110" y="4"/>
                    </a:lnTo>
                    <a:lnTo>
                      <a:pt x="1100" y="6"/>
                    </a:lnTo>
                    <a:lnTo>
                      <a:pt x="1096" y="12"/>
                    </a:lnTo>
                    <a:lnTo>
                      <a:pt x="1094" y="18"/>
                    </a:lnTo>
                    <a:lnTo>
                      <a:pt x="1092" y="24"/>
                    </a:lnTo>
                    <a:lnTo>
                      <a:pt x="1092" y="30"/>
                    </a:lnTo>
                    <a:lnTo>
                      <a:pt x="1092" y="36"/>
                    </a:lnTo>
                    <a:lnTo>
                      <a:pt x="1088" y="42"/>
                    </a:lnTo>
                    <a:lnTo>
                      <a:pt x="1084" y="50"/>
                    </a:lnTo>
                    <a:lnTo>
                      <a:pt x="1078" y="54"/>
                    </a:lnTo>
                    <a:lnTo>
                      <a:pt x="1078" y="60"/>
                    </a:lnTo>
                    <a:lnTo>
                      <a:pt x="1074" y="66"/>
                    </a:lnTo>
                    <a:lnTo>
                      <a:pt x="1070" y="72"/>
                    </a:lnTo>
                    <a:lnTo>
                      <a:pt x="1064" y="76"/>
                    </a:lnTo>
                    <a:lnTo>
                      <a:pt x="1058" y="82"/>
                    </a:lnTo>
                    <a:lnTo>
                      <a:pt x="1052" y="86"/>
                    </a:lnTo>
                    <a:lnTo>
                      <a:pt x="1046" y="92"/>
                    </a:lnTo>
                    <a:lnTo>
                      <a:pt x="1040" y="94"/>
                    </a:lnTo>
                    <a:lnTo>
                      <a:pt x="1034" y="98"/>
                    </a:lnTo>
                    <a:lnTo>
                      <a:pt x="1026" y="98"/>
                    </a:lnTo>
                    <a:lnTo>
                      <a:pt x="1016" y="98"/>
                    </a:lnTo>
                    <a:lnTo>
                      <a:pt x="1010" y="98"/>
                    </a:lnTo>
                    <a:lnTo>
                      <a:pt x="1002" y="98"/>
                    </a:lnTo>
                    <a:lnTo>
                      <a:pt x="102" y="100"/>
                    </a:lnTo>
                  </a:path>
                </a:pathLst>
              </a:custGeom>
              <a:solidFill>
                <a:srgbClr val="ff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9640" y="5227200"/>
                <a:ext cx="88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0.2um ON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9640" y="5085720"/>
                <a:ext cx="88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.2um ON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990720" y="6010560"/>
              <a:ext cx="144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3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 5k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nS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692520" y="4886280"/>
            <a:ext cx="407880" cy="1191960"/>
            <a:chOff x="3692520" y="4886280"/>
            <a:chExt cx="407880" cy="1191960"/>
          </a:xfrm>
        </p:grpSpPr>
        <p:sp>
          <p:nvSpPr>
            <p:cNvPr id="185" name=""/>
            <p:cNvSpPr/>
            <p:nvPr/>
          </p:nvSpPr>
          <p:spPr>
            <a:xfrm>
              <a:off x="3692520" y="4886280"/>
              <a:ext cx="19836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92520" y="4886280"/>
              <a:ext cx="407880" cy="198360"/>
            </a:xfrm>
            <a:custGeom>
              <a:avLst/>
              <a:gdLst/>
              <a:ahLst/>
              <a:rect l="l" t="t" r="r" b="b"/>
              <a:pathLst>
                <a:path w="257" h="125">
                  <a:moveTo>
                    <a:pt x="257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7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0880" y="5084640"/>
              <a:ext cx="209520" cy="99360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479760" y="4884840"/>
            <a:ext cx="409320" cy="1190520"/>
            <a:chOff x="3479760" y="4884840"/>
            <a:chExt cx="409320" cy="1190520"/>
          </a:xfrm>
        </p:grpSpPr>
        <p:sp>
          <p:nvSpPr>
            <p:cNvPr id="189" name=""/>
            <p:cNvSpPr/>
            <p:nvPr/>
          </p:nvSpPr>
          <p:spPr>
            <a:xfrm>
              <a:off x="3479760" y="488484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79760" y="488484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8120" y="508320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7920" y="4886280"/>
            <a:ext cx="409680" cy="1191960"/>
            <a:chOff x="3247920" y="4886280"/>
            <a:chExt cx="409680" cy="1191960"/>
          </a:xfrm>
        </p:grpSpPr>
        <p:sp>
          <p:nvSpPr>
            <p:cNvPr id="193" name=""/>
            <p:cNvSpPr/>
            <p:nvPr/>
          </p:nvSpPr>
          <p:spPr>
            <a:xfrm>
              <a:off x="3247920" y="4886280"/>
              <a:ext cx="19872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7920" y="488628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46640" y="5084640"/>
              <a:ext cx="210960" cy="9936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971800" y="4876920"/>
            <a:ext cx="409680" cy="1191960"/>
            <a:chOff x="2971800" y="4876920"/>
            <a:chExt cx="409680" cy="1191960"/>
          </a:xfrm>
        </p:grpSpPr>
        <p:sp>
          <p:nvSpPr>
            <p:cNvPr id="197" name=""/>
            <p:cNvSpPr/>
            <p:nvPr/>
          </p:nvSpPr>
          <p:spPr>
            <a:xfrm>
              <a:off x="2971800" y="4876920"/>
              <a:ext cx="19872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1800" y="487692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520" y="5075280"/>
              <a:ext cx="210960" cy="9936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43200" y="4876920"/>
            <a:ext cx="409680" cy="1191960"/>
            <a:chOff x="2743200" y="4876920"/>
            <a:chExt cx="409680" cy="1191960"/>
          </a:xfrm>
        </p:grpSpPr>
        <p:sp>
          <p:nvSpPr>
            <p:cNvPr id="201" name=""/>
            <p:cNvSpPr/>
            <p:nvPr/>
          </p:nvSpPr>
          <p:spPr>
            <a:xfrm>
              <a:off x="2743200" y="4876920"/>
              <a:ext cx="19872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487692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1920" y="5075280"/>
              <a:ext cx="210960" cy="9936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28800" y="4876920"/>
            <a:ext cx="1076400" cy="1190520"/>
            <a:chOff x="1828800" y="4876920"/>
            <a:chExt cx="1076400" cy="1190520"/>
          </a:xfrm>
        </p:grpSpPr>
        <p:grpSp>
          <p:nvGrpSpPr>
            <p:cNvPr id="205" name=""/>
            <p:cNvGrpSpPr/>
            <p:nvPr/>
          </p:nvGrpSpPr>
          <p:grpSpPr>
            <a:xfrm>
              <a:off x="2495520" y="4876920"/>
              <a:ext cx="409680" cy="1190520"/>
              <a:chOff x="2495520" y="4876920"/>
              <a:chExt cx="409680" cy="1190520"/>
            </a:xfrm>
          </p:grpSpPr>
          <p:sp>
            <p:nvSpPr>
              <p:cNvPr id="206" name=""/>
              <p:cNvSpPr/>
              <p:nvPr/>
            </p:nvSpPr>
            <p:spPr>
              <a:xfrm>
                <a:off x="2495520" y="487692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95520" y="4876920"/>
                <a:ext cx="40968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93880" y="5075280"/>
                <a:ext cx="21132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73400" y="4876920"/>
              <a:ext cx="409320" cy="1190520"/>
              <a:chOff x="2273400" y="4876920"/>
              <a:chExt cx="409320" cy="1190520"/>
            </a:xfrm>
          </p:grpSpPr>
          <p:sp>
            <p:nvSpPr>
              <p:cNvPr id="210" name=""/>
              <p:cNvSpPr/>
              <p:nvPr/>
            </p:nvSpPr>
            <p:spPr>
              <a:xfrm>
                <a:off x="2273400" y="487692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3400" y="487692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71760" y="507528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050920" y="4876920"/>
              <a:ext cx="409680" cy="1190520"/>
              <a:chOff x="2050920" y="4876920"/>
              <a:chExt cx="409680" cy="1190520"/>
            </a:xfrm>
          </p:grpSpPr>
          <p:sp>
            <p:nvSpPr>
              <p:cNvPr id="214" name=""/>
              <p:cNvSpPr/>
              <p:nvPr/>
            </p:nvSpPr>
            <p:spPr>
              <a:xfrm>
                <a:off x="2050920" y="487692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50920" y="4876920"/>
                <a:ext cx="40968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49280" y="5075280"/>
                <a:ext cx="21132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828800" y="4876920"/>
              <a:ext cx="409680" cy="1190520"/>
              <a:chOff x="1828800" y="4876920"/>
              <a:chExt cx="409680" cy="119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1828800" y="487692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28800" y="4876920"/>
                <a:ext cx="40968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27160" y="5075280"/>
                <a:ext cx="21132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4789440" y="2862360"/>
            <a:ext cx="3108240" cy="1589040"/>
            <a:chOff x="4789440" y="2862360"/>
            <a:chExt cx="3108240" cy="1589040"/>
          </a:xfrm>
        </p:grpSpPr>
        <p:sp>
          <p:nvSpPr>
            <p:cNvPr id="222" name=""/>
            <p:cNvSpPr/>
            <p:nvPr/>
          </p:nvSpPr>
          <p:spPr>
            <a:xfrm>
              <a:off x="4789440" y="2862360"/>
              <a:ext cx="2676240" cy="12034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9440" y="4054680"/>
              <a:ext cx="3108240" cy="396720"/>
            </a:xfrm>
            <a:custGeom>
              <a:avLst/>
              <a:gdLst/>
              <a:ahLst/>
              <a:rect l="l" t="t" r="r" b="b"/>
              <a:pathLst>
                <a:path w="1958" h="250">
                  <a:moveTo>
                    <a:pt x="0" y="0"/>
                  </a:moveTo>
                  <a:lnTo>
                    <a:pt x="280" y="250"/>
                  </a:lnTo>
                  <a:lnTo>
                    <a:pt x="1958" y="250"/>
                  </a:lnTo>
                  <a:lnTo>
                    <a:pt x="16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54520" y="2862360"/>
              <a:ext cx="442800" cy="1589040"/>
            </a:xfrm>
            <a:custGeom>
              <a:avLst/>
              <a:gdLst/>
              <a:ahLst/>
              <a:rect l="l" t="t" r="r" b="b"/>
              <a:pathLst>
                <a:path w="279" h="1001">
                  <a:moveTo>
                    <a:pt x="0" y="0"/>
                  </a:moveTo>
                  <a:lnTo>
                    <a:pt x="279" y="251"/>
                  </a:lnTo>
                  <a:lnTo>
                    <a:pt x="279" y="1001"/>
                  </a:lnTo>
                  <a:lnTo>
                    <a:pt x="0" y="7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3582000" y="54367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703680" y="1671480"/>
            <a:ext cx="407880" cy="1190520"/>
            <a:chOff x="3703680" y="1671480"/>
            <a:chExt cx="407880" cy="1190520"/>
          </a:xfrm>
        </p:grpSpPr>
        <p:sp>
          <p:nvSpPr>
            <p:cNvPr id="227" name=""/>
            <p:cNvSpPr/>
            <p:nvPr/>
          </p:nvSpPr>
          <p:spPr>
            <a:xfrm>
              <a:off x="3703680" y="167148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03680" y="1671480"/>
              <a:ext cx="407880" cy="198360"/>
            </a:xfrm>
            <a:custGeom>
              <a:avLst/>
              <a:gdLst/>
              <a:ahLst/>
              <a:rect l="l" t="t" r="r" b="b"/>
              <a:pathLst>
                <a:path w="257" h="125">
                  <a:moveTo>
                    <a:pt x="257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7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1869840"/>
              <a:ext cx="209520" cy="99216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3592800" y="22219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57440" y="4253040"/>
            <a:ext cx="66672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14840" y="3062160"/>
            <a:ext cx="409320" cy="1190520"/>
            <a:chOff x="3714840" y="3062160"/>
            <a:chExt cx="409320" cy="1190520"/>
          </a:xfrm>
        </p:grpSpPr>
        <p:sp>
          <p:nvSpPr>
            <p:cNvPr id="233" name=""/>
            <p:cNvSpPr/>
            <p:nvPr/>
          </p:nvSpPr>
          <p:spPr>
            <a:xfrm>
              <a:off x="3714840" y="3062160"/>
              <a:ext cx="19800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14840" y="306216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2840" y="3260520"/>
              <a:ext cx="210960" cy="99216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rot="16200000">
            <a:off x="3605760" y="361116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8600" y="3575160"/>
            <a:ext cx="104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26000" y="2057400"/>
            <a:ext cx="1052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92240" y="2068560"/>
            <a:ext cx="94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Eth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3840" y="2286000"/>
            <a:ext cx="180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HIC computing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479920" y="3062160"/>
            <a:ext cx="420480" cy="1190520"/>
            <a:chOff x="5479920" y="3062160"/>
            <a:chExt cx="420480" cy="1190520"/>
          </a:xfrm>
        </p:grpSpPr>
        <p:sp>
          <p:nvSpPr>
            <p:cNvPr id="242" name=""/>
            <p:cNvSpPr/>
            <p:nvPr/>
          </p:nvSpPr>
          <p:spPr>
            <a:xfrm>
              <a:off x="5479920" y="306216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9920" y="3062160"/>
              <a:ext cx="420480" cy="198360"/>
            </a:xfrm>
            <a:custGeom>
              <a:avLst/>
              <a:gdLst/>
              <a:ahLst/>
              <a:rect l="l" t="t" r="r" b="b"/>
              <a:pathLst>
                <a:path w="265" h="125">
                  <a:moveTo>
                    <a:pt x="265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78280" y="3260520"/>
              <a:ext cx="222120" cy="992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6200000">
            <a:off x="5339160" y="3628080"/>
            <a:ext cx="90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91440" y="3786120"/>
            <a:ext cx="664920" cy="560520"/>
            <a:chOff x="6391440" y="3786120"/>
            <a:chExt cx="664920" cy="560520"/>
          </a:xfrm>
        </p:grpSpPr>
        <p:grpSp>
          <p:nvGrpSpPr>
            <p:cNvPr id="247" name=""/>
            <p:cNvGrpSpPr/>
            <p:nvPr/>
          </p:nvGrpSpPr>
          <p:grpSpPr>
            <a:xfrm>
              <a:off x="6391440" y="4006800"/>
              <a:ext cx="664920" cy="339840"/>
              <a:chOff x="6391440" y="4006800"/>
              <a:chExt cx="664920" cy="3398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6391440" y="4006800"/>
                <a:ext cx="664920" cy="339840"/>
                <a:chOff x="6391440" y="4006800"/>
                <a:chExt cx="664920" cy="3398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391440" y="424188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07360" y="428796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391440" y="4006800"/>
                  <a:ext cx="664920" cy="281160"/>
                </a:xfrm>
                <a:custGeom>
                  <a:avLst/>
                  <a:gdLst/>
                  <a:ahLst/>
                  <a:rect l="l" t="t" r="r" b="b"/>
                  <a:pathLst>
                    <a:path w="419" h="177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8"/>
                      </a:lnTo>
                      <a:lnTo>
                        <a:pt x="73" y="177"/>
                      </a:lnTo>
                      <a:lnTo>
                        <a:pt x="419" y="177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6485040" y="4065840"/>
                <a:ext cx="420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19240" y="4078440"/>
                <a:ext cx="32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391440" y="3890880"/>
              <a:ext cx="664920" cy="338400"/>
              <a:chOff x="6391440" y="3890880"/>
              <a:chExt cx="664920" cy="338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391440" y="3890880"/>
                <a:ext cx="664920" cy="338400"/>
                <a:chOff x="6391440" y="3890880"/>
                <a:chExt cx="664920" cy="338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391440" y="412452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07360" y="417060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91440" y="3890880"/>
                  <a:ext cx="664920" cy="279720"/>
                </a:xfrm>
                <a:custGeom>
                  <a:avLst/>
                  <a:gdLst/>
                  <a:ahLst/>
                  <a:rect l="l" t="t" r="r" b="b"/>
                  <a:pathLst>
                    <a:path w="419" h="176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7"/>
                      </a:lnTo>
                      <a:lnTo>
                        <a:pt x="73" y="176"/>
                      </a:lnTo>
                      <a:lnTo>
                        <a:pt x="419" y="176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485040" y="3949920"/>
                <a:ext cx="4204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519240" y="3961080"/>
                <a:ext cx="32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391440" y="3786120"/>
              <a:ext cx="664920" cy="338400"/>
              <a:chOff x="6391440" y="3786120"/>
              <a:chExt cx="664920" cy="3384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391440" y="3786120"/>
                <a:ext cx="664920" cy="338400"/>
                <a:chOff x="6391440" y="3786120"/>
                <a:chExt cx="664920" cy="338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391440" y="401976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07360" y="406584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391440" y="3786120"/>
                  <a:ext cx="664920" cy="279720"/>
                </a:xfrm>
                <a:custGeom>
                  <a:avLst/>
                  <a:gdLst/>
                  <a:ahLst/>
                  <a:rect l="l" t="t" r="r" b="b"/>
                  <a:pathLst>
                    <a:path w="419" h="176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7"/>
                      </a:lnTo>
                      <a:lnTo>
                        <a:pt x="73" y="176"/>
                      </a:lnTo>
                      <a:lnTo>
                        <a:pt x="419" y="176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6485040" y="3843360"/>
                <a:ext cx="42048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518520" y="3855960"/>
                <a:ext cx="450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 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238880" y="3538440"/>
            <a:ext cx="444240" cy="806400"/>
            <a:chOff x="7238880" y="3538440"/>
            <a:chExt cx="444240" cy="806400"/>
          </a:xfrm>
        </p:grpSpPr>
        <p:grpSp>
          <p:nvGrpSpPr>
            <p:cNvPr id="269" name=""/>
            <p:cNvGrpSpPr/>
            <p:nvPr/>
          </p:nvGrpSpPr>
          <p:grpSpPr>
            <a:xfrm>
              <a:off x="7238880" y="3538440"/>
              <a:ext cx="444240" cy="793800"/>
              <a:chOff x="7238880" y="3538440"/>
              <a:chExt cx="444240" cy="7938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7238880" y="4122720"/>
                <a:ext cx="444240" cy="209520"/>
                <a:chOff x="7238880" y="4122720"/>
                <a:chExt cx="444240" cy="209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238880" y="419256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250040" y="421632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4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250040" y="421632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284960" y="422748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308720" y="42386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15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08720" y="42386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321320" y="4251240"/>
                  <a:ext cx="22320" cy="6984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43640" y="42512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56240" y="42512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78560" y="4262400"/>
                  <a:ext cx="8244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78560" y="4262400"/>
                  <a:ext cx="1260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91160" y="426240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13480" y="426240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26080" y="426240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449840" y="426240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461000" y="4262400"/>
                  <a:ext cx="8100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461000" y="426240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72160" y="4262400"/>
                  <a:ext cx="23760" cy="6984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95920" y="4262400"/>
                  <a:ext cx="11160" cy="6984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507080" y="4262400"/>
                  <a:ext cx="23760" cy="6984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530840" y="4262400"/>
                  <a:ext cx="11160" cy="6984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542000" y="423864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15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42000" y="42512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54600" y="42512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576920" y="4251240"/>
                  <a:ext cx="23760" cy="6984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589520" y="42386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613280" y="421632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4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13280" y="422748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635600" y="421632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59360" y="419256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238880" y="412272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29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3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3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29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7238880" y="3970080"/>
                <a:ext cx="444240" cy="222480"/>
                <a:chOff x="7238880" y="3970080"/>
                <a:chExt cx="444240" cy="2224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238880" y="4039920"/>
                  <a:ext cx="23760" cy="117720"/>
                </a:xfrm>
                <a:custGeom>
                  <a:avLst/>
                  <a:gdLst/>
                  <a:ahLst/>
                  <a:rect l="l" t="t" r="r" b="b"/>
                  <a:pathLst>
                    <a:path w="15" h="74">
                      <a:moveTo>
                        <a:pt x="0" y="0"/>
                      </a:moveTo>
                      <a:lnTo>
                        <a:pt x="7" y="22"/>
                      </a:lnTo>
                      <a:lnTo>
                        <a:pt x="15" y="74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250040" y="4074840"/>
                  <a:ext cx="58680" cy="106560"/>
                </a:xfrm>
                <a:custGeom>
                  <a:avLst/>
                  <a:gdLst/>
                  <a:ahLst/>
                  <a:rect l="l" t="t" r="r" b="b"/>
                  <a:pathLst>
                    <a:path w="37" h="67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7"/>
                      </a:lnTo>
                      <a:lnTo>
                        <a:pt x="8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50040" y="407484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8"/>
                      </a:lnTo>
                      <a:lnTo>
                        <a:pt x="22" y="59"/>
                      </a:lnTo>
                      <a:lnTo>
                        <a:pt x="8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84960" y="408780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08720" y="409896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8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308720" y="409896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321320" y="409896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43640" y="411156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356240" y="411156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378560" y="4111560"/>
                  <a:ext cx="82440" cy="81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0" y="0"/>
                      </a:moveTo>
                      <a:lnTo>
                        <a:pt x="52" y="7"/>
                      </a:lnTo>
                      <a:lnTo>
                        <a:pt x="52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78560" y="411156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391160" y="412272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413480" y="412272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26080" y="412272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49840" y="412272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461000" y="411156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51" h="51">
                      <a:moveTo>
                        <a:pt x="0" y="7"/>
                      </a:moveTo>
                      <a:lnTo>
                        <a:pt x="51" y="0"/>
                      </a:lnTo>
                      <a:lnTo>
                        <a:pt x="51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461000" y="412272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2160" y="4122720"/>
                  <a:ext cx="237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95920" y="4122720"/>
                  <a:ext cx="111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07080" y="4122720"/>
                  <a:ext cx="2376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30840" y="4111560"/>
                  <a:ext cx="1116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42000" y="409896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542000" y="411156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54600" y="411156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76920" y="409896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589520" y="409896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0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13280" y="4074840"/>
                  <a:ext cx="57240" cy="106560"/>
                </a:xfrm>
                <a:custGeom>
                  <a:avLst/>
                  <a:gdLst/>
                  <a:ahLst/>
                  <a:rect l="l" t="t" r="r" b="b"/>
                  <a:pathLst>
                    <a:path w="36" h="67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2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613280" y="408780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635600" y="407484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8"/>
                      </a:moveTo>
                      <a:lnTo>
                        <a:pt x="22" y="0"/>
                      </a:lnTo>
                      <a:lnTo>
                        <a:pt x="1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659360" y="4039920"/>
                  <a:ext cx="23760" cy="117720"/>
                </a:xfrm>
                <a:custGeom>
                  <a:avLst/>
                  <a:gdLst/>
                  <a:ahLst/>
                  <a:rect l="l" t="t" r="r" b="b"/>
                  <a:pathLst>
                    <a:path w="15" h="74">
                      <a:moveTo>
                        <a:pt x="7" y="22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74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38880" y="3970080"/>
                  <a:ext cx="444240" cy="152640"/>
                </a:xfrm>
                <a:custGeom>
                  <a:avLst/>
                  <a:gdLst/>
                  <a:ahLst/>
                  <a:rect l="l" t="t" r="r" b="b"/>
                  <a:pathLst>
                    <a:path w="280" h="96">
                      <a:moveTo>
                        <a:pt x="140" y="0"/>
                      </a:moveTo>
                      <a:lnTo>
                        <a:pt x="88" y="8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66"/>
                      </a:lnTo>
                      <a:lnTo>
                        <a:pt x="44" y="81"/>
                      </a:lnTo>
                      <a:lnTo>
                        <a:pt x="88" y="89"/>
                      </a:lnTo>
                      <a:lnTo>
                        <a:pt x="140" y="96"/>
                      </a:lnTo>
                      <a:lnTo>
                        <a:pt x="191" y="89"/>
                      </a:lnTo>
                      <a:lnTo>
                        <a:pt x="236" y="81"/>
                      </a:lnTo>
                      <a:lnTo>
                        <a:pt x="272" y="66"/>
                      </a:lnTo>
                      <a:lnTo>
                        <a:pt x="280" y="44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8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238880" y="3830400"/>
                <a:ext cx="444240" cy="209520"/>
                <a:chOff x="7238880" y="3830400"/>
                <a:chExt cx="444240" cy="209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238880" y="390024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250040" y="3924000"/>
                  <a:ext cx="58680" cy="10512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250040" y="392400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284960" y="3935160"/>
                  <a:ext cx="23760" cy="9396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308720" y="3948120"/>
                  <a:ext cx="69840" cy="91800"/>
                </a:xfrm>
                <a:custGeom>
                  <a:avLst/>
                  <a:gdLst/>
                  <a:ahLst/>
                  <a:rect l="l" t="t" r="r" b="b"/>
                  <a:pathLst>
                    <a:path w="44" h="58">
                      <a:moveTo>
                        <a:pt x="0" y="0"/>
                      </a:moveTo>
                      <a:lnTo>
                        <a:pt x="44" y="14"/>
                      </a:lnTo>
                      <a:lnTo>
                        <a:pt x="44" y="58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08720" y="3948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21320" y="3958920"/>
                  <a:ext cx="22320" cy="7020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43640" y="39589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356240" y="39589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378560" y="3970080"/>
                  <a:ext cx="8244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378560" y="3970080"/>
                  <a:ext cx="1260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391160" y="397008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413480" y="397008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426080" y="397008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49840" y="397008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461000" y="3970080"/>
                  <a:ext cx="8100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61000" y="397008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72160" y="3970080"/>
                  <a:ext cx="23760" cy="6984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495920" y="3970080"/>
                  <a:ext cx="11160" cy="6984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507080" y="3970080"/>
                  <a:ext cx="23760" cy="6984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530840" y="3970080"/>
                  <a:ext cx="11160" cy="6984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42000" y="3948120"/>
                  <a:ext cx="71280" cy="91800"/>
                </a:xfrm>
                <a:custGeom>
                  <a:avLst/>
                  <a:gdLst/>
                  <a:ahLst/>
                  <a:rect l="l" t="t" r="r" b="b"/>
                  <a:pathLst>
                    <a:path w="45" h="58">
                      <a:moveTo>
                        <a:pt x="0" y="14"/>
                      </a:moveTo>
                      <a:lnTo>
                        <a:pt x="45" y="0"/>
                      </a:lnTo>
                      <a:lnTo>
                        <a:pt x="45" y="51"/>
                      </a:lnTo>
                      <a:lnTo>
                        <a:pt x="0" y="58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542000" y="39589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54600" y="39589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76920" y="3958920"/>
                  <a:ext cx="23760" cy="7020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89520" y="3948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7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613280" y="3924000"/>
                  <a:ext cx="57240" cy="10512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613280" y="3935160"/>
                  <a:ext cx="22320" cy="9396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8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635600" y="392400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659360" y="390024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38880" y="383040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29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4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4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29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238880" y="3678120"/>
                <a:ext cx="444240" cy="222120"/>
                <a:chOff x="7238880" y="3678120"/>
                <a:chExt cx="444240" cy="222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238880" y="3749400"/>
                  <a:ext cx="23760" cy="115920"/>
                </a:xfrm>
                <a:custGeom>
                  <a:avLst/>
                  <a:gdLst/>
                  <a:ahLst/>
                  <a:rect l="l" t="t" r="r" b="b"/>
                  <a:pathLst>
                    <a:path w="15" h="73">
                      <a:moveTo>
                        <a:pt x="0" y="0"/>
                      </a:moveTo>
                      <a:lnTo>
                        <a:pt x="7" y="22"/>
                      </a:lnTo>
                      <a:lnTo>
                        <a:pt x="15" y="73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250040" y="378432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4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250040" y="3784320"/>
                  <a:ext cx="34920" cy="92160"/>
                </a:xfrm>
                <a:custGeom>
                  <a:avLst/>
                  <a:gdLst/>
                  <a:ahLst/>
                  <a:rect l="l" t="t" r="r" b="b"/>
                  <a:pathLst>
                    <a:path w="22" h="58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8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284960" y="379548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308720" y="38066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8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308720" y="38066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321320" y="380664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343640" y="38192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56240" y="38192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378560" y="3819240"/>
                  <a:ext cx="82440" cy="81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0" y="0"/>
                      </a:moveTo>
                      <a:lnTo>
                        <a:pt x="52" y="7"/>
                      </a:lnTo>
                      <a:lnTo>
                        <a:pt x="52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378560" y="381924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391160" y="383040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13480" y="383040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26080" y="383040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49840" y="383040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461000" y="381924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51" h="51">
                      <a:moveTo>
                        <a:pt x="0" y="7"/>
                      </a:moveTo>
                      <a:lnTo>
                        <a:pt x="51" y="0"/>
                      </a:lnTo>
                      <a:lnTo>
                        <a:pt x="51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461000" y="383040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472160" y="3830400"/>
                  <a:ext cx="237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495920" y="3830400"/>
                  <a:ext cx="111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507080" y="3830400"/>
                  <a:ext cx="2376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530840" y="3819240"/>
                  <a:ext cx="1116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542000" y="380664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542000" y="38192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54600" y="38192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576920" y="38066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589520" y="38066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0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613280" y="378432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4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613280" y="379548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635600" y="3784320"/>
                  <a:ext cx="34920" cy="92160"/>
                </a:xfrm>
                <a:custGeom>
                  <a:avLst/>
                  <a:gdLst/>
                  <a:ahLst/>
                  <a:rect l="l" t="t" r="r" b="b"/>
                  <a:pathLst>
                    <a:path w="22" h="58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59360" y="3749400"/>
                  <a:ext cx="23760" cy="115920"/>
                </a:xfrm>
                <a:custGeom>
                  <a:avLst/>
                  <a:gdLst/>
                  <a:ahLst/>
                  <a:rect l="l" t="t" r="r" b="b"/>
                  <a:pathLst>
                    <a:path w="15" h="73">
                      <a:moveTo>
                        <a:pt x="7" y="22"/>
                      </a:moveTo>
                      <a:lnTo>
                        <a:pt x="15" y="0"/>
                      </a:lnTo>
                      <a:lnTo>
                        <a:pt x="7" y="51"/>
                      </a:lnTo>
                      <a:lnTo>
                        <a:pt x="0" y="73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238880" y="3678120"/>
                  <a:ext cx="444240" cy="152280"/>
                </a:xfrm>
                <a:custGeom>
                  <a:avLst/>
                  <a:gdLst/>
                  <a:ahLst/>
                  <a:rect l="l" t="t" r="r" b="b"/>
                  <a:pathLst>
                    <a:path w="280" h="96">
                      <a:moveTo>
                        <a:pt x="140" y="0"/>
                      </a:moveTo>
                      <a:lnTo>
                        <a:pt x="88" y="8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5"/>
                      </a:lnTo>
                      <a:lnTo>
                        <a:pt x="7" y="67"/>
                      </a:lnTo>
                      <a:lnTo>
                        <a:pt x="44" y="81"/>
                      </a:lnTo>
                      <a:lnTo>
                        <a:pt x="88" y="89"/>
                      </a:lnTo>
                      <a:lnTo>
                        <a:pt x="140" y="96"/>
                      </a:lnTo>
                      <a:lnTo>
                        <a:pt x="191" y="89"/>
                      </a:lnTo>
                      <a:lnTo>
                        <a:pt x="236" y="81"/>
                      </a:lnTo>
                      <a:lnTo>
                        <a:pt x="272" y="67"/>
                      </a:lnTo>
                      <a:lnTo>
                        <a:pt x="280" y="45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8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238880" y="3538440"/>
                <a:ext cx="444240" cy="210960"/>
                <a:chOff x="7238880" y="3538440"/>
                <a:chExt cx="444240" cy="210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238880" y="360828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50040" y="363204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250040" y="363204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284960" y="364320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08720" y="365580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14"/>
                      </a:lnTo>
                      <a:lnTo>
                        <a:pt x="44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308720" y="36558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321320" y="3666960"/>
                  <a:ext cx="22320" cy="6984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343640" y="366696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356240" y="366696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378560" y="3678120"/>
                  <a:ext cx="82440" cy="7128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378560" y="3678120"/>
                  <a:ext cx="12600" cy="7128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91160" y="3678120"/>
                  <a:ext cx="22320" cy="7128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413480" y="3678120"/>
                  <a:ext cx="12600" cy="7128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426080" y="3678120"/>
                  <a:ext cx="23760" cy="7128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449840" y="3678120"/>
                  <a:ext cx="11160" cy="7128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61000" y="3678120"/>
                  <a:ext cx="81000" cy="7128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461000" y="3678120"/>
                  <a:ext cx="11160" cy="7128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72160" y="3678120"/>
                  <a:ext cx="23760" cy="7128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495920" y="3678120"/>
                  <a:ext cx="11160" cy="7128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07080" y="3678120"/>
                  <a:ext cx="23760" cy="7128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530840" y="3678120"/>
                  <a:ext cx="11160" cy="7128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42000" y="365580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14"/>
                      </a:moveTo>
                      <a:lnTo>
                        <a:pt x="45" y="0"/>
                      </a:lnTo>
                      <a:lnTo>
                        <a:pt x="45" y="51"/>
                      </a:lnTo>
                      <a:lnTo>
                        <a:pt x="0" y="5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42000" y="366696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554600" y="366696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76920" y="3666960"/>
                  <a:ext cx="23760" cy="6984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89520" y="36558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7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613280" y="363204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613280" y="364320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8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35600" y="363204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59360" y="360828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38880" y="353844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4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4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7308720" y="3666960"/>
              <a:ext cx="2808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068240" y="3838320"/>
              <a:ext cx="70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Local Dis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391440" y="3376440"/>
            <a:ext cx="758160" cy="257040"/>
            <a:chOff x="6391440" y="3376440"/>
            <a:chExt cx="758160" cy="257040"/>
          </a:xfrm>
        </p:grpSpPr>
        <p:grpSp>
          <p:nvGrpSpPr>
            <p:cNvPr id="433" name=""/>
            <p:cNvGrpSpPr/>
            <p:nvPr/>
          </p:nvGrpSpPr>
          <p:grpSpPr>
            <a:xfrm>
              <a:off x="6391440" y="3411360"/>
              <a:ext cx="758160" cy="222120"/>
              <a:chOff x="6391440" y="3411360"/>
              <a:chExt cx="758160" cy="22212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391440" y="3411360"/>
                <a:ext cx="315360" cy="210960"/>
                <a:chOff x="6391440" y="3411360"/>
                <a:chExt cx="315360" cy="210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391440" y="3481200"/>
                  <a:ext cx="10800" cy="106200"/>
                </a:xfrm>
                <a:custGeom>
                  <a:avLst/>
                  <a:gdLst/>
                  <a:ahLst/>
                  <a:rect l="l" t="t" r="r" b="b"/>
                  <a:pathLst>
                    <a:path w="7" h="67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7" y="67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40224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15"/>
                      </a:lnTo>
                      <a:lnTo>
                        <a:pt x="22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40224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42600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437160" y="3528720"/>
                  <a:ext cx="47160" cy="9360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0" y="0"/>
                      </a:moveTo>
                      <a:lnTo>
                        <a:pt x="30" y="7"/>
                      </a:lnTo>
                      <a:lnTo>
                        <a:pt x="30" y="59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437160" y="3528720"/>
                  <a:ext cx="1224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49760" y="3528720"/>
                  <a:ext cx="2196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472080" y="3539880"/>
                  <a:ext cx="12240" cy="82440"/>
                </a:xfrm>
                <a:custGeom>
                  <a:avLst/>
                  <a:gdLst/>
                  <a:ahLst/>
                  <a:rect l="l" t="t" r="r" b="b"/>
                  <a:pathLst>
                    <a:path w="8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484680" y="3539880"/>
                  <a:ext cx="56880" cy="82440"/>
                </a:xfrm>
                <a:custGeom>
                  <a:avLst/>
                  <a:gdLst/>
                  <a:ahLst/>
                  <a:rect l="l" t="t" r="r" b="b"/>
                  <a:pathLst>
                    <a:path w="36" h="52">
                      <a:moveTo>
                        <a:pt x="0" y="0"/>
                      </a:moveTo>
                      <a:lnTo>
                        <a:pt x="36" y="8"/>
                      </a:lnTo>
                      <a:lnTo>
                        <a:pt x="3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484680" y="3539880"/>
                  <a:ext cx="2196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507000" y="3539880"/>
                  <a:ext cx="2340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53076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541920" y="3539880"/>
                  <a:ext cx="70920" cy="82440"/>
                </a:xfrm>
                <a:custGeom>
                  <a:avLst/>
                  <a:gdLst/>
                  <a:ahLst/>
                  <a:rect l="l" t="t" r="r" b="b"/>
                  <a:pathLst>
                    <a:path w="45" h="52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41920" y="353988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565680" y="3539880"/>
                  <a:ext cx="23400" cy="82440"/>
                </a:xfrm>
                <a:prstGeom prst="rect">
                  <a:avLst/>
                </a:pr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589440" y="3539880"/>
                  <a:ext cx="23400" cy="8244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613200" y="3528720"/>
                  <a:ext cx="45720" cy="9360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0" y="7"/>
                      </a:moveTo>
                      <a:lnTo>
                        <a:pt x="29" y="0"/>
                      </a:lnTo>
                      <a:lnTo>
                        <a:pt x="29" y="44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61320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44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24360" y="3528720"/>
                  <a:ext cx="2340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648120" y="3528720"/>
                  <a:ext cx="1080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44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5928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22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65928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8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67044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694200" y="3481200"/>
                  <a:ext cx="12240" cy="106200"/>
                </a:xfrm>
                <a:custGeom>
                  <a:avLst/>
                  <a:gdLst/>
                  <a:ahLst/>
                  <a:rect l="l" t="t" r="r" b="b"/>
                  <a:pathLst>
                    <a:path w="8" h="67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8" y="45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391440" y="3411360"/>
                  <a:ext cx="315360" cy="141120"/>
                </a:xfrm>
                <a:custGeom>
                  <a:avLst/>
                  <a:gdLst/>
                  <a:ahLst/>
                  <a:rect l="l" t="t" r="r" b="b"/>
                  <a:pathLst>
                    <a:path w="199" h="89">
                      <a:moveTo>
                        <a:pt x="95" y="0"/>
                      </a:moveTo>
                      <a:lnTo>
                        <a:pt x="59" y="8"/>
                      </a:lnTo>
                      <a:lnTo>
                        <a:pt x="29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29" y="74"/>
                      </a:lnTo>
                      <a:lnTo>
                        <a:pt x="59" y="81"/>
                      </a:lnTo>
                      <a:lnTo>
                        <a:pt x="95" y="89"/>
                      </a:lnTo>
                      <a:lnTo>
                        <a:pt x="140" y="81"/>
                      </a:lnTo>
                      <a:lnTo>
                        <a:pt x="169" y="74"/>
                      </a:lnTo>
                      <a:lnTo>
                        <a:pt x="191" y="59"/>
                      </a:lnTo>
                      <a:lnTo>
                        <a:pt x="199" y="44"/>
                      </a:lnTo>
                      <a:lnTo>
                        <a:pt x="191" y="30"/>
                      </a:lnTo>
                      <a:lnTo>
                        <a:pt x="169" y="15"/>
                      </a:lnTo>
                      <a:lnTo>
                        <a:pt x="140" y="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833880" y="3411360"/>
                <a:ext cx="315720" cy="210960"/>
                <a:chOff x="6833880" y="3411360"/>
                <a:chExt cx="315720" cy="2109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833880" y="3481200"/>
                  <a:ext cx="12240" cy="106200"/>
                </a:xfrm>
                <a:custGeom>
                  <a:avLst/>
                  <a:gdLst/>
                  <a:ahLst/>
                  <a:rect l="l" t="t" r="r" b="b"/>
                  <a:pathLst>
                    <a:path w="8" h="67">
                      <a:moveTo>
                        <a:pt x="0" y="0"/>
                      </a:moveTo>
                      <a:lnTo>
                        <a:pt x="8" y="15"/>
                      </a:lnTo>
                      <a:lnTo>
                        <a:pt x="8" y="67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4612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15"/>
                      </a:lnTo>
                      <a:lnTo>
                        <a:pt x="22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84612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86988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881040" y="3528720"/>
                  <a:ext cx="45720" cy="9360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59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881040" y="3528720"/>
                  <a:ext cx="1080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892200" y="3528720"/>
                  <a:ext cx="2340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1596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27120" y="3539880"/>
                  <a:ext cx="58320" cy="82440"/>
                </a:xfrm>
                <a:custGeom>
                  <a:avLst/>
                  <a:gdLst/>
                  <a:ahLst/>
                  <a:rect l="l" t="t" r="r" b="b"/>
                  <a:pathLst>
                    <a:path w="37" h="52">
                      <a:moveTo>
                        <a:pt x="0" y="0"/>
                      </a:moveTo>
                      <a:lnTo>
                        <a:pt x="37" y="8"/>
                      </a:lnTo>
                      <a:lnTo>
                        <a:pt x="3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27120" y="3539880"/>
                  <a:ext cx="2340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50880" y="3539880"/>
                  <a:ext cx="2376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75000" y="3539880"/>
                  <a:ext cx="1044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985800" y="3539880"/>
                  <a:ext cx="6948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8"/>
                      </a:moveTo>
                      <a:lnTo>
                        <a:pt x="44" y="0"/>
                      </a:lnTo>
                      <a:lnTo>
                        <a:pt x="44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85800" y="353988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09920" y="3539880"/>
                  <a:ext cx="23400" cy="82440"/>
                </a:xfrm>
                <a:prstGeom prst="rect">
                  <a:avLst/>
                </a:pr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33680" y="3539880"/>
                  <a:ext cx="21600" cy="8244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055640" y="3528720"/>
                  <a:ext cx="47520" cy="9360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0" y="7"/>
                      </a:moveTo>
                      <a:lnTo>
                        <a:pt x="30" y="0"/>
                      </a:lnTo>
                      <a:lnTo>
                        <a:pt x="30" y="44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055640" y="3539880"/>
                  <a:ext cx="12600" cy="82440"/>
                </a:xfrm>
                <a:custGeom>
                  <a:avLst/>
                  <a:gdLst/>
                  <a:ahLst/>
                  <a:rect l="l" t="t" r="r" b="b"/>
                  <a:pathLst>
                    <a:path w="8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44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068600" y="3528720"/>
                  <a:ext cx="2160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090560" y="352872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44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10352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22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0352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8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11468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138440" y="3481200"/>
                  <a:ext cx="10800" cy="106200"/>
                </a:xfrm>
                <a:custGeom>
                  <a:avLst/>
                  <a:gdLst/>
                  <a:ahLst/>
                  <a:rect l="l" t="t" r="r" b="b"/>
                  <a:pathLst>
                    <a:path w="7" h="67">
                      <a:moveTo>
                        <a:pt x="0" y="15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33880" y="3411360"/>
                  <a:ext cx="315720" cy="141120"/>
                </a:xfrm>
                <a:custGeom>
                  <a:avLst/>
                  <a:gdLst/>
                  <a:ahLst/>
                  <a:rect l="l" t="t" r="r" b="b"/>
                  <a:pathLst>
                    <a:path w="199" h="89">
                      <a:moveTo>
                        <a:pt x="96" y="0"/>
                      </a:moveTo>
                      <a:lnTo>
                        <a:pt x="59" y="8"/>
                      </a:lnTo>
                      <a:lnTo>
                        <a:pt x="30" y="15"/>
                      </a:lnTo>
                      <a:lnTo>
                        <a:pt x="8" y="30"/>
                      </a:lnTo>
                      <a:lnTo>
                        <a:pt x="0" y="44"/>
                      </a:lnTo>
                      <a:lnTo>
                        <a:pt x="8" y="59"/>
                      </a:lnTo>
                      <a:lnTo>
                        <a:pt x="30" y="74"/>
                      </a:lnTo>
                      <a:lnTo>
                        <a:pt x="59" y="81"/>
                      </a:lnTo>
                      <a:lnTo>
                        <a:pt x="96" y="89"/>
                      </a:lnTo>
                      <a:lnTo>
                        <a:pt x="140" y="81"/>
                      </a:lnTo>
                      <a:lnTo>
                        <a:pt x="170" y="74"/>
                      </a:lnTo>
                      <a:lnTo>
                        <a:pt x="192" y="59"/>
                      </a:lnTo>
                      <a:lnTo>
                        <a:pt x="199" y="44"/>
                      </a:lnTo>
                      <a:lnTo>
                        <a:pt x="192" y="30"/>
                      </a:lnTo>
                      <a:lnTo>
                        <a:pt x="170" y="15"/>
                      </a:lnTo>
                      <a:lnTo>
                        <a:pt x="140" y="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6541920" y="3552480"/>
                <a:ext cx="443880" cy="81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6530760" y="3376440"/>
              <a:ext cx="431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63880" y="33890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218120" y="1636560"/>
            <a:ext cx="677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03520" y="164772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61680" y="1846440"/>
            <a:ext cx="57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27080" y="5046840"/>
            <a:ext cx="1227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74240" y="5081760"/>
            <a:ext cx="112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igger V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035680" y="3062160"/>
            <a:ext cx="630000" cy="1190520"/>
            <a:chOff x="5035680" y="3062160"/>
            <a:chExt cx="630000" cy="1190520"/>
          </a:xfrm>
        </p:grpSpPr>
        <p:grpSp>
          <p:nvGrpSpPr>
            <p:cNvPr id="495" name=""/>
            <p:cNvGrpSpPr/>
            <p:nvPr/>
          </p:nvGrpSpPr>
          <p:grpSpPr>
            <a:xfrm>
              <a:off x="5035680" y="3062160"/>
              <a:ext cx="630000" cy="1190520"/>
              <a:chOff x="5035680" y="3062160"/>
              <a:chExt cx="630000" cy="1190520"/>
            </a:xfrm>
          </p:grpSpPr>
          <p:sp>
            <p:nvSpPr>
              <p:cNvPr id="496" name=""/>
              <p:cNvSpPr/>
              <p:nvPr/>
            </p:nvSpPr>
            <p:spPr>
              <a:xfrm>
                <a:off x="5035680" y="306216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35680" y="3062160"/>
                <a:ext cx="630000" cy="198360"/>
              </a:xfrm>
              <a:custGeom>
                <a:avLst/>
                <a:gdLst/>
                <a:ahLst/>
                <a:rect l="l" t="t" r="r" b="b"/>
                <a:pathLst>
                  <a:path w="397" h="125">
                    <a:moveTo>
                      <a:pt x="39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397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234040" y="3260520"/>
                <a:ext cx="43164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rot="16200000">
              <a:off x="5106240" y="366300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t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281560" y="3411360"/>
              <a:ext cx="104760" cy="701640"/>
              <a:chOff x="5281560" y="3411360"/>
              <a:chExt cx="104760" cy="701640"/>
            </a:xfrm>
          </p:grpSpPr>
          <p:sp>
            <p:nvSpPr>
              <p:cNvPr id="501" name=""/>
              <p:cNvSpPr/>
              <p:nvPr/>
            </p:nvSpPr>
            <p:spPr>
              <a:xfrm>
                <a:off x="5281560" y="3411360"/>
                <a:ext cx="104760" cy="1047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81560" y="3609720"/>
                <a:ext cx="104760" cy="10620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81560" y="3808080"/>
                <a:ext cx="104760" cy="1065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81560" y="4006440"/>
                <a:ext cx="104760" cy="1065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4076640" y="2009880"/>
            <a:ext cx="1157400" cy="1495440"/>
            <a:chOff x="4076640" y="2009880"/>
            <a:chExt cx="1157400" cy="1495440"/>
          </a:xfrm>
        </p:grpSpPr>
        <p:sp>
          <p:nvSpPr>
            <p:cNvPr id="506" name=""/>
            <p:cNvSpPr/>
            <p:nvPr/>
          </p:nvSpPr>
          <p:spPr>
            <a:xfrm>
              <a:off x="4124520" y="2044800"/>
              <a:ext cx="981000" cy="1414440"/>
            </a:xfrm>
            <a:custGeom>
              <a:avLst/>
              <a:gdLst/>
              <a:ahLst/>
              <a:rect l="l" t="t" r="r" b="b"/>
              <a:pathLst>
                <a:path w="618" h="891">
                  <a:moveTo>
                    <a:pt x="0" y="0"/>
                  </a:moveTo>
                  <a:lnTo>
                    <a:pt x="0" y="15"/>
                  </a:lnTo>
                  <a:lnTo>
                    <a:pt x="280" y="15"/>
                  </a:lnTo>
                  <a:lnTo>
                    <a:pt x="280" y="8"/>
                  </a:lnTo>
                  <a:lnTo>
                    <a:pt x="272" y="8"/>
                  </a:lnTo>
                  <a:lnTo>
                    <a:pt x="272" y="883"/>
                  </a:lnTo>
                  <a:lnTo>
                    <a:pt x="272" y="883"/>
                  </a:lnTo>
                  <a:lnTo>
                    <a:pt x="280" y="891"/>
                  </a:lnTo>
                  <a:lnTo>
                    <a:pt x="280" y="891"/>
                  </a:lnTo>
                  <a:lnTo>
                    <a:pt x="618" y="891"/>
                  </a:lnTo>
                  <a:lnTo>
                    <a:pt x="618" y="876"/>
                  </a:lnTo>
                  <a:lnTo>
                    <a:pt x="280" y="876"/>
                  </a:lnTo>
                  <a:lnTo>
                    <a:pt x="280" y="883"/>
                  </a:lnTo>
                  <a:lnTo>
                    <a:pt x="287" y="883"/>
                  </a:lnTo>
                  <a:lnTo>
                    <a:pt x="287" y="8"/>
                  </a:lnTo>
                  <a:lnTo>
                    <a:pt x="287" y="8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76640" y="2009880"/>
              <a:ext cx="106560" cy="106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81760" y="3400560"/>
              <a:ext cx="15228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0" y="66"/>
                  </a:moveTo>
                  <a:lnTo>
                    <a:pt x="96" y="29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065480" y="3389400"/>
            <a:ext cx="1157400" cy="314280"/>
            <a:chOff x="4065480" y="3389400"/>
            <a:chExt cx="1157400" cy="314280"/>
          </a:xfrm>
        </p:grpSpPr>
        <p:sp>
          <p:nvSpPr>
            <p:cNvPr id="510" name=""/>
            <p:cNvSpPr/>
            <p:nvPr/>
          </p:nvSpPr>
          <p:spPr>
            <a:xfrm>
              <a:off x="4124520" y="3435480"/>
              <a:ext cx="981000" cy="233280"/>
            </a:xfrm>
            <a:custGeom>
              <a:avLst/>
              <a:gdLst/>
              <a:ahLst/>
              <a:rect l="l" t="t" r="r" b="b"/>
              <a:pathLst>
                <a:path w="618" h="147">
                  <a:moveTo>
                    <a:pt x="0" y="0"/>
                  </a:moveTo>
                  <a:lnTo>
                    <a:pt x="0" y="15"/>
                  </a:lnTo>
                  <a:lnTo>
                    <a:pt x="184" y="15"/>
                  </a:lnTo>
                  <a:lnTo>
                    <a:pt x="184" y="7"/>
                  </a:lnTo>
                  <a:lnTo>
                    <a:pt x="176" y="7"/>
                  </a:lnTo>
                  <a:lnTo>
                    <a:pt x="176" y="140"/>
                  </a:lnTo>
                  <a:lnTo>
                    <a:pt x="176" y="140"/>
                  </a:lnTo>
                  <a:lnTo>
                    <a:pt x="184" y="147"/>
                  </a:lnTo>
                  <a:lnTo>
                    <a:pt x="184" y="147"/>
                  </a:lnTo>
                  <a:lnTo>
                    <a:pt x="618" y="147"/>
                  </a:lnTo>
                  <a:lnTo>
                    <a:pt x="618" y="132"/>
                  </a:lnTo>
                  <a:lnTo>
                    <a:pt x="184" y="132"/>
                  </a:lnTo>
                  <a:lnTo>
                    <a:pt x="184" y="140"/>
                  </a:lnTo>
                  <a:lnTo>
                    <a:pt x="191" y="140"/>
                  </a:lnTo>
                  <a:lnTo>
                    <a:pt x="191" y="7"/>
                  </a:lnTo>
                  <a:lnTo>
                    <a:pt x="191" y="7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65480" y="3389400"/>
              <a:ext cx="128880" cy="127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81760" y="3622680"/>
              <a:ext cx="14112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51"/>
                  </a:moveTo>
                  <a:lnTo>
                    <a:pt x="89" y="22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076640" y="3821040"/>
            <a:ext cx="1157400" cy="1482840"/>
            <a:chOff x="4076640" y="3821040"/>
            <a:chExt cx="1157400" cy="1482840"/>
          </a:xfrm>
        </p:grpSpPr>
        <p:sp>
          <p:nvSpPr>
            <p:cNvPr id="514" name=""/>
            <p:cNvSpPr/>
            <p:nvPr/>
          </p:nvSpPr>
          <p:spPr>
            <a:xfrm>
              <a:off x="4124520" y="3855960"/>
              <a:ext cx="1015920" cy="1389240"/>
            </a:xfrm>
            <a:custGeom>
              <a:avLst/>
              <a:gdLst/>
              <a:ahLst/>
              <a:rect l="l" t="t" r="r" b="b"/>
              <a:pathLst>
                <a:path w="640" h="875">
                  <a:moveTo>
                    <a:pt x="0" y="875"/>
                  </a:moveTo>
                  <a:lnTo>
                    <a:pt x="250" y="875"/>
                  </a:lnTo>
                  <a:lnTo>
                    <a:pt x="250" y="0"/>
                  </a:lnTo>
                  <a:lnTo>
                    <a:pt x="640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6640" y="5199120"/>
              <a:ext cx="10656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16680" y="3821040"/>
              <a:ext cx="117360" cy="810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0" y="51"/>
                  </a:moveTo>
                  <a:lnTo>
                    <a:pt x="74" y="22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180120" y="2933640"/>
            <a:ext cx="1157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11800" y="2944800"/>
            <a:ext cx="107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HPC 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97680" y="2266920"/>
            <a:ext cx="398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789440" y="2862360"/>
            <a:ext cx="3121200" cy="1600200"/>
            <a:chOff x="4789440" y="2862360"/>
            <a:chExt cx="3121200" cy="1600200"/>
          </a:xfrm>
        </p:grpSpPr>
        <p:sp>
          <p:nvSpPr>
            <p:cNvPr id="521" name=""/>
            <p:cNvSpPr/>
            <p:nvPr/>
          </p:nvSpPr>
          <p:spPr>
            <a:xfrm>
              <a:off x="5234040" y="3260880"/>
              <a:ext cx="2676600" cy="1201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9440" y="2862360"/>
              <a:ext cx="444600" cy="1589040"/>
            </a:xfrm>
            <a:custGeom>
              <a:avLst/>
              <a:gdLst/>
              <a:ahLst/>
              <a:rect l="l" t="t" r="r" b="b"/>
              <a:pathLst>
                <a:path w="280" h="1001">
                  <a:moveTo>
                    <a:pt x="280" y="1001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280" y="251"/>
                  </a:lnTo>
                  <a:lnTo>
                    <a:pt x="280" y="100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89440" y="2862360"/>
              <a:ext cx="3108600" cy="398520"/>
            </a:xfrm>
            <a:custGeom>
              <a:avLst/>
              <a:gdLst/>
              <a:ahLst/>
              <a:rect l="l" t="t" r="r" b="b"/>
              <a:pathLst>
                <a:path w="1958" h="251">
                  <a:moveTo>
                    <a:pt x="280" y="251"/>
                  </a:moveTo>
                  <a:lnTo>
                    <a:pt x="0" y="0"/>
                  </a:lnTo>
                  <a:lnTo>
                    <a:pt x="1679" y="0"/>
                  </a:lnTo>
                  <a:lnTo>
                    <a:pt x="1958" y="251"/>
                  </a:lnTo>
                  <a:lnTo>
                    <a:pt x="280" y="2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481560" y="1671480"/>
            <a:ext cx="409320" cy="1190520"/>
            <a:chOff x="3481560" y="1671480"/>
            <a:chExt cx="409320" cy="1190520"/>
          </a:xfrm>
        </p:grpSpPr>
        <p:sp>
          <p:nvSpPr>
            <p:cNvPr id="525" name=""/>
            <p:cNvSpPr/>
            <p:nvPr/>
          </p:nvSpPr>
          <p:spPr>
            <a:xfrm>
              <a:off x="3481560" y="167148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81560" y="167148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79920" y="186984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492360" y="3062160"/>
            <a:ext cx="409320" cy="1190520"/>
            <a:chOff x="3492360" y="3062160"/>
            <a:chExt cx="409320" cy="1190520"/>
          </a:xfrm>
        </p:grpSpPr>
        <p:sp>
          <p:nvSpPr>
            <p:cNvPr id="529" name=""/>
            <p:cNvSpPr/>
            <p:nvPr/>
          </p:nvSpPr>
          <p:spPr>
            <a:xfrm>
              <a:off x="3492360" y="306216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92360" y="306216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90720" y="326052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rot="16200000">
            <a:off x="3345480" y="36975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259080" y="3062160"/>
            <a:ext cx="409680" cy="1190520"/>
            <a:chOff x="3259080" y="3062160"/>
            <a:chExt cx="409680" cy="1190520"/>
          </a:xfrm>
        </p:grpSpPr>
        <p:sp>
          <p:nvSpPr>
            <p:cNvPr id="534" name=""/>
            <p:cNvSpPr/>
            <p:nvPr/>
          </p:nvSpPr>
          <p:spPr>
            <a:xfrm>
              <a:off x="3259080" y="3062160"/>
              <a:ext cx="19872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59080" y="306216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7800" y="3260520"/>
              <a:ext cx="210960" cy="992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482840" y="3062160"/>
            <a:ext cx="2153160" cy="1598400"/>
            <a:chOff x="1482840" y="3062160"/>
            <a:chExt cx="2153160" cy="1598400"/>
          </a:xfrm>
        </p:grpSpPr>
        <p:grpSp>
          <p:nvGrpSpPr>
            <p:cNvPr id="538" name=""/>
            <p:cNvGrpSpPr/>
            <p:nvPr/>
          </p:nvGrpSpPr>
          <p:grpSpPr>
            <a:xfrm>
              <a:off x="1482840" y="3062160"/>
              <a:ext cx="1963800" cy="1587240"/>
              <a:chOff x="1482840" y="3062160"/>
              <a:chExt cx="1963800" cy="158724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036960" y="3062160"/>
                <a:ext cx="409680" cy="1587240"/>
                <a:chOff x="3036960" y="3062160"/>
                <a:chExt cx="409680" cy="15872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0369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e0e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0369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979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35320" y="3260520"/>
                  <a:ext cx="211320" cy="1388880"/>
                </a:xfrm>
                <a:prstGeom prst="rect">
                  <a:avLst/>
                </a:prstGeom>
                <a:solidFill>
                  <a:srgbClr val="c3c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2814840" y="3062160"/>
                <a:ext cx="409320" cy="1587240"/>
                <a:chOff x="2814840" y="3062160"/>
                <a:chExt cx="409320" cy="15872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2814840" y="3062160"/>
                  <a:ext cx="199800" cy="1587240"/>
                </a:xfrm>
                <a:custGeom>
                  <a:avLst/>
                  <a:gdLst/>
                  <a:ahLst/>
                  <a:rect l="l" t="t" r="r" b="b"/>
                  <a:pathLst>
                    <a:path w="126" h="1000">
                      <a:moveTo>
                        <a:pt x="126" y="125"/>
                      </a:moveTo>
                      <a:lnTo>
                        <a:pt x="126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6" y="125"/>
                      </a:lnTo>
                      <a:close/>
                    </a:path>
                  </a:pathLst>
                </a:custGeom>
                <a:solidFill>
                  <a:srgbClr val="e0e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814840" y="3062160"/>
                  <a:ext cx="40932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6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979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014640" y="3260520"/>
                  <a:ext cx="209520" cy="1388880"/>
                </a:xfrm>
                <a:prstGeom prst="rect">
                  <a:avLst/>
                </a:prstGeom>
                <a:solidFill>
                  <a:srgbClr val="c3c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2594160" y="3062160"/>
                <a:ext cx="407880" cy="1587240"/>
                <a:chOff x="2594160" y="3062160"/>
                <a:chExt cx="407880" cy="15872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5941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594160" y="3062160"/>
                  <a:ext cx="407880" cy="198360"/>
                </a:xfrm>
                <a:custGeom>
                  <a:avLst/>
                  <a:gdLst/>
                  <a:ahLst/>
                  <a:rect l="l" t="t" r="r" b="b"/>
                  <a:pathLst>
                    <a:path w="257" h="125">
                      <a:moveTo>
                        <a:pt x="257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7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92520" y="3260520"/>
                  <a:ext cx="2095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371680" y="3062160"/>
                <a:ext cx="408240" cy="1587240"/>
                <a:chOff x="2371680" y="3062160"/>
                <a:chExt cx="408240" cy="15872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371680" y="3062160"/>
                  <a:ext cx="19872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71680" y="3062160"/>
                  <a:ext cx="408240" cy="198360"/>
                </a:xfrm>
                <a:custGeom>
                  <a:avLst/>
                  <a:gdLst/>
                  <a:ahLst/>
                  <a:rect l="l" t="t" r="r" b="b"/>
                  <a:pathLst>
                    <a:path w="257" h="125">
                      <a:moveTo>
                        <a:pt x="257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7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570400" y="3260520"/>
                  <a:ext cx="2095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2149560" y="3062160"/>
                <a:ext cx="409680" cy="1587240"/>
                <a:chOff x="2149560" y="3062160"/>
                <a:chExt cx="409680" cy="15872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1495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95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347920" y="3260520"/>
                  <a:ext cx="2113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1927440" y="3062160"/>
                <a:ext cx="409320" cy="1587240"/>
                <a:chOff x="1927440" y="3062160"/>
                <a:chExt cx="409320" cy="15872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92744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7440" y="3062160"/>
                  <a:ext cx="40932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125800" y="3260520"/>
                  <a:ext cx="21096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704960" y="3062160"/>
                <a:ext cx="409680" cy="1587240"/>
                <a:chOff x="1704960" y="3062160"/>
                <a:chExt cx="409680" cy="15872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7049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7049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903320" y="3260520"/>
                  <a:ext cx="21132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1482840" y="3062160"/>
                <a:ext cx="409680" cy="1587240"/>
                <a:chOff x="1482840" y="3062160"/>
                <a:chExt cx="409680" cy="15872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48284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8284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681200" y="3260520"/>
                  <a:ext cx="21132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"/>
            <p:cNvSpPr/>
            <p:nvPr/>
          </p:nvSpPr>
          <p:spPr>
            <a:xfrm>
              <a:off x="1693800" y="3271680"/>
              <a:ext cx="14493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40960" y="3295440"/>
              <a:ext cx="18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F+TRIG FASTB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98560" y="3657240"/>
              <a:ext cx="420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3120" y="36684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76440" y="3644640"/>
              <a:ext cx="409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11360" y="365724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14640" y="3657240"/>
              <a:ext cx="23328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2811600" y="42163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ig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35320" y="3657240"/>
              <a:ext cx="23508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3027240" y="4221720"/>
              <a:ext cx="61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ig T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668760" y="3260880"/>
            <a:ext cx="466560" cy="1400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4840" y="4264200"/>
            <a:ext cx="36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73520" y="427680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60200" y="4475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671480"/>
            <a:ext cx="198360" cy="1190880"/>
          </a:xfrm>
          <a:custGeom>
            <a:avLst/>
            <a:gdLst/>
            <a:ahLst/>
            <a:rect l="l" t="t" r="r" b="b"/>
            <a:pathLst>
              <a:path w="125" h="750">
                <a:moveTo>
                  <a:pt x="125" y="125"/>
                </a:moveTo>
                <a:lnTo>
                  <a:pt x="125" y="750"/>
                </a:lnTo>
                <a:lnTo>
                  <a:pt x="0" y="625"/>
                </a:lnTo>
                <a:lnTo>
                  <a:pt x="0" y="0"/>
                </a:lnTo>
                <a:lnTo>
                  <a:pt x="125" y="12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9080" y="1671480"/>
            <a:ext cx="409680" cy="198720"/>
          </a:xfrm>
          <a:custGeom>
            <a:avLst/>
            <a:gdLst/>
            <a:ahLst/>
            <a:rect l="l" t="t" r="r" b="b"/>
            <a:pathLst>
              <a:path w="258" h="125">
                <a:moveTo>
                  <a:pt x="258" y="125"/>
                </a:moveTo>
                <a:lnTo>
                  <a:pt x="125" y="125"/>
                </a:lnTo>
                <a:lnTo>
                  <a:pt x="0" y="0"/>
                </a:lnTo>
                <a:lnTo>
                  <a:pt x="133" y="0"/>
                </a:lnTo>
                <a:lnTo>
                  <a:pt x="258" y="12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57440" y="1870200"/>
            <a:ext cx="211320" cy="99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371680" y="1671480"/>
            <a:ext cx="1074960" cy="1190520"/>
            <a:chOff x="2371680" y="1671480"/>
            <a:chExt cx="1074960" cy="1190520"/>
          </a:xfrm>
        </p:grpSpPr>
        <p:grpSp>
          <p:nvGrpSpPr>
            <p:cNvPr id="589" name=""/>
            <p:cNvGrpSpPr/>
            <p:nvPr/>
          </p:nvGrpSpPr>
          <p:grpSpPr>
            <a:xfrm>
              <a:off x="3036960" y="1671480"/>
              <a:ext cx="409680" cy="1190520"/>
              <a:chOff x="3036960" y="1671480"/>
              <a:chExt cx="409680" cy="1190520"/>
            </a:xfrm>
          </p:grpSpPr>
          <p:sp>
            <p:nvSpPr>
              <p:cNvPr id="590" name=""/>
              <p:cNvSpPr/>
              <p:nvPr/>
            </p:nvSpPr>
            <p:spPr>
              <a:xfrm>
                <a:off x="3036960" y="167148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36960" y="1671480"/>
                <a:ext cx="40968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35320" y="1869840"/>
                <a:ext cx="2113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rot="16200000">
              <a:off x="2990160" y="240804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2814840" y="1671480"/>
              <a:ext cx="409320" cy="1190520"/>
              <a:chOff x="2814840" y="1671480"/>
              <a:chExt cx="409320" cy="1190520"/>
            </a:xfrm>
          </p:grpSpPr>
          <p:sp>
            <p:nvSpPr>
              <p:cNvPr id="595" name=""/>
              <p:cNvSpPr/>
              <p:nvPr/>
            </p:nvSpPr>
            <p:spPr>
              <a:xfrm>
                <a:off x="2814840" y="1671480"/>
                <a:ext cx="199800" cy="1190520"/>
              </a:xfrm>
              <a:custGeom>
                <a:avLst/>
                <a:gdLst/>
                <a:ahLst/>
                <a:rect l="l" t="t" r="r" b="b"/>
                <a:pathLst>
                  <a:path w="126" h="750">
                    <a:moveTo>
                      <a:pt x="126" y="125"/>
                    </a:moveTo>
                    <a:lnTo>
                      <a:pt x="126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6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1484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6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1464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 rot="16200000">
              <a:off x="2768040" y="240804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2594160" y="1671480"/>
              <a:ext cx="407880" cy="1190520"/>
              <a:chOff x="2594160" y="1671480"/>
              <a:chExt cx="407880" cy="119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2594160" y="167148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94160" y="1671480"/>
                <a:ext cx="407880" cy="198360"/>
              </a:xfrm>
              <a:custGeom>
                <a:avLst/>
                <a:gdLst/>
                <a:ahLst/>
                <a:rect l="l" t="t" r="r" b="b"/>
                <a:pathLst>
                  <a:path w="257" h="125">
                    <a:moveTo>
                      <a:pt x="25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7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79252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 rot="16200000">
              <a:off x="2544120" y="240804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371680" y="1671480"/>
              <a:ext cx="408240" cy="1190520"/>
              <a:chOff x="2371680" y="1671480"/>
              <a:chExt cx="408240" cy="1190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371680" y="1671480"/>
                <a:ext cx="19872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71680" y="1671480"/>
                <a:ext cx="408240" cy="198360"/>
              </a:xfrm>
              <a:custGeom>
                <a:avLst/>
                <a:gdLst/>
                <a:ahLst/>
                <a:rect l="l" t="t" r="r" b="b"/>
                <a:pathLst>
                  <a:path w="257" h="125">
                    <a:moveTo>
                      <a:pt x="25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7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7040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 rot="16200000">
              <a:off x="2322000" y="240804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482840" y="1671480"/>
            <a:ext cx="1075680" cy="1190520"/>
            <a:chOff x="1482840" y="1671480"/>
            <a:chExt cx="1075680" cy="1190520"/>
          </a:xfrm>
        </p:grpSpPr>
        <p:grpSp>
          <p:nvGrpSpPr>
            <p:cNvPr id="610" name=""/>
            <p:cNvGrpSpPr/>
            <p:nvPr/>
          </p:nvGrpSpPr>
          <p:grpSpPr>
            <a:xfrm>
              <a:off x="2149200" y="1671480"/>
              <a:ext cx="409320" cy="1190520"/>
              <a:chOff x="2149200" y="1671480"/>
              <a:chExt cx="409320" cy="1190520"/>
            </a:xfrm>
          </p:grpSpPr>
          <p:sp>
            <p:nvSpPr>
              <p:cNvPr id="611" name=""/>
              <p:cNvSpPr/>
              <p:nvPr/>
            </p:nvSpPr>
            <p:spPr>
              <a:xfrm>
                <a:off x="214920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4920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4720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927080" y="1671480"/>
              <a:ext cx="408960" cy="1190520"/>
              <a:chOff x="1927080" y="1671480"/>
              <a:chExt cx="408960" cy="1190520"/>
            </a:xfrm>
          </p:grpSpPr>
          <p:sp>
            <p:nvSpPr>
              <p:cNvPr id="615" name=""/>
              <p:cNvSpPr/>
              <p:nvPr/>
            </p:nvSpPr>
            <p:spPr>
              <a:xfrm>
                <a:off x="192708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927080" y="1671480"/>
                <a:ext cx="40896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25080" y="1869840"/>
                <a:ext cx="21060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704600" y="1671480"/>
              <a:ext cx="409320" cy="1190520"/>
              <a:chOff x="1704600" y="1671480"/>
              <a:chExt cx="409320" cy="1190520"/>
            </a:xfrm>
          </p:grpSpPr>
          <p:sp>
            <p:nvSpPr>
              <p:cNvPr id="619" name=""/>
              <p:cNvSpPr/>
              <p:nvPr/>
            </p:nvSpPr>
            <p:spPr>
              <a:xfrm>
                <a:off x="170460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70460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0260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482840" y="1671480"/>
              <a:ext cx="409320" cy="1190520"/>
              <a:chOff x="1482840" y="1671480"/>
              <a:chExt cx="409320" cy="1190520"/>
            </a:xfrm>
          </p:grpSpPr>
          <p:sp>
            <p:nvSpPr>
              <p:cNvPr id="623" name=""/>
              <p:cNvSpPr/>
              <p:nvPr/>
            </p:nvSpPr>
            <p:spPr>
              <a:xfrm>
                <a:off x="148284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48284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8084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1704960" y="1881360"/>
            <a:ext cx="1216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51040" y="190512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licon V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3302640" y="54597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3302640" y="22593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2922840" y="558000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Verdana"/>
              </a:rPr>
              <a:t>L0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2694240" y="557820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Verdana"/>
              </a:rPr>
              <a:t>L1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29240" y="4446720"/>
            <a:ext cx="2146320" cy="826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449280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vent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ftware in ROOT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13520" y="5297400"/>
            <a:ext cx="682560" cy="387360"/>
          </a:xfrm>
          <a:prstGeom prst="flowChartMagneticDisk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22096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38098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15994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ltiplexed Data in from Silicon FE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32760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 in from TOF/Trigger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4920" y="51807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iggers in from Trigger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2480" y="54864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Data Acquis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20000" y="5400720"/>
            <a:ext cx="1980720" cy="914040"/>
            <a:chOff x="7020000" y="5400720"/>
            <a:chExt cx="1980720" cy="914040"/>
          </a:xfrm>
        </p:grpSpPr>
        <p:sp>
          <p:nvSpPr>
            <p:cNvPr id="643" name=""/>
            <p:cNvSpPr/>
            <p:nvPr/>
          </p:nvSpPr>
          <p:spPr>
            <a:xfrm>
              <a:off x="7301880" y="5628240"/>
              <a:ext cx="1698840" cy="686520"/>
            </a:xfrm>
            <a:prstGeom prst="rect">
              <a:avLst/>
            </a:prstGeom>
            <a:solidFill>
              <a:srgbClr val="ff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20000" y="5400720"/>
              <a:ext cx="281880" cy="907920"/>
            </a:xfrm>
            <a:custGeom>
              <a:avLst/>
              <a:gdLst/>
              <a:ahLst/>
              <a:rect l="l" t="t" r="r" b="b"/>
              <a:pathLst>
                <a:path w="280" h="1001">
                  <a:moveTo>
                    <a:pt x="280" y="1001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280" y="251"/>
                  </a:lnTo>
                  <a:lnTo>
                    <a:pt x="280" y="1001"/>
                  </a:lnTo>
                  <a:close/>
                </a:path>
              </a:pathLst>
            </a:custGeom>
            <a:solidFill>
              <a:srgbClr val="ffcc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20000" y="5400720"/>
              <a:ext cx="1973160" cy="227520"/>
            </a:xfrm>
            <a:custGeom>
              <a:avLst/>
              <a:gdLst/>
              <a:ahLst/>
              <a:rect l="l" t="t" r="r" b="b"/>
              <a:pathLst>
                <a:path w="1958" h="251">
                  <a:moveTo>
                    <a:pt x="280" y="251"/>
                  </a:moveTo>
                  <a:lnTo>
                    <a:pt x="0" y="0"/>
                  </a:lnTo>
                  <a:lnTo>
                    <a:pt x="1679" y="0"/>
                  </a:lnTo>
                  <a:lnTo>
                    <a:pt x="1958" y="251"/>
                  </a:lnTo>
                  <a:lnTo>
                    <a:pt x="280" y="251"/>
                  </a:lnTo>
                  <a:close/>
                </a:path>
              </a:pathLst>
            </a:custGeom>
            <a:solidFill>
              <a:srgbClr val="ffcc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095960" y="5673960"/>
            <a:ext cx="204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Onlin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ROOT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41920" y="2449440"/>
            <a:ext cx="157320" cy="639720"/>
          </a:xfrm>
          <a:prstGeom prst="upArrow">
            <a:avLst>
              <a:gd name="adj1" fmla="val 50000"/>
              <a:gd name="adj2" fmla="val 101659"/>
            </a:avLst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0400000">
            <a:off x="7927560" y="4457520"/>
            <a:ext cx="163440" cy="963360"/>
          </a:xfrm>
          <a:prstGeom prst="downArrow">
            <a:avLst>
              <a:gd name="adj1" fmla="val 50000"/>
              <a:gd name="adj2" fmla="val 147357"/>
            </a:avLst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4876920" y="2362320"/>
            <a:ext cx="1904760" cy="373356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08400" y="586656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orker 1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2133720"/>
            <a:ext cx="1904760" cy="3733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00600" y="5637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orker 2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990720"/>
            <a:ext cx="2286000" cy="5181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1066680"/>
            <a:ext cx="533520" cy="4953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69760" y="10659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5520" y="7614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aster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1143000"/>
            <a:ext cx="533160" cy="181080"/>
          </a:xfrm>
          <a:custGeom>
            <a:avLst/>
            <a:gdLst>
              <a:gd name="textAreaLeft" fmla="*/ 66600 w 533160"/>
              <a:gd name="textAreaRight" fmla="*/ 466560 w 53316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280" y="794520"/>
            <a:ext cx="87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1/ L2 Tri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vent 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1070640"/>
            <a:ext cx="152424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Command Words and Event Tag to M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ble Trigg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66680" y="1832760"/>
            <a:ext cx="152424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hronize the Worker CN’s by sending  Event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2670840"/>
            <a:ext cx="152424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 ACK from all Worker CNs for receipt of data f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3585240"/>
            <a:ext cx="1524240" cy="2462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able L2 tri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838080"/>
            <a:ext cx="1067040" cy="533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1905120"/>
            <a:ext cx="1904760" cy="3733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1981080"/>
            <a:ext cx="533520" cy="3505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9280" y="19803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75240" y="540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orker n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5000" y="2286000"/>
            <a:ext cx="533520" cy="152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95680" y="2061360"/>
            <a:ext cx="1143000" cy="3985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ACK to Master C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2747160"/>
            <a:ext cx="1143000" cy="3985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destal Subtr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15000" y="4724280"/>
            <a:ext cx="53352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638680" y="4729680"/>
            <a:ext cx="685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des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 GAIN data for Group of FE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4195080"/>
            <a:ext cx="1143000" cy="3985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ro Sup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95680" y="3356640"/>
            <a:ext cx="114300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Mode Noise Corre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292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5000" y="3733920"/>
            <a:ext cx="5335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15000" y="2971800"/>
            <a:ext cx="53352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15000" y="4419720"/>
            <a:ext cx="5335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199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199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199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95680" y="4804560"/>
            <a:ext cx="114300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Size of ZSS data to Master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95680"/>
            <a:ext cx="53352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4648320"/>
            <a:ext cx="5335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4800600"/>
            <a:ext cx="53352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952880"/>
            <a:ext cx="53352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4499640"/>
            <a:ext cx="152424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 all packets of Zero Suppressed data and join them togeth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4647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44949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19520" y="4799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5562720"/>
            <a:ext cx="5335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477760"/>
            <a:ext cx="1524240" cy="5508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Zero Suppressed Events to VxWorks Ho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30400" y="5038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38880" y="320040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66520" y="281880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ACEway transfer (DM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~ 140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8880" y="358128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37360" y="335196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VME BackPlane ~ 8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15200" y="5105520"/>
            <a:ext cx="1600200" cy="9903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05920" y="5181480"/>
            <a:ext cx="53316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85160" y="5938920"/>
            <a:ext cx="1295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17720" y="6095160"/>
            <a:ext cx="162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VME 2604 Interface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vent 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305920" y="5714280"/>
            <a:ext cx="47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94040" y="52570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Vx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762120"/>
            <a:ext cx="6098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97320" y="837360"/>
            <a:ext cx="61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IN-T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F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72200" y="13716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24280" y="913680"/>
            <a:ext cx="113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aw Even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rom F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228600"/>
            <a:ext cx="6094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6200" y="304200"/>
            <a:ext cx="61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UT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F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81080" y="7596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26160" y="137016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37160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1320" y="1066680"/>
            <a:ext cx="304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92800" y="556200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2880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88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5791320"/>
            <a:ext cx="4191120" cy="609480"/>
          </a:xfrm>
          <a:custGeom>
            <a:avLst/>
            <a:gdLst/>
            <a:ahLst/>
            <a:rect l="l" t="t" r="r" b="b"/>
            <a:pathLst>
              <a:path w="2640" h="384">
                <a:moveTo>
                  <a:pt x="0" y="0"/>
                </a:moveTo>
                <a:lnTo>
                  <a:pt x="0" y="384"/>
                </a:lnTo>
                <a:lnTo>
                  <a:pt x="2640" y="384"/>
                </a:lnTo>
                <a:lnTo>
                  <a:pt x="264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2209680"/>
            <a:ext cx="2057400" cy="60984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1296" y="0"/>
                </a:moveTo>
                <a:cubicBezTo>
                  <a:pt x="1296" y="0"/>
                  <a:pt x="648" y="192"/>
                  <a:pt x="0" y="38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4495680"/>
            <a:ext cx="2590920" cy="533520"/>
          </a:xfrm>
          <a:custGeom>
            <a:avLst/>
            <a:gdLst/>
            <a:ahLst/>
            <a:rect l="l" t="t" r="r" b="b"/>
            <a:pathLst>
              <a:path w="1584" h="336">
                <a:moveTo>
                  <a:pt x="1584" y="0"/>
                </a:moveTo>
                <a:cubicBezTo>
                  <a:pt x="924" y="140"/>
                  <a:pt x="264" y="280"/>
                  <a:pt x="0" y="3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Event Loop in Silicon D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"/>
          <p:cNvGraphicFramePr/>
          <p:nvPr/>
        </p:nvGraphicFramePr>
        <p:xfrm>
          <a:off x="4734000" y="0"/>
          <a:ext cx="4776840" cy="36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0"/>
                    <a:ext cx="4776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-914400" y="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Trigge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280" y="838080"/>
            <a:ext cx="480060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66"/>
                </a:solidFill>
                <a:latin typeface="Verdana"/>
              </a:rPr>
              <a:t>Boards designed by Andrei Sukhanov (BNL,PHOB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One design based on Lattice ispLSI3328 P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Used with different firmware for separate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ME compliant, with dECL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Verdana"/>
              </a:rPr>
              <a:t>Level 0, Level 1 Trigger Managers: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Implement trigger logic in different mode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Set BUSY signals using inputs from subsystem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</a:t>
            </a:r>
            <a:r>
              <a:rPr b="0" i="1" lang="en-US" sz="1400" spc="-1" strike="noStrike">
                <a:solidFill>
                  <a:srgbClr val="0000ff"/>
                </a:solidFill>
                <a:latin typeface="Verdana"/>
              </a:rPr>
              <a:t>Allow software configured pre-scaling and </a:t>
            </a:r>
            <a:br>
              <a:rPr sz="1400"/>
            </a:br>
            <a:r>
              <a:rPr b="0" i="1" lang="en-US" sz="1400" spc="-1" strike="noStrike">
                <a:solidFill>
                  <a:srgbClr val="0000ff"/>
                </a:solidFill>
                <a:latin typeface="Verdana"/>
              </a:rPr>
              <a:t>    selection of trigger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Verdana"/>
              </a:rPr>
              <a:t>Event Manager Master and Slave board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Master resides in Trigger VME crate,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slaves in other sub-system crate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Provides reliable synchronization between 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sub-systems : strobes out Event Number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for accepted triggers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- Final event-building relies on these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synchronized Event nu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200400" y="3581280"/>
            <a:ext cx="5791320" cy="3111480"/>
            <a:chOff x="3200400" y="3581280"/>
            <a:chExt cx="5791320" cy="3111480"/>
          </a:xfrm>
        </p:grpSpPr>
        <p:sp>
          <p:nvSpPr>
            <p:cNvPr id="732" name=""/>
            <p:cNvSpPr/>
            <p:nvPr/>
          </p:nvSpPr>
          <p:spPr>
            <a:xfrm>
              <a:off x="7680240" y="3581280"/>
              <a:ext cx="1278000" cy="3111480"/>
            </a:xfrm>
            <a:prstGeom prst="rect">
              <a:avLst/>
            </a:prstGeom>
            <a:solidFill>
              <a:srgbClr val="dc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00800" y="3581280"/>
              <a:ext cx="1239840" cy="311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00440" y="4193280"/>
              <a:ext cx="1306800" cy="459000"/>
            </a:xfrm>
            <a:prstGeom prst="rect">
              <a:avLst/>
            </a:prstGeom>
            <a:solidFill>
              <a:srgbClr val="00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aster Event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00440" y="5109480"/>
              <a:ext cx="1306800" cy="4590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evel 1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00440" y="6022080"/>
              <a:ext cx="1306800" cy="459000"/>
            </a:xfrm>
            <a:prstGeom prst="rect">
              <a:avLst/>
            </a:prstGeom>
            <a:solidFill>
              <a:srgbClr val="ff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evel 0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03840" y="6326280"/>
              <a:ext cx="6966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029200" y="5562720"/>
              <a:ext cx="648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029200" y="4648320"/>
              <a:ext cx="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10080" y="5562720"/>
              <a:ext cx="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10080" y="4648320"/>
              <a:ext cx="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00800" y="4419000"/>
              <a:ext cx="1219320" cy="459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lave Event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37480" y="4179240"/>
              <a:ext cx="1184400" cy="459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lave Event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00400" y="5855760"/>
              <a:ext cx="871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Trigger from Trigger Detec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08520" y="6240600"/>
              <a:ext cx="260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164120" y="5504040"/>
              <a:ext cx="0" cy="73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64120" y="5504040"/>
              <a:ext cx="43632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07240" y="5229360"/>
              <a:ext cx="698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05640" y="5229360"/>
              <a:ext cx="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05640" y="5229360"/>
              <a:ext cx="1655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61280" y="5229360"/>
              <a:ext cx="0" cy="45720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81680" y="4876920"/>
              <a:ext cx="231840" cy="1160280"/>
            </a:xfrm>
            <a:prstGeom prst="downArrow">
              <a:avLst>
                <a:gd name="adj1" fmla="val 50000"/>
                <a:gd name="adj2" fmla="val 125116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48760" y="4648320"/>
              <a:ext cx="261720" cy="1249200"/>
            </a:xfrm>
            <a:prstGeom prst="downArrow">
              <a:avLst>
                <a:gd name="adj1" fmla="val 50000"/>
                <a:gd name="adj2" fmla="val 963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40280" y="4394160"/>
              <a:ext cx="561960" cy="274680"/>
            </a:xfrm>
            <a:prstGeom prst="rightArrow">
              <a:avLst>
                <a:gd name="adj1" fmla="val 50000"/>
                <a:gd name="adj2" fmla="val 51147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67280" y="4191120"/>
              <a:ext cx="1859040" cy="233280"/>
            </a:xfrm>
            <a:prstGeom prst="rightArrow">
              <a:avLst>
                <a:gd name="adj1" fmla="val 64583"/>
                <a:gd name="adj2" fmla="val 78658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200" y="4190400"/>
              <a:ext cx="87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Event #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91320" y="4419000"/>
              <a:ext cx="87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Event #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00800" y="616248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Trigger + Event # 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ilicon Front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0120" y="6162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Trigger + Event # 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lastic Front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1:40:57Z</dcterms:created>
  <dc:creator>Pradeep Sarin</dc:creator>
  <dc:description/>
  <dc:language>en-US</dc:language>
  <cp:lastModifiedBy>Pradeep Sarin</cp:lastModifiedBy>
  <cp:lastPrinted>2000-09-27T20:21:45Z</cp:lastPrinted>
  <dcterms:modified xsi:type="dcterms:W3CDTF">2000-10-02T01:36:53Z</dcterms:modified>
  <cp:revision>226</cp:revision>
  <dc:subject/>
  <dc:title>Zero Suppression System for PHOBOS</dc:title>
</cp:coreProperties>
</file>