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C22-E9D2-4279-A4AE-1F42DA2D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A33-51CB-4E9E-A310-9A47B933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D49-4EA1-44B9-A438-AA611C4F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D1A-69A2-47E5-B512-F586CDD1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FB1-0290-45F9-938F-41617D37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593-0EB4-4BC0-A5CF-C032C282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F01-5E0C-44AB-AFC2-3EAA3181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7DA-EB3F-49EB-BC13-E26C622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D0A-EBDE-40DD-8171-FA4DC42D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0BD-06AE-4C24-83E5-EB4EAFC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FBC-DE1B-44DE-ADCE-FACCF1D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09A-D850-475D-B2FF-178D1442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751-69CF-45BF-81C8-0A4E30C7D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 performance = 14 MB/s/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aking time in Mercury for 2 events = 5.1 ms. Instantaneous data taking rate in Mercury = 400 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ed rate in Mercury 300 Hz. After fixing a bug it is expected to be 400 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aking with writing = 180 Hz, 19 MB/s. At this rate the vmesparc was 60% busy, disk was 50% bu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DP Link from Mercury to UltraSPARC = 4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to the disk using test program = 5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to the RCF = 25-3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267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P data we can expect compression factor 4.5, the event size = 295 KB/4.5 = 66 KB. At 900 Hz it correspond to 59 MB/s. Disk array with new vmesparc with 80 MB/s SCSI should handle this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on of the Maximum DAQ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68580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 to distribute data evenly between 21 CPU so that the maximum data size = 14432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2133720"/>
          <a:ext cx="5486400" cy="2008080"/>
        </p:xfrm>
        <a:graphic>
          <a:graphicData uri="http://schemas.openxmlformats.org/drawingml/2006/table">
            <a:tbl>
              <a:tblPr/>
              <a:tblGrid>
                <a:gridCol w="4064400"/>
                <a:gridCol w="142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 14 kB / 160 MB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ng 14 kB / 14 MB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out 4 kB / 160 MB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860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table shows itemized busy time of a single wor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28600" y="685800"/>
          <a:ext cx="47419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4741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181480" y="1009800"/>
            <a:ext cx="3810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ble shows the optimal distribution of FECs between 21 workers. Amazingly the number 21 is optimal for our setup, it allows maximal size of the worker = 14336 bytes. The next magic number of workers is 25, it has max worker size = 13312 bytes. To get the max worker size minimal (but full FECs) one need 32 workers and max worker size will be 122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on of FECs between wor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16:25:19Z</dcterms:created>
  <dc:creator>Andrei Sukhanov</dc:creator>
  <dc:description/>
  <dc:language>en-US</dc:language>
  <cp:lastModifiedBy>Andrei</cp:lastModifiedBy>
  <dcterms:modified xsi:type="dcterms:W3CDTF">2002-06-06T03:47:18Z</dcterms:modified>
  <cp:revision>5</cp:revision>
  <dc:subject/>
  <dc:title>PowerPoint Presentation</dc:title>
</cp:coreProperties>
</file>